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975-27BE-411E-9800-7259AC18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61A-2FDD-44A9-9CC7-D223A8FE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C69E-58E8-4F37-B554-80B6F26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E39B4-252D-470A-8129-D6D6301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075C9-EE3C-48C5-8313-AF1F9DD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E843-BB30-4DB1-9E82-390F0F6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D7648-D3E4-4CBA-9259-85D35B1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8FD5-90C8-4FC8-87D2-6074AEB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299ED-30A8-4633-AE2C-D243201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6420B-4690-4B9D-8CB2-C258EAC5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C45F7-2ADF-4345-BD7F-01DE5571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3F9-E858-43CE-AAF8-B21353D7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D41-0F4B-4B82-AE76-82891630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BD3-486F-4E76-985B-F5A1B3E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9063-D4CC-4C60-9EF5-EF9A12F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C01B-82D5-444C-B50E-6A294B8A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8B4-215F-4778-85C0-839DF9D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48E-5B28-4D70-A11D-4A0F4E9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B8D-7C15-4DAD-8BE9-799B23D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0BEB-29EB-449F-95AA-34B50E8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CEB-BC0A-456D-B1AD-B35648CE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A8C-B423-4952-9198-8DFD9E2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F7E-C2C6-4136-8D56-49CEC80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1B5-99D0-4686-850B-7F638C40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7B0A-05C8-4C1E-AE92-C9459FA3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180-FD44-4E60-A0F5-EE0DAC66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105E-1BB6-4A8F-A207-38E9F1B6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A978-30E7-428E-AC47-DE95B471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C17F-BBDD-4C8B-A7EE-E93A5AFB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8D5D-EE10-414B-9EB8-6904E5D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D2E4-B4A0-439A-A7D8-C547F8B6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A24-7AAD-4A23-8A9C-C9A8303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B459-F489-4BE0-B280-A2CE06C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E279-EA46-47D0-B311-06E97F1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4FA1-441E-4F83-AB1F-FC863CE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FE78-E0BB-4569-9AB3-84D5116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4139-DED2-4E1C-89DB-DAA6BF25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F117-218D-4360-A833-A22C2F62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A8B1-3E94-4020-9622-E28A055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8A49-B552-4949-A76F-7E7B4270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020A-5FE3-4B66-A562-298D97D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C924-3CF4-4C65-B588-AA8AC7A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484-0818-4653-9B61-F5360A9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6B02-A91C-413B-9A6F-3860577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0C4A-DACB-4620-8CF4-E8347EF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3724-3029-4A08-9530-EA9816D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F35C-21C3-4B58-BB5B-5C44736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2D39-4CE7-4237-8DBF-11D60F9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A508-E197-4ACD-A113-E00F290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91B0-DECB-4172-B993-7F048AAD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74E1-411E-45B7-8F6E-C09328B7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3B3B-D3C0-48D7-9D11-6BA4A620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E009-41A7-4818-8211-165000CF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AF2-3841-4DE3-836F-9066006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4996-A9C5-4491-90AF-B88CDC7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5521-0FB6-4CF3-B83D-8034E28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FF592-672A-405E-A797-29BA3C7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7044-95A1-418D-ADCD-2D4258B2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D718-65AA-413F-8077-B22F809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C51A-6C8B-4F14-AE9E-429CBA9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54BA-08C9-4156-95E4-F3D9860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5B81-9364-4C81-9E71-1DF6B13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DE90A-8E54-4E08-9FDD-2A5F303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BB3C-5BAF-4B47-BC73-F91B254F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306-7D73-4090-AAC0-44F3298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81F7-9AB5-4A30-A3EB-DDE00949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7B7E9-8396-43E3-B1B1-516B851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01096-5F5A-4F66-B84E-92E8404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A4F18-39C0-4B93-8913-4C8AB12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B082F-4721-4B4E-BC21-0E417AF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1BA06-C08F-4FD0-93C7-424BCD4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08A07-CBBB-4209-BE91-9076D3B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D6F37-4C7E-42D0-B661-91CB743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9CF19-A293-4572-9020-0773B2E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38A1B-04A2-47E7-8AC7-AC55326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E01-CF69-4A48-A9E3-D3788AE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D6360-0B3A-40F1-9BD1-85205EF5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F5386-BEE1-4DE9-BF36-0B9DB52B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E2DF3-C0B5-43B3-B6C6-0A8BF8C2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009A5-2EAD-431C-9143-2707E71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002F4-6E74-49D7-B1F3-C36EB00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7DD50-E758-4D9C-B31B-0E173E1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113FB-7D58-4050-9CC5-191E89F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67BA-5D22-4FFF-8332-21F8EEA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52CE2-028A-427A-BCCC-2CBB6BBD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83E13-4453-4856-BC4C-CCDBAAD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76D-1231-4D85-9814-BD7290C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B7953-4A9D-4EFD-8701-98EA9CF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EA51-29FC-4750-8D7C-6E0AE58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98CA-8AC2-43BB-AD98-C7A2D05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7E47-71CD-43EF-B667-F594B357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D251-B872-43AA-9C23-0685D029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0EF7-B197-429D-868E-D94FB98B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4A31-7267-4FF8-902F-FFE7A7C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7BB0-2A40-4783-9B2D-F9D802B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EDDB-8A74-4155-8657-BDD231E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8978-3733-42FF-89BF-601F153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F46-A6F5-4718-AE7B-BFE1B98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BE1E9-8213-4BC1-8F17-AB04404A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FE11-CDFB-4601-B77F-A6B57D1B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FA826-4479-492D-A84D-45BC7D0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FEC9-B21D-4898-8518-7630E2E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1F16-601F-44BD-A9B0-4D80139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9D01-F668-4A49-9A4A-EA69B8B4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8420-DE52-4DDA-950D-718D574C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BF2F7-5FED-4D32-BABE-FF50B76C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885C-DF81-40CC-8D92-A2472C07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1A2E8-63A7-40A3-85F1-BAB825AF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BDEE-179B-401B-BD37-54D8CF4E7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0A0-300E-45AA-B1DF-8D782CDFA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A6D0-0480-4FE8-8BF8-40ACC0E0C3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6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9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0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291-DD09-491A-9D54-1E7749E189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70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71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72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73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74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6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77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78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79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80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81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82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5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6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7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8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9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0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1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2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3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4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5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6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7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8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9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0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1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2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3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4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5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6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7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318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319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0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1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2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3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4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5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6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7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8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29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30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331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2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3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4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5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7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8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0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1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3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4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6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7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8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9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0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1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2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3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5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6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7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8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9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0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1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2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3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4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5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66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7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68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9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70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71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2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3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5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6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7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8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9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80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81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87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388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9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0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93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B142-DCF5-44CA-B5AD-09ABF742A8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F54-C041-4F84-9614-6620363D7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7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1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777-CC39-4668-8564-E2361B030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58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60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8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8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0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4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84E-D2DA-48BE-A337-225D5977F0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664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665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666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67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668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69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0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1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672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73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674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75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676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7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8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9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0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1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2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3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4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5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12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13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4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5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6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7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8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9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0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1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2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25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6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7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8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9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0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1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2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3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4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61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62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4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65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6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7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8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9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0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1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2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3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74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775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1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782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4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5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6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68F-4209-4889-9062-EDB9FE7F5DC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4" descr=""/>
          <p:cNvPicPr/>
          <p:nvPr/>
        </p:nvPicPr>
        <p:blipFill>
          <a:blip r:embed="rId1"/>
          <a:stretch/>
        </p:blipFill>
        <p:spPr>
          <a:xfrm>
            <a:off x="2050920" y="0"/>
            <a:ext cx="522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"/>
          <p:cNvPicPr/>
          <p:nvPr/>
        </p:nvPicPr>
        <p:blipFill>
          <a:blip r:embed="rId1"/>
          <a:stretch/>
        </p:blipFill>
        <p:spPr>
          <a:xfrm>
            <a:off x="1042920" y="1932120"/>
            <a:ext cx="4753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47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4" descr=""/>
          <p:cNvPicPr/>
          <p:nvPr/>
        </p:nvPicPr>
        <p:blipFill>
          <a:blip r:embed="rId1"/>
          <a:stretch/>
        </p:blipFill>
        <p:spPr>
          <a:xfrm>
            <a:off x="755640" y="-3240"/>
            <a:ext cx="75247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"/>
          <p:cNvPicPr/>
          <p:nvPr/>
        </p:nvPicPr>
        <p:blipFill>
          <a:blip r:embed="rId1"/>
          <a:stretch/>
        </p:blipFill>
        <p:spPr>
          <a:xfrm>
            <a:off x="179280" y="-4680"/>
            <a:ext cx="8820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4" descr=""/>
          <p:cNvPicPr/>
          <p:nvPr/>
        </p:nvPicPr>
        <p:blipFill>
          <a:blip r:embed="rId1"/>
          <a:stretch/>
        </p:blipFill>
        <p:spPr>
          <a:xfrm>
            <a:off x="1042920" y="50760"/>
            <a:ext cx="69138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1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"/>
          <p:cNvPicPr/>
          <p:nvPr/>
        </p:nvPicPr>
        <p:blipFill>
          <a:blip r:embed="rId1"/>
          <a:stretch/>
        </p:blipFill>
        <p:spPr>
          <a:xfrm>
            <a:off x="250920" y="-9360"/>
            <a:ext cx="8748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468360" y="17640"/>
            <a:ext cx="8388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5435640" cy="489564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8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06:06Z</dcterms:created>
  <dc:creator>User</dc:creator>
  <dc:description/>
  <dc:language>en-US</dc:language>
  <cp:lastModifiedBy>admin</cp:lastModifiedBy>
  <dcterms:modified xsi:type="dcterms:W3CDTF">2015-01-08T18:09:30Z</dcterms:modified>
  <cp:revision>4</cp:revision>
  <dc:subject/>
  <dc:title>Слайд 1</dc:title>
</cp:coreProperties>
</file>