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186-3667-44D6-963E-49E77B22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CCE-4C73-40CA-93C4-BE1EE75B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D44-D18A-4511-B1E1-8A696BBC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44A-58AD-4332-907A-E167B73E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07C-5853-4FB7-B1A1-61456D69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A0A-EA07-4046-81AA-9635A8B8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699-9946-434F-AB9F-636C33E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FBB-6BBF-4F67-A260-BE0D7BBA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2C5-3666-4AF6-9FC5-0E5E782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4E2-4478-4A98-9583-06CB813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277-0DC4-4C5F-AD09-D37CAC5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36-ACEF-4275-93EF-4D8D971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347-2284-46C1-8FC1-22FA5DC637E2}" type="slidenum">
              <a:rPr b="1" lang="ru-RU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280" y="7776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43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1908000" y="364500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24" descr="нов_стр_3"/>
          <p:cNvPicPr/>
          <p:nvPr/>
        </p:nvPicPr>
        <p:blipFill>
          <a:blip r:embed="rId6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нов_стр_3"/>
          <p:cNvPicPr/>
          <p:nvPr/>
        </p:nvPicPr>
        <p:blipFill>
          <a:blip r:embed="rId7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нов_стр_3"/>
          <p:cNvPicPr/>
          <p:nvPr/>
        </p:nvPicPr>
        <p:blipFill>
          <a:blip r:embed="rId8"/>
          <a:stretch/>
        </p:blipFill>
        <p:spPr>
          <a:xfrm>
            <a:off x="1835280" y="47628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нов_стр_3"/>
          <p:cNvPicPr/>
          <p:nvPr/>
        </p:nvPicPr>
        <p:blipFill>
          <a:blip r:embed="rId9"/>
          <a:srcRect l="12539" t="35280" r="0" b="0"/>
          <a:stretch/>
        </p:blipFill>
        <p:spPr>
          <a:xfrm>
            <a:off x="250920" y="1628640"/>
            <a:ext cx="500040" cy="369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нов_стр_3"/>
          <p:cNvPicPr/>
          <p:nvPr/>
        </p:nvPicPr>
        <p:blipFill>
          <a:blip r:embed="rId10"/>
          <a:srcRect l="12539" t="35280" r="0" b="0"/>
          <a:stretch/>
        </p:blipFill>
        <p:spPr>
          <a:xfrm>
            <a:off x="8459640" y="1413000"/>
            <a:ext cx="500040" cy="369864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33" descr=""/>
          <p:cNvPicPr/>
          <p:nvPr/>
        </p:nvPicPr>
        <p:blipFill>
          <a:blip r:embed="rId11"/>
          <a:stretch/>
        </p:blipFill>
        <p:spPr>
          <a:xfrm>
            <a:off x="2036880" y="1401840"/>
            <a:ext cx="4735440" cy="69516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34" descr=""/>
          <p:cNvPicPr/>
          <p:nvPr/>
        </p:nvPicPr>
        <p:blipFill>
          <a:blip r:embed="rId12"/>
          <a:stretch/>
        </p:blipFill>
        <p:spPr>
          <a:xfrm>
            <a:off x="2481120" y="2346480"/>
            <a:ext cx="4145040" cy="67788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35" descr=""/>
          <p:cNvPicPr/>
          <p:nvPr/>
        </p:nvPicPr>
        <p:blipFill>
          <a:blip r:embed="rId13"/>
          <a:stretch/>
        </p:blipFill>
        <p:spPr>
          <a:xfrm>
            <a:off x="1755720" y="3200400"/>
            <a:ext cx="5791320" cy="153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нов_стр_3"/>
          <p:cNvPicPr/>
          <p:nvPr/>
        </p:nvPicPr>
        <p:blipFill>
          <a:blip r:embed="rId14"/>
          <a:stretch/>
        </p:blipFill>
        <p:spPr>
          <a:xfrm>
            <a:off x="1908000" y="6308640"/>
            <a:ext cx="571500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трава"/>
          <p:cNvPicPr/>
          <p:nvPr/>
        </p:nvPicPr>
        <p:blipFill>
          <a:blip r:embed="rId15"/>
          <a:stretch/>
        </p:blipFill>
        <p:spPr>
          <a:xfrm>
            <a:off x="4522680" y="3379680"/>
            <a:ext cx="96840" cy="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Рисунок2"/>
          <p:cNvPicPr/>
          <p:nvPr/>
        </p:nvPicPr>
        <p:blipFill>
          <a:blip r:embed="rId1"/>
          <a:stretch/>
        </p:blipFill>
        <p:spPr>
          <a:xfrm>
            <a:off x="900000" y="1484280"/>
            <a:ext cx="7278840" cy="4361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692360" y="549360"/>
            <a:ext cx="453708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ЕЙЗАЖ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00000" y="155736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ря сияла на востоке, и золотые ряды облаков ожидали солнца, как царедворцы ожидают государя; ясное небо, утренняя свежесть, роса, ветерок и пение птичек наполняли сердце Лизы младенческой веселостию.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59" name="Picture 8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0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1" descr="contact"/>
            <p:cNvPicPr/>
            <p:nvPr/>
          </p:nvPicPr>
          <p:blipFill>
            <a:blip r:embed="rId5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12" descr="нов_стр_3"/>
          <p:cNvPicPr/>
          <p:nvPr/>
        </p:nvPicPr>
        <p:blipFill>
          <a:blip r:embed="rId6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15"/>
          <p:cNvSpPr/>
          <p:nvPr/>
        </p:nvSpPr>
        <p:spPr>
          <a:xfrm>
            <a:off x="5508720" y="2205000"/>
            <a:ext cx="338436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манная, накрашенная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пудренная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3203640" y="3357720"/>
            <a:ext cx="2016000" cy="148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05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лексей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2843280" y="1844640"/>
            <a:ext cx="259236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ромная, смышленая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стьянка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250920" y="2133720"/>
            <a:ext cx="2376360" cy="107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углая, резвая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ышня 17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69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174" name="WordArt 12" descr=""/>
          <p:cNvPicPr/>
          <p:nvPr/>
        </p:nvPicPr>
        <p:blipFill>
          <a:blip r:embed="rId6"/>
          <a:stretch/>
        </p:blipFill>
        <p:spPr>
          <a:xfrm>
            <a:off x="1249200" y="176040"/>
            <a:ext cx="6456600" cy="1013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0"/>
          <p:cNvSpPr/>
          <p:nvPr/>
        </p:nvSpPr>
        <p:spPr>
          <a:xfrm>
            <a:off x="399240" y="150660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Лиза - Бетси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3348000" y="126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кулина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5580000" y="1530360"/>
            <a:ext cx="36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оч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уромского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684360" y="5084640"/>
            <a:ext cx="7920000" cy="75204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Пушкин хотел сказать читателю, что любят человека, а не его положение в обществе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loud"/>
          <p:cNvSpPr/>
          <p:nvPr/>
        </p:nvSpPr>
        <p:spPr>
          <a:xfrm>
            <a:off x="468360" y="1268280"/>
            <a:ext cx="8280360" cy="4464360"/>
          </a:xfrm>
          <a:custGeom>
            <a:avLst/>
            <a:gdLst>
              <a:gd name="textAreaLeft" fmla="*/ 1141200 w 8280360"/>
              <a:gd name="textAreaRight" fmla="*/ 6550560 w 8280360"/>
              <a:gd name="textAreaTop" fmla="*/ 673920 h 4464360"/>
              <a:gd name="textAreaBottom" fmla="*/ 3583440 h 4464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6000" y="1864800"/>
            <a:ext cx="7128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1. Выявить жанровые особенности пове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2. Проверить внимательность учащихся в чтении     большого произведени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3. Развивать умение анализировать характер персонажа художественного произвед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62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17" descr=""/>
          <p:cNvPicPr/>
          <p:nvPr/>
        </p:nvPicPr>
        <p:blipFill>
          <a:blip r:embed="rId6"/>
          <a:stretch/>
        </p:blipFill>
        <p:spPr>
          <a:xfrm>
            <a:off x="2614680" y="324000"/>
            <a:ext cx="415764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6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69" name="Picture 57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8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9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0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61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3"/>
          <p:cNvGrpSpPr/>
          <p:nvPr/>
        </p:nvGrpSpPr>
        <p:grpSpPr>
          <a:xfrm>
            <a:off x="3967200" y="2924280"/>
            <a:ext cx="5176440" cy="2663280"/>
            <a:chOff x="3967200" y="2924280"/>
            <a:chExt cx="5176440" cy="2663280"/>
          </a:xfrm>
        </p:grpSpPr>
        <p:sp>
          <p:nvSpPr>
            <p:cNvPr id="75" name="PubOvalCallout"/>
            <p:cNvSpPr/>
            <p:nvPr/>
          </p:nvSpPr>
          <p:spPr>
            <a:xfrm>
              <a:off x="3967200" y="2924280"/>
              <a:ext cx="5176440" cy="2663280"/>
            </a:xfrm>
            <a:custGeom>
              <a:avLst/>
              <a:gdLst>
                <a:gd name="textAreaLeft" fmla="*/ 758160 w 5176440"/>
                <a:gd name="textAreaRight" fmla="*/ 4418280 w 5176440"/>
                <a:gd name="textAreaTop" fmla="*/ 293400 h 2663280"/>
                <a:gd name="textAreaBottom" fmla="*/ 1705680 h 266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" name="Rectangle 76"/>
            <p:cNvSpPr/>
            <p:nvPr/>
          </p:nvSpPr>
          <p:spPr>
            <a:xfrm>
              <a:off x="4150080" y="3362040"/>
              <a:ext cx="479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Вот из моря вылез старый Бес: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«Зачем ты, Балда, к нам залез?»-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«Да вот веревкой хочу море морщить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Да вас, проклятое племя, корчить»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7" name="Group 82"/>
          <p:cNvGrpSpPr/>
          <p:nvPr/>
        </p:nvGrpSpPr>
        <p:grpSpPr>
          <a:xfrm>
            <a:off x="3564000" y="260280"/>
            <a:ext cx="5579640" cy="2519280"/>
            <a:chOff x="3564000" y="260280"/>
            <a:chExt cx="5579640" cy="2519280"/>
          </a:xfrm>
        </p:grpSpPr>
        <p:sp>
          <p:nvSpPr>
            <p:cNvPr id="78" name="PubOvalCallout"/>
            <p:cNvSpPr/>
            <p:nvPr/>
          </p:nvSpPr>
          <p:spPr>
            <a:xfrm>
              <a:off x="3564000" y="260280"/>
              <a:ext cx="4737240" cy="2519280"/>
            </a:xfrm>
            <a:custGeom>
              <a:avLst/>
              <a:gdLst>
                <a:gd name="textAreaLeft" fmla="*/ 693720 w 4737240"/>
                <a:gd name="textAreaRight" fmla="*/ 4043520 w 4737240"/>
                <a:gd name="textAreaTop" fmla="*/ 276120 h 2519280"/>
                <a:gd name="textAreaBottom" fmla="*/ 161460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" name="Rectangle 77"/>
            <p:cNvSpPr/>
            <p:nvPr/>
          </p:nvSpPr>
          <p:spPr>
            <a:xfrm>
              <a:off x="4055760" y="691920"/>
              <a:ext cx="508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Жил старик со своею старухой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У самого синего моря;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Они жили в ветхой землянке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Ровно тридцать лет и три года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0" name="Group 80"/>
          <p:cNvGrpSpPr/>
          <p:nvPr/>
        </p:nvGrpSpPr>
        <p:grpSpPr>
          <a:xfrm>
            <a:off x="0" y="620640"/>
            <a:ext cx="4105080" cy="2808360"/>
            <a:chOff x="0" y="620640"/>
            <a:chExt cx="4105080" cy="2808360"/>
          </a:xfrm>
        </p:grpSpPr>
        <p:sp>
          <p:nvSpPr>
            <p:cNvPr id="81" name="PubOvalCallout"/>
            <p:cNvSpPr/>
            <p:nvPr/>
          </p:nvSpPr>
          <p:spPr>
            <a:xfrm>
              <a:off x="0" y="620640"/>
              <a:ext cx="3729960" cy="2808360"/>
            </a:xfrm>
            <a:custGeom>
              <a:avLst/>
              <a:gdLst>
                <a:gd name="textAreaLeft" fmla="*/ 546480 w 3729960"/>
                <a:gd name="textAreaRight" fmla="*/ 3183480 w 3729960"/>
                <a:gd name="textAreaTop" fmla="*/ 307800 h 2808360"/>
                <a:gd name="textAreaBottom" fmla="*/ 179856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" name="Rectangle 78"/>
            <p:cNvSpPr/>
            <p:nvPr/>
          </p:nvSpPr>
          <p:spPr>
            <a:xfrm>
              <a:off x="413640" y="1197000"/>
              <a:ext cx="369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Сквозь волнистые туманы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Пробирается луна,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На печальные поляны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</a:rPr>
                <a:t>Льет печально свет она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83" name="Picture 86" descr="Рисунок10"/>
          <p:cNvPicPr/>
          <p:nvPr/>
        </p:nvPicPr>
        <p:blipFill>
          <a:blip r:embed="rId6"/>
          <a:stretch/>
        </p:blipFill>
        <p:spPr>
          <a:xfrm>
            <a:off x="1908000" y="3500280"/>
            <a:ext cx="1970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85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90" name="WordArt 21" descr=""/>
          <p:cNvPicPr/>
          <p:nvPr/>
        </p:nvPicPr>
        <p:blipFill>
          <a:blip r:embed="rId6"/>
          <a:stretch/>
        </p:blipFill>
        <p:spPr>
          <a:xfrm>
            <a:off x="1749600" y="324000"/>
            <a:ext cx="5346360" cy="547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1476360" y="1268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ВЫСТРЕЛ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539640" y="1989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БАРЫШНЯ-КРЕСТЬЯНКА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284720" y="386064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МЕТЕЛЬ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324000" y="3068640"/>
            <a:ext cx="85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ТАНЦИОННЫЙ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МОТРИТЕЛЬ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4067280" y="4653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ГРОБОВЩИК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" name="Picture 36" descr="Рисунок8"/>
          <p:cNvPicPr/>
          <p:nvPr/>
        </p:nvPicPr>
        <p:blipFill>
          <a:blip r:embed="rId7"/>
          <a:stretch/>
        </p:blipFill>
        <p:spPr>
          <a:xfrm>
            <a:off x="5940360" y="1052640"/>
            <a:ext cx="2511360" cy="2004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7" descr="Рисунок9"/>
          <p:cNvPicPr/>
          <p:nvPr/>
        </p:nvPicPr>
        <p:blipFill>
          <a:blip r:embed="rId8"/>
          <a:stretch/>
        </p:blipFill>
        <p:spPr>
          <a:xfrm>
            <a:off x="611280" y="3933720"/>
            <a:ext cx="30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1268280"/>
            <a:ext cx="80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и Белкина»-первое законченное произведение А.С. Пушкина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оздан в знаменитую Болдинскую осень 1830 года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издателя Пушкин взял на себя. Авторство же приписал провинциальному помещику Ивану Петровичу Белкину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его голосу, повести отличает необыкновенная простота, безыскусность изложения, достоверность. Белкин не сочиняет свои истории, а лишь излагает то, что услышал от разных лиц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258920" y="549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0" name="Group 21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01" name="Picture 17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8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9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0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3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106" name="WordArt 24" descr=""/>
          <p:cNvPicPr/>
          <p:nvPr/>
        </p:nvPicPr>
        <p:blipFill>
          <a:blip r:embed="rId6"/>
          <a:stretch/>
        </p:blipFill>
        <p:spPr>
          <a:xfrm>
            <a:off x="2182680" y="463680"/>
            <a:ext cx="48769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8320" y="189000"/>
            <a:ext cx="79153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6594da"/>
                </a:solidFill>
                <a:latin typeface="Calibri"/>
              </a:rPr>
              <a:t>    </a:t>
            </a:r>
            <a:br>
              <a:rPr sz="4500"/>
            </a:br>
            <a:r>
              <a:rPr b="0" lang="ru-RU" sz="4500" spc="-1" strike="noStrike">
                <a:solidFill>
                  <a:srgbClr val="6594da"/>
                </a:solidFill>
                <a:latin typeface="Calibri"/>
              </a:rPr>
              <a:t>   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6594da"/>
                </a:solidFill>
                <a:latin typeface="Calibri"/>
              </a:rPr>
              <a:t>Барышня -крестьянка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6594da"/>
                </a:solidFill>
                <a:latin typeface="Calibri"/>
              </a:rPr>
              <a:t>       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32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09" name="Picture 33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4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5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6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37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6"/>
          <p:cNvSpPr/>
          <p:nvPr/>
        </p:nvSpPr>
        <p:spPr>
          <a:xfrm>
            <a:off x="1839600" y="27813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ПРИЛУЧИНО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ectangle 57"/>
          <p:cNvSpPr/>
          <p:nvPr/>
        </p:nvSpPr>
        <p:spPr>
          <a:xfrm>
            <a:off x="5724360" y="278136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ТУГИЛОВО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Rectangle 58"/>
          <p:cNvSpPr/>
          <p:nvPr/>
        </p:nvSpPr>
        <p:spPr>
          <a:xfrm>
            <a:off x="0" y="3357720"/>
            <a:ext cx="51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игорий Иванович Муромский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Rectangle 59"/>
          <p:cNvSpPr/>
          <p:nvPr/>
        </p:nvSpPr>
        <p:spPr>
          <a:xfrm>
            <a:off x="468360" y="383544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за-Бетси-Акулина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0" y="436572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исс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аксо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стя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Rectangle 62"/>
          <p:cNvSpPr/>
          <p:nvPr/>
        </p:nvSpPr>
        <p:spPr>
          <a:xfrm>
            <a:off x="5076720" y="3357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ва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трович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ерестов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Rectangle 63"/>
          <p:cNvSpPr/>
          <p:nvPr/>
        </p:nvSpPr>
        <p:spPr>
          <a:xfrm>
            <a:off x="6516720" y="386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ексей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Rectangle 66"/>
          <p:cNvSpPr/>
          <p:nvPr/>
        </p:nvSpPr>
        <p:spPr>
          <a:xfrm>
            <a:off x="4067280" y="5445000"/>
            <a:ext cx="33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епостны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мещиков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83"/>
          <p:cNvSpPr/>
          <p:nvPr/>
        </p:nvSpPr>
        <p:spPr>
          <a:xfrm>
            <a:off x="327672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" name="Picture 91" descr="Рисунок5"/>
          <p:cNvPicPr/>
          <p:nvPr/>
        </p:nvPicPr>
        <p:blipFill>
          <a:blip r:embed="rId6"/>
          <a:stretch/>
        </p:blipFill>
        <p:spPr>
          <a:xfrm>
            <a:off x="1635120" y="1268280"/>
            <a:ext cx="2063880" cy="151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2" descr="Рисунок6"/>
          <p:cNvPicPr/>
          <p:nvPr/>
        </p:nvPicPr>
        <p:blipFill>
          <a:blip r:embed="rId7"/>
          <a:stretch/>
        </p:blipFill>
        <p:spPr>
          <a:xfrm>
            <a:off x="5651640" y="1197000"/>
            <a:ext cx="2090520" cy="149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3" descr="Рисунок7"/>
          <p:cNvPicPr/>
          <p:nvPr/>
        </p:nvPicPr>
        <p:blipFill>
          <a:blip r:embed="rId8"/>
          <a:stretch/>
        </p:blipFill>
        <p:spPr>
          <a:xfrm>
            <a:off x="3675240" y="3973680"/>
            <a:ext cx="28098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15640" y="2276640"/>
            <a:ext cx="75596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исходит много событий в жизни главного геро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ного действующих лиц, а главных героев 2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дна сюжетная линия, связанная с главными геро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Характеры героев не меняют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жен образ повествова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28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0" descr="нов_стр_3"/>
          <p:cNvPicPr/>
          <p:nvPr/>
        </p:nvPicPr>
        <p:blipFill>
          <a:blip r:embed="rId5"/>
          <a:stretch/>
        </p:blipFill>
        <p:spPr>
          <a:xfrm>
            <a:off x="1619280" y="5661000"/>
            <a:ext cx="5715000" cy="571680"/>
          </a:xfrm>
          <a:prstGeom prst="rect">
            <a:avLst/>
          </a:prstGeom>
          <a:ln w="0">
            <a:noFill/>
          </a:ln>
        </p:spPr>
      </p:pic>
      <p:pic>
        <p:nvPicPr>
          <p:cNvPr id="133" name="WordArt 22" descr=""/>
          <p:cNvPicPr/>
          <p:nvPr/>
        </p:nvPicPr>
        <p:blipFill>
          <a:blip r:embed="rId6"/>
          <a:stretch/>
        </p:blipFill>
        <p:spPr>
          <a:xfrm>
            <a:off x="1176480" y="324000"/>
            <a:ext cx="6748200" cy="16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35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pic>
        <p:nvPicPr>
          <p:cNvPr id="140" name="WordArt 11" descr=""/>
          <p:cNvPicPr/>
          <p:nvPr/>
        </p:nvPicPr>
        <p:blipFill>
          <a:blip r:embed="rId6"/>
          <a:stretch/>
        </p:blipFill>
        <p:spPr>
          <a:xfrm>
            <a:off x="1249200" y="249120"/>
            <a:ext cx="6888240" cy="112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1"/>
          <p:cNvSpPr/>
          <p:nvPr/>
        </p:nvSpPr>
        <p:spPr>
          <a:xfrm>
            <a:off x="3132000" y="1484280"/>
            <a:ext cx="324036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ОРТРЕТ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116000" y="2349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Черные глаза оживляли ее смуглое и очень приятное лицо.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3" name="Picture 24" descr="Рисунок4"/>
          <p:cNvPicPr/>
          <p:nvPr/>
        </p:nvPicPr>
        <p:blipFill>
          <a:blip r:embed="rId7"/>
          <a:stretch/>
        </p:blipFill>
        <p:spPr>
          <a:xfrm>
            <a:off x="3451320" y="3260880"/>
            <a:ext cx="1911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45" name="Picture 5" descr="contact"/>
            <p:cNvPicPr/>
            <p:nvPr/>
          </p:nvPicPr>
          <p:blipFill>
            <a:blip r:embed="rId1"/>
            <a:srcRect l="0" t="0" r="77781" b="0"/>
            <a:stretch/>
          </p:blipFill>
          <p:spPr>
            <a:xfrm>
              <a:off x="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contact"/>
            <p:cNvPicPr/>
            <p:nvPr/>
          </p:nvPicPr>
          <p:blipFill>
            <a:blip r:embed="rId2"/>
            <a:srcRect l="0" t="0" r="77781" b="0"/>
            <a:stretch/>
          </p:blipFill>
          <p:spPr>
            <a:xfrm flipH="1">
              <a:off x="8485200" y="0"/>
              <a:ext cx="658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" descr="contact"/>
            <p:cNvPicPr/>
            <p:nvPr/>
          </p:nvPicPr>
          <p:blipFill>
            <a:blip r:embed="rId3"/>
            <a:srcRect l="0" t="0" r="77781" b="0"/>
            <a:stretch/>
          </p:blipFill>
          <p:spPr>
            <a:xfrm flipH="1" rot="10800000">
              <a:off x="0" y="5606640"/>
              <a:ext cx="649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8" descr="contact"/>
            <p:cNvPicPr/>
            <p:nvPr/>
          </p:nvPicPr>
          <p:blipFill>
            <a:blip r:embed="rId4"/>
            <a:srcRect l="0" t="0" r="77781" b="0"/>
            <a:stretch/>
          </p:blipFill>
          <p:spPr>
            <a:xfrm rot="10800000">
              <a:off x="8494560" y="5605200"/>
              <a:ext cx="64944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9" descr="нов_стр_3"/>
          <p:cNvPicPr/>
          <p:nvPr/>
        </p:nvPicPr>
        <p:blipFill>
          <a:blip r:embed="rId5"/>
          <a:stretch/>
        </p:blipFill>
        <p:spPr>
          <a:xfrm>
            <a:off x="1692360" y="6093000"/>
            <a:ext cx="5715000" cy="571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2195640" y="404640"/>
            <a:ext cx="396072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ОСТУПКИ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403280" y="1341360"/>
            <a:ext cx="59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Ее резвость и поминутные проказы восхищали отца. «Ах, Настя! Наряжусь я крестьянкою!»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916360" y="2997360"/>
            <a:ext cx="208728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РЕЧЬ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258920" y="393372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а как же барина с слугой не распознать? И одет-то не так, и баишь иначе, и собаку-то кличешь не по-нашему.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" name="Picture 16" descr="Рисунок3"/>
          <p:cNvPicPr/>
          <p:nvPr/>
        </p:nvPicPr>
        <p:blipFill>
          <a:blip r:embed="rId6"/>
          <a:stretch/>
        </p:blipFill>
        <p:spPr>
          <a:xfrm>
            <a:off x="7164360" y="1557360"/>
            <a:ext cx="1590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4:13:58Z</dcterms:created>
  <dc:creator>C12</dc:creator>
  <dc:description/>
  <dc:language>en-US</dc:language>
  <cp:lastModifiedBy>Качалитова</cp:lastModifiedBy>
  <dcterms:modified xsi:type="dcterms:W3CDTF">2014-03-19T18:12:32Z</dcterms:modified>
  <cp:revision>57</cp:revision>
  <dc:subject/>
  <dc:title>Повесть как эпический жанр А.С.Пушкин «Барышня-крестьянка».    Художественные средства создания характеров</dc:title>
</cp:coreProperties>
</file>