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jpeg" ContentType="image/jpeg"/>
  <Override PartName="/ppt/media/image33.wmf" ContentType="image/x-wmf"/>
  <Override PartName="/ppt/media/image28.jpeg" ContentType="image/jpeg"/>
  <Override PartName="/ppt/media/image24.png" ContentType="image/png"/>
  <Override PartName="/ppt/media/image31.gif" ContentType="image/gif"/>
  <Override PartName="/ppt/media/image23.png" ContentType="image/png"/>
  <Override PartName="/ppt/media/image6.wmf" ContentType="image/x-wmf"/>
  <Override PartName="/ppt/media/image11.wmf" ContentType="image/x-wmf"/>
  <Override PartName="/ppt/media/image26.png" ContentType="image/png"/>
  <Override PartName="/ppt/media/image3.jpeg" ContentType="image/jpeg"/>
  <Override PartName="/ppt/media/image30.jpeg" ContentType="image/jpeg"/>
  <Override PartName="/ppt/media/image7.wmf" ContentType="image/x-wmf"/>
  <Override PartName="/ppt/media/image12.wmf" ContentType="image/x-wmf"/>
  <Override PartName="/ppt/media/image27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4.wmf" ContentType="image/x-wmf"/>
  <Override PartName="/ppt/media/image10.wmf" ContentType="image/x-wmf"/>
  <Override PartName="/ppt/media/image8.wmf" ContentType="image/x-wmf"/>
  <Override PartName="/ppt/media/image4.jpeg" ContentType="image/jpeg"/>
  <Override PartName="/ppt/media/image25.png" ContentType="image/png"/>
  <Override PartName="/ppt/media/image35.wmf" ContentType="image/x-wmf"/>
  <Override PartName="/ppt/media/image5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media/image19.wmf" ContentType="image/x-wmf"/>
  <Override PartName="/ppt/media/image21.wmf" ContentType="image/x-wmf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AA72-7D85-4954-B6AE-90120325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E299-089C-4CF3-9E21-3877A2D7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3177-2924-44A3-B272-5DF00CB2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E6D5-C6BC-46B9-AED0-6956FB85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77C6-0FE1-4B38-917E-C3066E6A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DD26-CA1D-41CC-8A16-C563921A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1E29-41ED-41D9-ACE1-515B6849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175E-3051-457C-A551-EB474EDD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7D08-C6BA-46CC-94D7-D5DB14D3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890C-5E9C-4100-9581-3CBD2723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4200-84C9-4335-BCDA-0FF505F0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D084-9920-47BE-B23A-D6942B34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0510-6034-4615-BF1D-F8D85B63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6047-48BE-4918-BAE2-F07DD63A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B80D-D58E-45E6-835A-722B7B14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F892-0310-4954-92BD-B08985D6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C012-4D5D-4C6C-888C-F05B2CE0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DB552-93CC-4A78-AAF8-FDD15DC5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8A94A-BA48-491A-8DCA-5562DE44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43257-7753-4300-B541-199C021E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89F8B-FE60-46C4-B662-91E314D7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5D68E-783E-4C63-851D-92FCE79C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A6EF-31E6-40C0-84A1-4CE6ADE6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17F2B-62A4-48F8-8905-815CE7C3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452CB-C754-4EB9-9206-80DCA3B8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61335-2034-4772-8B89-9CC41057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C102F-63A1-43D3-A187-D2AA5228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B180A-56CB-4D38-82AD-F5241563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D9EB4-3306-4356-8FD8-070D7D57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B06FB-35E1-4FBC-830C-3E31FAD7D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9FFF-4B2D-47EF-B13D-4E005F4B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C061-BAA2-4B4D-8CA2-DBFE9A13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FE90-E5EA-41A0-B713-7C03461D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A816-6456-4F79-8CD2-ABD042F0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B865-4AB9-4219-801A-E8EF1CD5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5DE6-9406-400F-8AC8-74045442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22F5F-33C4-466F-96B7-DB83444727C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0360" cy="5024520"/>
            <a:chOff x="318960" y="1828800"/>
            <a:chExt cx="8820360" cy="502452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1240" cy="223524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05960" cy="502452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1240" cy="219888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09080" cy="4140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1400" cy="282888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1400" cy="224316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65880" cy="4104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2840" cy="224316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8080" y="6245280"/>
            <a:ext cx="18972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900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7200" y="6245280"/>
            <a:ext cx="18972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1DB7AC7-44A4-46DE-A455-19492784646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804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8080" y="1905120"/>
            <a:ext cx="8002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0360" cy="5124600"/>
            <a:chOff x="318960" y="1752480"/>
            <a:chExt cx="8820360" cy="512460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05960" cy="510084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1240" cy="304344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0280" cy="4140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4480" cy="4140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2840" cy="310356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1400" cy="511488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67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5280"/>
            <a:ext cx="18968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7200" y="6245280"/>
            <a:ext cx="18972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EAA8C57-3556-408C-8CEB-BCF34BBBA0E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0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16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20.wmf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68320" y="1979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Arial Black"/>
              </a:rPr>
              <a:t>Урок здоровья</a:t>
            </a:r>
            <a:br>
              <a:rPr sz="4800"/>
            </a:b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«Строим свое здоровье сами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99640" y="4500360"/>
            <a:ext cx="6782040" cy="21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b1f6f"/>
                </a:solidFill>
                <a:latin typeface="Arial"/>
              </a:rPr>
              <a:t>Воспитатель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b1f6f"/>
                </a:solidFill>
                <a:latin typeface="Arial"/>
              </a:rPr>
              <a:t>Санаторной-школы-интерната №28 г.Ростова-на-Дон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b1f6f"/>
                </a:solidFill>
                <a:latin typeface="Arial"/>
              </a:rPr>
              <a:t>Тетерина Виктория Александ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том – сладкий и зелены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зиму – желтый и солены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987640" y="3141720"/>
            <a:ext cx="3138480" cy="31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о черная?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т – это красная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почему она белая?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тому что зелена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56000" y="3564000"/>
            <a:ext cx="4392360" cy="32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зелен, и густ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грядке вырос куст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копай немножко –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 кустом - 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059280" y="3429000"/>
            <a:ext cx="3241440" cy="244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ех круглее и краснее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н в салате всех вкуснее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ребята с древних пор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чень любят …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484360" y="3213000"/>
            <a:ext cx="3672000" cy="26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комковато, и ноздревато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мягко, и ломко – а всех миле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556000" y="3068640"/>
            <a:ext cx="3816360" cy="299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755640" y="333360"/>
            <a:ext cx="756144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ила приема пищи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413000"/>
            <a:ext cx="8280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Есть надо регулярно в одно и тоже время. В перерывах не перекусы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 надо бить рекорды на скорость поедания пищи. Есть надо медленно, тщательно пережевывая пищу. В этом случае вы съедите меньше и желудок легче переработает е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 столом не читать, не разговаривать по телефону, не смотреть телевиз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Еда должна быть разнообразной и вкус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 есть перед сном. Но если сильное желание поесть – выпейте стакан кефира или съешьте ябло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ложительные эмо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моции выражают наши чувства, помогают нам справляться с различными трудностями, а значит, помогают нашему здоровью. Положительные эмоции полезны и необходимы для нашего здоров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ьза сме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вствуете себя подавленно? Просто улыбнитесь - и плохое настроение уйдет, как не бывало! Не стесняйтесь смеяться - и вы поразитесь тому, как изменится ваша жизнь и ваше здоровье. Хороший добрый смех полезен не только потому, что поднимает настроение. Люди, которые любят смеяться, меньше болеют, реже раздражаются и не знают, что такое депрес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еные подсчита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минуты искреннего смеха организм выбрасывает в дыхательные пути большое количество антител, которые защищают от бактерий и вирусов. Смех также увеличивает выработку лейкоцитов, борющихся с различными заболеваниями, в том числе с ра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еные подсчита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сять минут смеха могут существенно снизить кровяное давление и уменьшить риск возникновения холестериновых бляшек. Смех помогает даже тем, кто пережил сердечный приступ, - врачи считают, что хорошее настроение снижает вероятность второго приступ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оим свое здоровь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2133720"/>
            <a:ext cx="35290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зическ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тив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3645000"/>
            <a:ext cx="3528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ожитель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моц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16360" y="3645000"/>
            <a:ext cx="35290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т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2133720"/>
            <a:ext cx="35290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т вредн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вычкам!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36920" y="5103720"/>
            <a:ext cx="40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тавляющие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550960" y="4648320"/>
            <a:ext cx="873360" cy="441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219640" y="4648320"/>
            <a:ext cx="936720" cy="441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endCxn id="145" idx="1"/>
          </p:cNvCxnSpPr>
          <p:nvPr/>
        </p:nvCxnSpPr>
        <p:spPr>
          <a:xfrm>
            <a:off x="4425480" y="2590920"/>
            <a:ext cx="72468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endCxn id="142" idx="3"/>
          </p:cNvCxnSpPr>
          <p:nvPr/>
        </p:nvCxnSpPr>
        <p:spPr>
          <a:xfrm rot="10800000">
            <a:off x="3779280" y="2590200"/>
            <a:ext cx="2275200" cy="2160"/>
          </a:xfrm>
          <a:prstGeom prst="bentConnector3">
            <a:avLst>
              <a:gd name="adj1" fmla="val 4999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еные подсчита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 минута смеха равносильна десятиминутным занятиям на весельном тренажере или пятнадцати минутам езды на велосипеде. А если вы будете от всего сердца смеяться в течение одного часа, то сожжете до 500 калорий, столько же можно сжечь, быстро бегая в течение ча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та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х успокаив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х улучшает кож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х укрепляет от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х повышает иммун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х оздоравливает 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х снимает б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х развивает лег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х побеждает стр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х помогает быть в фор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оложить в корзинку только положительные эмо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932360" y="2492280"/>
            <a:ext cx="3672000" cy="36356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68360" y="1628640"/>
            <a:ext cx="3095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н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дост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ча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тор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е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л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ращ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хищ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дохновени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лаже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ковани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и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ск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5661000"/>
            <a:ext cx="2376360" cy="289080"/>
          </a:xfrm>
          <a:prstGeom prst="rect">
            <a:avLst/>
          </a:prstGeom>
          <a:solidFill>
            <a:srgbClr val="f42e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4076640"/>
            <a:ext cx="2376360" cy="289080"/>
          </a:xfrm>
          <a:prstGeom prst="rect">
            <a:avLst/>
          </a:prstGeom>
          <a:solidFill>
            <a:srgbClr val="d129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3789360"/>
            <a:ext cx="2376360" cy="2890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3500280"/>
            <a:ext cx="2376360" cy="289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2637000"/>
            <a:ext cx="2376360" cy="28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2276640"/>
            <a:ext cx="2376360" cy="288720"/>
          </a:xfrm>
          <a:prstGeom prst="rect">
            <a:avLst/>
          </a:prstGeom>
          <a:solidFill>
            <a:srgbClr val="4712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1628640"/>
            <a:ext cx="2376360" cy="289080"/>
          </a:xfrm>
          <a:prstGeom prst="rect">
            <a:avLst/>
          </a:prstGeom>
          <a:solidFill>
            <a:srgbClr val="22f9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5950080"/>
            <a:ext cx="2376360" cy="288720"/>
          </a:xfrm>
          <a:prstGeom prst="rect">
            <a:avLst/>
          </a:prstGeom>
          <a:solidFill>
            <a:srgbClr val="d129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6048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305080" y="95400"/>
            <a:ext cx="4533840" cy="66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676520" y="-380880"/>
            <a:ext cx="5502240" cy="723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84360" y="620640"/>
            <a:ext cx="37800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6367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зическая активност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игательная активность улучшает работу всех органов. Без физической нагрузки не может быть здоровья.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68360" y="692280"/>
            <a:ext cx="8207280" cy="2952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сли не бегать, пока здоров,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идется побегать,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огда заболеешь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093080" y="5084640"/>
            <a:ext cx="1468440" cy="1062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708360" y="4005360"/>
            <a:ext cx="1944720" cy="1825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468360" y="4437000"/>
            <a:ext cx="1798560" cy="192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dur="indefinite" fill="hold">
                      <p:stCondLst>
                        <p:cond delay="0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 fill="hold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38512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Человек чувствует себя по-настоящему счастливо, </a:t>
            </a:r>
            <a:br>
              <a:rPr sz="4400"/>
            </a:b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только когда он здоров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ыберите слова для характеристики здорового челове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й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с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ту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е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мя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уклюж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тяну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п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ь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dur="indefinite" fill="hold">
                      <p:stCondLst>
                        <p:cond delay="indefinite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зкульминут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днимает руки класс – это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вернулась голова – это д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уки вниз – вперед смотри – это т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уки в стороны, пошире, развернули на четы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 силой их к плечам приж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немного повращать – это п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на шесть – в ладоши хлопну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на семь – ногою топну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на восемь – потяну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на девять – улыбну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 ж заряд хороший е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ожно нам теперь и се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так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составляющие здоровья вы можете наз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принципы правильного питания вы зна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привычки вредны для здоров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эмоции полез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24000" y="1484280"/>
            <a:ext cx="8424720" cy="432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ем вам крепкого здоровья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50920" y="4653000"/>
            <a:ext cx="2232000" cy="1535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804000" y="333360"/>
            <a:ext cx="2178000" cy="1633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804000" y="2637000"/>
            <a:ext cx="2187720" cy="2592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2771640" y="1413000"/>
            <a:ext cx="3784680" cy="40100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15880" y="179280"/>
            <a:ext cx="505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ы считает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продукты полез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443640" y="3429000"/>
            <a:ext cx="2374920" cy="2252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77880" y="3363840"/>
            <a:ext cx="1881000" cy="2301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84360" y="4579920"/>
            <a:ext cx="2376360" cy="2432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969840" y="262080"/>
            <a:ext cx="1032120" cy="3352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2554200" y="909720"/>
            <a:ext cx="2949840" cy="2325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5865840" y="549360"/>
            <a:ext cx="3097080" cy="1974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3635280" y="3933720"/>
            <a:ext cx="2519280" cy="2149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дание: Отобрать  в корзинку только полезные для здоровья продукт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95640" y="1600200"/>
            <a:ext cx="4691160" cy="4525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68360" y="1936800"/>
            <a:ext cx="3166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пс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зиров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рков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воро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бло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яс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риеш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ле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р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гущенное молоко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пус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пельс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ех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б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4724280"/>
            <a:ext cx="2519280" cy="360360"/>
          </a:xfrm>
          <a:prstGeom prst="rect">
            <a:avLst/>
          </a:prstGeom>
          <a:solidFill>
            <a:srgbClr val="d129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4437000"/>
            <a:ext cx="2519280" cy="287280"/>
          </a:xfrm>
          <a:prstGeom prst="rect">
            <a:avLst/>
          </a:prstGeom>
          <a:solidFill>
            <a:srgbClr val="4712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3860640"/>
            <a:ext cx="2519280" cy="287640"/>
          </a:xfrm>
          <a:prstGeom prst="rect">
            <a:avLst/>
          </a:prstGeom>
          <a:solidFill>
            <a:srgbClr val="22f9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2276640"/>
            <a:ext cx="251928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1989000"/>
            <a:ext cx="2519280" cy="2876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632720" cy="680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067280" y="5375160"/>
            <a:ext cx="2708280" cy="833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200400" y="4902120"/>
            <a:ext cx="1944720" cy="1533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3564000" y="3213000"/>
            <a:ext cx="1008000" cy="955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2124000" y="3357720"/>
            <a:ext cx="1474920" cy="15620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1909800" y="4221000"/>
            <a:ext cx="1882800" cy="1927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3633840" y="3860640"/>
            <a:ext cx="1584360" cy="1009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4643280" y="3789360"/>
            <a:ext cx="1873440" cy="1598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1908000" y="5589720"/>
            <a:ext cx="2305080" cy="933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9"/>
          <a:stretch/>
        </p:blipFill>
        <p:spPr>
          <a:xfrm>
            <a:off x="4213080" y="2274840"/>
            <a:ext cx="1656000" cy="1352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0"/>
          <a:stretch/>
        </p:blipFill>
        <p:spPr>
          <a:xfrm>
            <a:off x="2916360" y="2276640"/>
            <a:ext cx="850680" cy="1011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3851280" y="2133720"/>
            <a:ext cx="1224000" cy="11300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4859280" y="3213000"/>
            <a:ext cx="936720" cy="719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2484360" y="1197000"/>
            <a:ext cx="3960720" cy="12254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ь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7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т плод – аптека наша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 него полезна каша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мечки – деликатес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глистам противовес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етическое блюдо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 болезней всех – как чудо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132000" y="4149720"/>
            <a:ext cx="227016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8:09:02Z</dcterms:created>
  <dc:creator>Люда</dc:creator>
  <dc:description/>
  <dc:language>en-US</dc:language>
  <cp:lastModifiedBy>Тетерина</cp:lastModifiedBy>
  <dcterms:modified xsi:type="dcterms:W3CDTF">2011-02-21T11:11:41Z</dcterms:modified>
  <cp:revision>27</cp:revision>
  <dc:subject/>
  <dc:title>Слайд 1</dc:title>
</cp:coreProperties>
</file>