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AFB-8DC2-4A93-8D3A-39D15E1D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89A-E567-4DF4-B0B6-4C3DD9C0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301-F073-4AE1-BB3C-80EC6DB6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8B9-9249-4895-8756-77E0C867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DF2D-E606-4266-BBFD-C3A1ED39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AC37-8A86-49EF-BACA-CB7CCECB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0ED0-1370-44EE-BCB8-8AD6CCE5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EA4F-A0E5-467B-A530-7A60F445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6029-55F8-4975-A418-B49C3D9C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E46E-C776-489A-AD43-959BDFF5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6F06-35E8-41E7-8EC5-9B271BA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E04-A149-4BA1-9226-D6C4D7D6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7BB9-6E8A-45CF-BA8C-2502DE5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D8F1-B5DA-43D5-91FB-C4A97D22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003D-0AC9-49EE-80CF-F723B6D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831C-3674-426F-811D-D3764BD8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1487-2162-42B2-A00E-D8E8574E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C6A-73B8-4F2F-8DE1-59B0ED88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982-4190-4659-ACC5-667925F2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541-29AF-4B67-9853-B75E128D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0C0-CECE-40CA-8783-ACB6A0E2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DFD-9AD9-440C-95CA-4FE2BAEE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44A-028B-4972-8A93-7007BE5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21D-2CFC-4B01-A679-C9F33E6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2E57-9868-4676-A634-D55BC3CE6C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C0F5-D1F6-4BA4-BF6F-4645CDBE9E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8062920" cy="37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Учитель живет до тех пор,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ока учится; как только он перестает учиться, в нем умирает учитель.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К.Д. Ушинский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в обучен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од- самостоятельная структурная едини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ет определенную це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шает определенную задач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ет к усвоению материа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оится из прием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ботает на цель урока, реализует задачи ур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лассификация методов (по источнику знаний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есны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ссказ, объяснение, бесе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глядны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демонстрация натуральных объектов, таблиц, схем, иллюстра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бота с книгой, учебником, наблюдение, игра, упражнение, программированное обучение, проблемное обу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лассификация методов (по характеру познавательной деятельности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яснительно- иллюстративн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продуктивн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од проблемного изло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астично-поиско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следовательск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апы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Организация начала уро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роверка домашнего зад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одготовка к усвоению новых зн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Изучение нового матери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Первичная проверка зн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Закрепление зн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. Обобщение  и систематизация зн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. Контроль и проверка зн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. Подведение итогов уро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арактер обучения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инструктивно- авторитарны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каз учите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ение текста в учебни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ы на вопросы учите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атривание иллюстр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торение рассказа учителя (текста учебник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арактер обучения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ичностно- значимы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тановка предполож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движение пробле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ждение гипотез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авнение полученных выводов с текстом учебника ( рассказом учителя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иск эмоциональных опор (иллюстрация, ТС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ление графического плана- опо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492360" y="4508640"/>
            <a:ext cx="482472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временный урок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не единственное действующее лицо на уро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нологическое объяснение и требование воспроизвести сказанное - не основной метод в обуч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временный уро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ие по типу «учитель - ученик» и «ученик - ученик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туации естественного общения, с опорой на жизненные пробле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ученик существует для предмета, а предмет для уче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нятие учащегося таким какой он е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ипы уроков (стандартные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ение нового материа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и закрепление зна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общение и систематизация зна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верка и оценка зна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бинированный ур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ипы уроков (нестандартные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 иг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 соревнова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 сказ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 экскурс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к- ди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е зан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инципы нестандартных урок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аз от шаблона в организации ур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влечение учащихся в активную деятельность на уро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коммуникативной функции реч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развлекательность, а занимательность ур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и и задачи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ь определяет задачи и сред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ь одна, задач нескольк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улировка цели и задач зависит от типа ур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бразовательные, коррекционно- развивающие, воспитывающ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 для учител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 для учащих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а обуч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 формы обучен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овая, парная, индивиду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но- урочная школа- школа группо- парно- индивидуальной формы обуч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09:27:46Z</dcterms:created>
  <dc:creator>1</dc:creator>
  <dc:description/>
  <dc:language>en-US</dc:language>
  <cp:lastModifiedBy>олег</cp:lastModifiedBy>
  <dcterms:modified xsi:type="dcterms:W3CDTF">2013-04-10T19:11:09Z</dcterms:modified>
  <cp:revision>6</cp:revision>
  <dc:subject/>
  <dc:title>Учитель живет до тех пор, пока учится; как только он перестает учиться, в нем умирает учитель. К.Д.Ушинский</dc:title>
</cp:coreProperties>
</file>