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3DC-FD86-424F-9813-928CED0A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123-8FD8-4A31-B392-8C4BA642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991-D9EE-41A3-86EB-F591BFC1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5F7-E664-478D-BD51-9281EC3D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02182-9B50-4444-93FE-3C4109AD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2AAD9-C4E0-4DA4-8718-B12CDFD5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6F62A-7EBA-4AB8-B1CE-4580E37C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950AC-FA97-4A8A-BA5F-DDD670EA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A2688-9F51-44AA-BFE2-2F45A91A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51DDA-10BF-420B-9A7B-70CAB30B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4601A-5168-42DB-837A-B9BC9F4A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BAF-42D8-4B8C-AB9F-9998EAF8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DF980-C449-4A97-8AF7-72EE2E6D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92EEE-3F01-474A-A07A-829B8620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98994-576C-4D22-A319-CA72DB9A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780EB-19E1-448F-B808-89E1E41E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92742-D5AB-4C56-BA73-876B7156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0B1-3C30-470C-8258-292CF1A7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25F-7EAF-43CB-BEEC-CDA717E7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9B9-2BD5-48EF-A658-FF66965E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0B9-AA13-497A-BC9B-B417B2A8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33A-2015-4D8D-9BEE-6C2CA2A5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2FA-3B6E-4351-94BD-28BF315C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68A-BC8C-4508-A6CD-A0968402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BDD6-6642-463F-85F1-574913D4A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EDE8-A119-4D37-B8B0-A7D0F189A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УЧЕНИЕ СРАВНИТЕЛЬНОЙ ХАРАКТЕРИСТИКЕ ЛИТЕРАТУРНЫХ ГЕРОЕ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ИНЕВ И ШВАБРИН В ПОВЕСТИ А.С.ПУШКИ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 КАПИТАНСКАЯ ДОЧ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ЧЕВЫЕ ФОРМУЛ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водные слова для построения контрасто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аоборот», «напротив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огичность выводов с помощью слов и словосочетани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«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так как», «доказательством этого служит», «это подтверждает», « таким образом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« итак», « наконец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араллельное сравнени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« если…то…напротив…», « оба они…», « и тот, и другой…», « если один…то другой…»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МАШНЕЕ ЗАДА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ПИСАТЬ СОЧИН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 СРАВНИТЕЛЬНАЯ ХАРАКТЕРИСТИКА ГРИНЕВА И ШВАБРИНА 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ХЕМА КОМПОЗИЦИИ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СОЧИНЕНИЯ-ОПИС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боснование сравн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Определение обще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) Параллельное рассмот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Определение различн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) Параллельное рассмот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Выводы по сравн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СЦЕНА ДУЭЛИ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ВЗЯТИЕ 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      БЕЛОГОРСКОЙ КРЕПОСТИ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ОТНОШЕНИЕ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    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       К МАШЕ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   МИРОНОВОЙ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РГАНИЗАЦИЯ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ТЕКСТА СОЧИН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- СУЖ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- ДОКАЗАТЕЛЬСТВО СУЖ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– ФАКТ,ЦИТА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- КОММЕНТАРИЙ К Н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61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СТЬ – ЭТО ПОЭЗИЯ ДОЛГА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 А.Виньи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СТЬ ДОРОЖЕ ЖИЗНИ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 Ф.Шиллер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 ВСЯКУЮ БЕДУ СОГЛАСЕН ПЕРЕНЕСТЬ,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О Я НЕ СОГЛАШУСЬ, ЧТОБ ПОСТРАДАЛА ЧЕСТЬ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П.Корн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ПЛАН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ВСТУПЛЕ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основание сравнения: место Гринева и Швабрина в раскрытии проблемы чести и долга в пове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щее в героях ( офицеры из дворян, оба любят Машу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ГРИНЕВ И ШВАБРИН – ДВА ПРОТИВОПОЛОЖНЫХ ХАРАКТЕ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) Искренность и порядочность Гринева и лживость и коварство Швабр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) Верность воинскому долгу Гринева и предательство Швабр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) Глубина и искренность чувства Гринева и низменный характер этого чувства у Швабр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) Отношение автора к своим геро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ВЫВОДЫ ПО СРАВНЕНИЮ. НРАВСТВЕННЫЕ УРОКИ ПОВЕ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ЛОВАР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КОВАРСТВ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лонамеренность, прикрытая доброжелательство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ИЗМЕННЫЙ ХАРАКТЕР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подлый, бесчестны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8:23:10Z</dcterms:created>
  <dc:creator>User</dc:creator>
  <dc:description/>
  <dc:language>en-US</dc:language>
  <cp:lastModifiedBy>User</cp:lastModifiedBy>
  <dcterms:modified xsi:type="dcterms:W3CDTF">2008-12-03T14:44:54Z</dcterms:modified>
  <cp:revision>6</cp:revision>
  <dc:subject/>
  <dc:title>ОБУЧЕНИЕ СРАВНИТЕЛЬНОЙ ХАРАКТЕРИСТИКЕ ЛИТЕРАТУРНЫХ ГЕРОЕВ.</dc:title>
</cp:coreProperties>
</file>