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662-F56A-45CD-901A-9BCEF119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B77-8336-437A-BBA7-4408CB0A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00E-B8D0-40F6-8093-925DE944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CEB-6AF5-43B4-923B-E63FCBA8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DA4-ED34-4082-88D1-167A7F3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4EA-6CC0-44D4-9D9F-27F3CA7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EFD-C297-43AD-ACD6-C1CE1C0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FBF-1472-4D49-8386-EA35888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6C6-6633-4D6D-8C86-37540DB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0BB-9528-4F7A-8F3B-E1BE2D5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7BE-9D57-4624-8AA5-354A0ED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FE9-FFF4-4FED-83A1-8AD09D9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99E-1F87-4C77-A998-296FA6295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pn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2880" y="1986120"/>
            <a:ext cx="56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Литератур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5200" y="2541600"/>
            <a:ext cx="816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какого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горо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был знамени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вш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зовите произве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ав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55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6760" y="2590920"/>
            <a:ext cx="830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какого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литературного геро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б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олотое правил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стал – убери свою планету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4320" y="2236680"/>
            <a:ext cx="754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 Испании живут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герои роман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. Сервант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зовите их и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477120" y="3352680"/>
            <a:ext cx="2154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27160" y="2328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9720" y="2362320"/>
            <a:ext cx="807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 каких горах бажовский Данил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стер отыска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менный цвет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26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9360" y="2057400"/>
            <a:ext cx="737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 какой реке путешество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лодке три геро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жерома К.Джеро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2486160" cy="215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324480" y="2819520"/>
            <a:ext cx="2409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2960" y="2057400"/>
            <a:ext cx="81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 каком городе, где все поголо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дят в белых штанах, с де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чтал великий комбино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ап Бенде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3716280"/>
            <a:ext cx="29718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79280" y="2133720"/>
            <a:ext cx="469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е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тихотвор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7160" y="2057400"/>
            <a:ext cx="756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мом …  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ршином общим не изме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 ней особенная ста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…  можно только ве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 какой стране писал Ф.И.Тютч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9920" y="3124080"/>
            <a:ext cx="2666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5920" y="2286000"/>
            <a:ext cx="85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…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.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…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, люблю тебя как сы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ак русский, - сильно, пламен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  неж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  каком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город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писал изве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усский поэ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46280" y="21765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2057400"/>
            <a:ext cx="575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оет, дик и злобе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еж утесистых грома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уре плач его подобе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лёзы брызгами лет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  какой   рек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исал М.Ю.Лермон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281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3505320"/>
            <a:ext cx="733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развитие познавательной активнос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нтересованности учащихся в изуч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ольных предме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торение изученного в занима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06080" y="5599080"/>
            <a:ext cx="51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итель – Карбусова Ирина Евген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БОУ СОШ № 62, г. Арханге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2400" y="2057400"/>
            <a:ext cx="901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до мною. Один в выш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тою над снегами у края стремнин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Отселе я вижу потоков рожд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 первое грозных обвалов движен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 каких горах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ишет поэ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зовите его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81680" y="4343400"/>
            <a:ext cx="2210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7440" y="1981080"/>
            <a:ext cx="77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ыдь на …  , чей стон ра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ад великою русской ре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Этот стон у нас песней зовё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 какой рек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ишет поэ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им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оэ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28195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7120" y="2163600"/>
            <a:ext cx="381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исател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76280" y="2209680"/>
            <a:ext cx="713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 каком  городе  родилис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.С.Пушкин,  М.Ю.Лермон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1819080" cy="211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1900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3640" y="2362320"/>
            <a:ext cx="823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да был выслан  М.Ю.Лермон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 какое стихотво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лужило тому причи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26575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1520" y="2057400"/>
            <a:ext cx="781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й город носил имя писате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.Горь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1932 г. по 1990 г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3600" y="3124080"/>
            <a:ext cx="2444760" cy="3048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Самые красивые места Нижнего Новгорода Хороший отдыХ"/>
          <p:cNvPicPr/>
          <p:nvPr/>
        </p:nvPicPr>
        <p:blipFill>
          <a:blip r:embed="rId3"/>
          <a:stretch/>
        </p:blipFill>
        <p:spPr>
          <a:xfrm>
            <a:off x="609480" y="3733920"/>
            <a:ext cx="4362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0400" y="2057400"/>
            <a:ext cx="86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именами каких писателей связ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графические наз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арх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Ясная Пол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пасское-Лутови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Ка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аган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6720" y="2133720"/>
            <a:ext cx="845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й русский писатель побыв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ахалине и отразил впечат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 поездки в книге очерк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621080" cy="16765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1397160" cy="160020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505320" y="4114800"/>
            <a:ext cx="1828800" cy="16383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1506600" cy="2133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7203960" y="4114800"/>
            <a:ext cx="1562040" cy="19051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84680" y="1981080"/>
            <a:ext cx="469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География  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вания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литератур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извед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6040" y="2362320"/>
            <a:ext cx="791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звание какого минерала вош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название пов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вестного рус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иса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География в русских пословиц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рым Лев Толстой. Севастопольские рассказы. Севастополь в декабре месяце. - 1: Информагентство &quot;Юго-Запад&quot;"/>
          <p:cNvPicPr/>
          <p:nvPr/>
        </p:nvPicPr>
        <p:blipFill>
          <a:blip r:embed="rId2"/>
          <a:stretch/>
        </p:blipFill>
        <p:spPr>
          <a:xfrm>
            <a:off x="838080" y="365760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рымская война 1853 - 1856 гг. Оборона Севастополя - презентация"/>
          <p:cNvPicPr/>
          <p:nvPr/>
        </p:nvPicPr>
        <p:blipFill>
          <a:blip r:embed="rId3"/>
          <a:stretch/>
        </p:blipFill>
        <p:spPr>
          <a:xfrm>
            <a:off x="5105520" y="2286000"/>
            <a:ext cx="3504960" cy="2622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8200" y="1981080"/>
            <a:ext cx="719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й город вошёл в наз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икла расска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.Н.Толст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2252520"/>
            <a:ext cx="821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географические назв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нятия стали названия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вестных литератур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извед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имер, «Метель»  А.С.Пушк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1981080"/>
            <a:ext cx="51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мена писа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еографиче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2000160" cy="2438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2520" y="202392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города в нашей стра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званы в честь писате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04920" y="3200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133720" y="4572000"/>
            <a:ext cx="2514600" cy="162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620120" y="2590920"/>
            <a:ext cx="119196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ЧУДНЫЕ МГНОВЕНИЯ ВЕСЕЛОГО И ГРУСТНОГО - Ивано-Франковск"/>
          <p:cNvPicPr/>
          <p:nvPr/>
        </p:nvPicPr>
        <p:blipFill>
          <a:blip r:embed="rId6"/>
          <a:stretch/>
        </p:blipFill>
        <p:spPr>
          <a:xfrm>
            <a:off x="6172200" y="4038480"/>
            <a:ext cx="27525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1160" y="1905120"/>
            <a:ext cx="81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улицы нашего города нос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ена писате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00400"/>
            <a:ext cx="41907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9120" y="1947960"/>
            <a:ext cx="65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иография и твор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х писателей связаны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рхангельским кра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139680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52280" y="3657600"/>
            <a:ext cx="15829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600200" y="4572000"/>
            <a:ext cx="142236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2971800" y="3733920"/>
            <a:ext cx="168444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934320" y="1981080"/>
            <a:ext cx="1854000" cy="2795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7010280" y="0"/>
            <a:ext cx="1905120" cy="1768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1828800" y="0"/>
            <a:ext cx="1308240" cy="1881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705720" y="4191120"/>
            <a:ext cx="1665000" cy="2209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4952880" y="358128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181480" y="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1535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5120" y="2181240"/>
            <a:ext cx="6476760" cy="30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 участ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198108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Язык до  …   дове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Не   разом  …  строила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За правду-матку ссылают на 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Погиб,  как  швед  под 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98108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Все дороги ведут в 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Муж в дверь, а жена в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Хорош город … -  бока повыт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Всё готово: сани в … , хомут на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а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3960" y="1905120"/>
            <a:ext cx="530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Литератур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еро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1000" y="2057400"/>
            <a:ext cx="8793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самом деле его следовало бы наз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ачаровцем, т.к. он уроженец с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ачарова Владимирской 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ядом с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аким город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асполож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се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этог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ылинного геро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07080" y="2328840"/>
            <a:ext cx="725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женцем какого города бы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ылинный гусля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ДК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212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0000" y="2057400"/>
            <a:ext cx="844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амилии  трёх  литератур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ероев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чьи  фамилии    происхо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названия рек,  протекающих в н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а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вторы  и  названия  произвед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4-11-16T19:30:4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