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C5F-58C5-439E-AC9A-FE081F61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F08-A2FC-4C10-92D6-1595016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181-E21D-428A-BA88-C6C35D1E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C61-2E76-4991-9233-963FBDA9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6C12-A4FB-4C2A-ACB6-17314A96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1A7-A541-42D9-8EA7-4ED3E2C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D96F-5113-41F2-ACA6-187C28A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472-154F-4584-8E7A-721A7D6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95DD-32C2-4FF6-9322-4A68D69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5DDE-7298-454E-BD06-38266CBD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13F1-F409-491C-BF5C-320EC32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06E-5B37-44E7-AE52-EEE9DEBF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77D-FCAC-42FB-B942-C93C467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B893-DC14-4020-A108-83FE610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51E-D992-4077-B541-F2F8D6C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0BD-0913-4C4F-9C91-F08E068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5429-5BAB-493B-B9F9-4D916522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F27-6512-46BC-80FA-9B1AB471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F64-0B1D-4039-A922-33AEE39F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CBD-6862-4B1A-B2FC-56A0734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36F-C8C1-44BA-ACB4-68957D8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34F-678D-4A5C-9C6A-CE73B44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D00-7B33-4F3A-A2B5-7016B1A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B91-F512-42CE-BD9A-1508256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B035-0D3E-4476-8F8E-B051D35EBE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EFC-9E6D-47B8-AC15-5D42E240C4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184428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Тема: Анализ современного уро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амоанализ урока – один из инструментов самосовершенствования учителя, формирования и развития его профессиональных качест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амоанализ дает возможност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Формировать и развивать творческую сознательность, проявляющуюся в умении сформулировать и поставить цели своей деятельности и деятельности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Развивать умения устанавливать связи между условиями своей педагогической деятельности и средствами достижения педагогических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Формировать умение четко планировать и предвидеть результаты своего педагогического тру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Сформировать педагогическое самосознание учителя, когда он постепенно начинает видеть, понимать необходимую и существенную связь между способом его действий и конечным результатом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Для чего анализируется ур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Что такое «анализ»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Самоанализ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556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НАЛИЗ- это логический прием познания, представляющий собою мысленное разложение предмета (явления, процесса) на части, элементы или признаки, их сапоставление и последовательное изучение с целью выявления существенных, т.е. необходимых и определенных качеств и свойст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нализ урока – представляет собой комплексный подход, в котором психологический, содержательный, методический и предметный аспекты тесно взаимосвяза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ходе анализа учитель получает возможность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Взглянуть на свой урок как бы со стор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Осознать урок как явление в це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Целенаправленно осмыслить совокупность собственных теоретических знаний, способов, приемов работы в их практическом преломлении, во взаимодействии с классом и конкретными ученика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ализ позволяе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Оценить свои сильные и слабые стор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определить нереализуемые резер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уточнить отдельные моменты индивидуального стиля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цесс анализа урока многогранен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Психологические особенности личности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Деятельность учителя на конкретном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организаторские, коммуникативные, познавательные способ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действия по усвоению обучаемыми преподаваем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цесс анализа многогранен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2178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. выработка необходимых умений и навы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. учет этнографических, образовательных особенностей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. учет социальных норм и ценностей класса, преобразующей атмосферы общения, статуса отдельных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. опора на закономерности общения в системах «учитель-ученик», «ученик-ученик», «учитель-ученики»,обусловленные спецификой учебного процес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нализ урока формирует у учител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Аналитические способ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Развивает интер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Определяет необходимость изучения проблем обучения и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1:16:20Z</dcterms:created>
  <dc:creator>Марина</dc:creator>
  <dc:description/>
  <dc:language>en-US</dc:language>
  <cp:lastModifiedBy>Марина</cp:lastModifiedBy>
  <dcterms:modified xsi:type="dcterms:W3CDTF">2012-11-07T12:16:06Z</dcterms:modified>
  <cp:revision>2</cp:revision>
  <dc:subject/>
  <dc:title>Тема: Анализ современного урока</dc:title>
</cp:coreProperties>
</file>