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68B-EFE4-429F-B8DE-9CC8F25C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F8D-3706-4D00-B38B-768C630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378-7ADA-4713-9FD8-FC03A02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B07-DD91-4669-AF1F-A3DF03AD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0ABA-E28D-4A64-AD96-BCD7A08A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6ADF-215E-443D-885C-93E1CD04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1A55-F699-4683-AE3F-DDDE25E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EB3-CD80-4790-B14D-8D7897D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CACF-05F9-4E81-8732-43BFF27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AD6-070E-48A0-AF2E-41C153D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D90-B580-476D-862A-D22BC10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2EE-7F96-47F0-B98C-2F40506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07F-D08A-4B78-9C01-1576F85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473-C74A-4ED3-ACE2-27C4195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E860-649D-4D4C-87FE-8F22391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436-4E5C-4F2B-A2EB-45C2AFEE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AFD9-C51B-4DBA-9C1B-C4D5DECB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3F9F-3C45-4EC2-88B5-F3DE872D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A7AA-BE2A-423E-9992-434989E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F03C-989B-4246-AF2B-0D6EF33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F50C-A708-4BE7-90F4-9FE7676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7340-8AB5-449B-B1A8-1A11004D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ECD-C59C-421C-B243-5CA43415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0EF4-423B-4225-9F10-47F88B3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DA6E-529B-4FB3-B553-69E78E0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CACB-D06A-49A3-9B20-411DB7A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F322-C101-4801-88D6-C2AF7A9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3004-6E23-4DB0-A113-D002B856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6B68-B5B0-4177-B5CB-0AA57EC6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70E3-BB12-4216-AA54-F8A6E31F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67A8-5376-4BBF-BB09-AED2851B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0953-78C9-48F3-92C2-9792B75B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6A23-ABFC-4D14-8DE8-5B42E04F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55C-70BB-486D-A551-64357F76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C976-7503-439E-8654-8BBDEA0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F531-F984-4535-A5A9-BD0659F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BD36-FC34-4CBB-97D3-4CEDE10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BD649-CE23-4E07-9E85-5C52507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1088-D524-47A9-AC44-9E5976E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8FDB-CE3C-42E4-83F8-20CCDB29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386C-ABD7-447D-AA9D-9B97C01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C488-2583-41C4-9873-CA883960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D862-591A-43D7-90BC-FDA3EF30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5F8C-2829-46E6-96D5-5E42CE13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FC8-2FBF-4EF5-BB66-8F633A5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9276-42E7-435C-B71B-61ABC40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CB35-C889-4364-BA8E-1AA527C0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2E7D-0CBD-49D5-8897-89298627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572F-0154-47B3-B5EC-69735BEF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0E61-FCC2-4E95-AFB9-D1B76E1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5985-0217-4511-B439-FB848BF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15BF-2E2D-4D06-BE20-655AD50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A6A6-69DC-4D03-814D-4B7DAE0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79A68-20D2-4D0D-BBB4-2B5977C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F837-7FDF-41ED-91D3-9D1C5009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2A3-FD41-4EFB-9691-5367479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40AF-F095-4F72-A1A2-C9B32A58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1FBC7-2AFD-444B-B4EA-E538E6D8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DCE3-B524-45FF-A00D-B2324F0E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2016-9368-4751-802F-D622FA8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64D5-781C-4691-9D05-6E705B5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FF59-7CDA-40F7-8538-EFC54707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3555E-7525-4C80-A548-AB7844F7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31D1-FEB4-4774-97F5-8C107769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5EFB-790A-4DD4-B44B-4BF7A65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EBC8-0265-4C9A-8B9E-3D6FEB5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A8C-85E2-4B5A-B2DA-0D90DB9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461F-C130-4CC8-872B-332B1BF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2282-6E26-464C-BFBC-6B568B37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2BD2-3FC7-496B-BA93-148F812D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E36D-FFDD-4AC4-ACD0-14B9F14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CF21-E17C-4914-832B-E1E9667D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F7A97-9674-4EE6-B764-F12DACEE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1623-2835-4AD6-B877-F915908F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B95B-69E2-4894-86BB-A2E9B0A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EE88-4B25-4A0A-AD06-646F231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E94A-0218-466B-A20C-2A5AF9A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65B-2341-45DA-ABF3-726C43E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E01C-4D25-40C7-B81A-08FC5EF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E40F-D373-409A-9EE6-72841A4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77FC-764D-459A-8C61-61F689D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154C-E298-4E06-85A4-71B176D3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DCF0F-2B4C-4322-B291-DBF4B53B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4AD-A88F-4EA2-8728-DD42008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4E73-CD00-4661-A8BE-B99BFFCB45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974-2825-42A7-884F-E0748E0F6A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BCF-62AF-4764-B3DD-1201BFECB5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F11-F19B-4D98-995A-9E245233EA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CA86-4547-4DD9-B413-0F9860941F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6D3-0109-486E-A5C0-D67767333F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8303-F7AA-4DA8-924C-5977AA2E42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 классных руководител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13880" y="3357720"/>
            <a:ext cx="7858440" cy="30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Тема: «Формирование у учащихся ЗОЖ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стер класс для классных руководител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лассный руководитель : Астафьева Н.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285920" y="285840"/>
            <a:ext cx="757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rbel"/>
              </a:rPr>
              <a:t>«Средняя общеобразовательная школа №31 имени Героя Советского Союза С.Д. Василиси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Мастер класс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по теме: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 «Формирование ЗОЖ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лассный час с учётом возрастных особенностей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14680" cy="6429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 группа 1-6 класс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714400" cy="6429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2 группа 7-9 класс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0920" y="1928520"/>
            <a:ext cx="3000600" cy="41972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оперативное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(работа в парах или в группе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«Какие угрозы здоровью Вы знаете!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олевое моделиров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«Театральная» Сценка «Скажи НЕТ!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15880" y="1928520"/>
            <a:ext cx="2784600" cy="4357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5000"/>
          </a:bodyPr>
          <a:p>
            <a:pPr marL="37224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Упражнения энергизатор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 группа «Интеллектуальная» –  игра «Брось сигарету!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учение в групп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7224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 группа Выработать общие рекомендации…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Текст 5"/>
          <p:cNvSpPr/>
          <p:nvPr/>
        </p:nvSpPr>
        <p:spPr>
          <a:xfrm>
            <a:off x="6000840" y="1143000"/>
            <a:ext cx="2714400" cy="6429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группа 9-11 кла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одержимое 6"/>
          <p:cNvSpPr/>
          <p:nvPr/>
        </p:nvSpPr>
        <p:spPr>
          <a:xfrm>
            <a:off x="3071880" y="1857240"/>
            <a:ext cx="24271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одержимое 6"/>
          <p:cNvSpPr/>
          <p:nvPr/>
        </p:nvSpPr>
        <p:spPr>
          <a:xfrm>
            <a:off x="5857920" y="2214720"/>
            <a:ext cx="242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6215040" y="1857240"/>
            <a:ext cx="257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тод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сследовательские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 группа «Великие спортсмены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ывод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 группа «Звёзды и нарко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ывод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179280" y="1844640"/>
            <a:ext cx="4392720" cy="42274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3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ечально, но полностью раскрыться таланту Высоцкого мешало пристрастие к алкого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ак средство борьбы с этой болезнью ему посоветовали принимать наркотические сре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ладимир Семенович относил себя к сильным личностям, поэтому считал, что всегда сможет завязать с сильнодействующими препаратами. Но не выдержало сердце.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4"/>
          <p:cNvSpPr txBox="1"/>
          <p:nvPr/>
        </p:nvSpPr>
        <p:spPr>
          <a:xfrm>
            <a:off x="1042920" y="404640"/>
            <a:ext cx="734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ладимир Высоцк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347" name="Picture 6" descr="kop5-1"/>
          <p:cNvPicPr/>
          <p:nvPr/>
        </p:nvPicPr>
        <p:blipFill>
          <a:blip r:embed="rId1"/>
          <a:stretch/>
        </p:blipFill>
        <p:spPr>
          <a:xfrm>
            <a:off x="4786200" y="1714680"/>
            <a:ext cx="37148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Алексей Немов: закончил Тольяттинский педагогический университет по специальности тренер"/>
          <p:cNvPicPr/>
          <p:nvPr/>
        </p:nvPicPr>
        <p:blipFill>
          <a:blip r:embed="rId1"/>
          <a:stretch/>
        </p:blipFill>
        <p:spPr>
          <a:xfrm>
            <a:off x="4735440" y="3929040"/>
            <a:ext cx="3863880" cy="25718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"/>
          <p:cNvSpPr/>
          <p:nvPr/>
        </p:nvSpPr>
        <p:spPr>
          <a:xfrm>
            <a:off x="38088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Алексей Не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57120" y="1295280"/>
            <a:ext cx="835812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Без отменного здоровья в большом спорте делать нечего. Меня же Бог здоровьем не обделил с детства. Я рос крепким пацаном и всегда мог постоять за себя..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хранение здоровья школьников – это  закладка фундамента благополучия следующих поколений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ирование ЗО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"/>
          <p:cNvPicPr/>
          <p:nvPr/>
        </p:nvPicPr>
        <p:blipFill>
          <a:blip r:embed="rId1"/>
          <a:stretch/>
        </p:blipFill>
        <p:spPr>
          <a:xfrm>
            <a:off x="-506520" y="1158840"/>
            <a:ext cx="9657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цесс формирования культуры здоровья обучающихс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92160" y="1542960"/>
            <a:ext cx="9191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читель должен умет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1"/>
          <a:stretch/>
        </p:blipFill>
        <p:spPr>
          <a:xfrm>
            <a:off x="317520" y="725400"/>
            <a:ext cx="84423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Методы формирования сознания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2425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ормирование ЗОЖ через классные час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ЦЕЛЬЮ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классных часов по этой теме является овладение учащимися объективными, соответствующими возрасту знаниями, а также формирование здоровых установок и навыков ответственного поведения, снижающих вероятность  приобщения к употреблению табака, алкоголя и других ПА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.Представить детям объективную информацию о вредных привычка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. Способствовать увеличению знаний учащихся путём обсуждения данной проблем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. Учить детей лучше понимать себя и критически относиться к собственному поведению, уметь анализировать свои желания и их последстви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4. Научить детей делать правильный выбор и принимать ответственные решени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тоды обуч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"/>
          <p:cNvPicPr/>
          <p:nvPr/>
        </p:nvPicPr>
        <p:blipFill>
          <a:blip r:embed="rId1"/>
          <a:stretch/>
        </p:blipFill>
        <p:spPr>
          <a:xfrm>
            <a:off x="420840" y="785880"/>
            <a:ext cx="82422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ля проведения мероприятий по формированию ЗОЖ используется комплексный подход, систематичность и поэтапность, при использовании разнообразных форм и методов, учитывается возрастные особенности учащихся,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оторые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активно влияют на позитивное развитие личности учеников, формируя ценности здорового образа жизни и антинаркотические установки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8:30:19Z</dcterms:created>
  <dc:creator>Хозяин</dc:creator>
  <dc:description/>
  <dc:language>en-US</dc:language>
  <cp:lastModifiedBy>Хозяин</cp:lastModifiedBy>
  <dcterms:modified xsi:type="dcterms:W3CDTF">2004-11-17T21:29:29Z</dcterms:modified>
  <cp:revision>25</cp:revision>
  <dc:subject/>
  <dc:title>МО классных руководителей</dc:title>
</cp:coreProperties>
</file>