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B02-CAD0-4023-843A-10847CE6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E3C-927C-4227-B214-5E8B9D8A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7E8-1DCE-4D00-AE21-E0F1F16B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3D2-E8E7-4DC5-B075-7F6F0D2E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0712-7C8E-466C-9BEB-7A4ABBF6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01C8-4E42-47F5-A661-FFBE0631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6901-0DA6-4616-B8B2-2111526A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C14E-D444-4C14-843D-02A604CD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F4C5-C03A-4DB0-A100-3D2868D6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C31B-22D1-41CF-A287-A4183092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52CF-8ABB-412B-AF95-DDA71EB4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9CC-3614-42DF-AA48-EE2D1B6E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D05C-18C5-4858-82D4-0C47987D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426E-C918-4769-B6B8-7A78A276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00E-8CE6-4271-8158-010CBE45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41D0-6FC7-4E63-82CB-F9E5A0BB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4CD4-6C76-4EA2-A324-973F52F1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C47-874A-41FF-9C33-6BA7DA24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F4E-3F15-487F-A06D-9CCDAF3B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6BC-3125-4495-94C0-84D75599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385-BC99-4095-AE11-1AAEE875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5C4-8945-4999-826E-A157A029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0A6-AFDD-41A6-9885-6EB66003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A22-E172-4C7B-8DE1-CB40B4C9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65_5187"/>
          <p:cNvPicPr/>
          <p:nvPr/>
        </p:nvPicPr>
        <p:blipFill>
          <a:blip r:embed="rId2"/>
          <a:srcRect l="35434" t="0" r="40158" b="0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91B9-ED35-4559-8B91-74D4C8ECC39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Freeform 11"/>
          <p:cNvSpPr/>
          <p:nvPr/>
        </p:nvSpPr>
        <p:spPr>
          <a:xfrm>
            <a:off x="971640" y="-230040"/>
            <a:ext cx="1008000" cy="7316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4c8aa36f7131"/>
          <p:cNvPicPr/>
          <p:nvPr/>
        </p:nvPicPr>
        <p:blipFill>
          <a:blip r:embed="rId2"/>
          <a:stretch/>
        </p:blipFill>
        <p:spPr>
          <a:xfrm>
            <a:off x="2411280" y="1989000"/>
            <a:ext cx="4235760" cy="3600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D8AB-9133-4322-B4CD-A95573FCA35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58880" y="188640"/>
            <a:ext cx="74851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«Формирование ключевых математических компетенций гимназиста при работе с текстом учебника»</a:t>
            </a:r>
            <a:r>
              <a:rPr b="1" lang="en-US" sz="4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611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02800"/>
                </a:solidFill>
                <a:latin typeface="Comic Sans MS"/>
              </a:rPr>
              <a:t>учитель математики МОУ «Гимназия №1 г.Рузы»</a:t>
            </a:r>
            <a:br>
              <a:rPr sz="2400"/>
            </a:br>
            <a:r>
              <a:rPr b="1" lang="ru-RU" sz="2400" spc="-1" strike="noStrike">
                <a:solidFill>
                  <a:srgbClr val="502800"/>
                </a:solidFill>
                <a:latin typeface="Comic Sans MS"/>
              </a:rPr>
              <a:t>Кучуева Надежда Павловна</a:t>
            </a:r>
            <a:br>
              <a:rPr sz="2400"/>
            </a:br>
            <a:r>
              <a:rPr b="1" lang="ru-RU" sz="2400" spc="-1" strike="noStrike">
                <a:solidFill>
                  <a:srgbClr val="502800"/>
                </a:solidFill>
                <a:latin typeface="Comic Sans MS"/>
              </a:rPr>
              <a:t>февраль 2011г.</a:t>
            </a: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4"/>
          <p:cNvSpPr/>
          <p:nvPr/>
        </p:nvSpPr>
        <p:spPr>
          <a:xfrm>
            <a:off x="1255680" y="-663480"/>
            <a:ext cx="335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1255680" y="-663480"/>
            <a:ext cx="335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1255680" y="-663480"/>
            <a:ext cx="335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6360" y="260280"/>
          <a:ext cx="7488360" cy="6408720"/>
        </p:xfrm>
        <a:graphic>
          <a:graphicData uri="http://schemas.openxmlformats.org/drawingml/2006/table">
            <a:tbl>
              <a:tblPr/>
              <a:tblGrid>
                <a:gridCol w="3743280"/>
                <a:gridCol w="374508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ы работы с текс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и выполнении заданий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бщеучебные навыки, формируемые при работе с текс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аться в содержании текста и понимать его смысл в цел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улировать идею текста по заголовку текста и по его главной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улировать тезис, выражающий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смысл тек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ить назначение чертежа, рисунка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ющие графика или табл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6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темы урока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ого задания, тек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6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ение главной мысли и темы тек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6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ание одного вида текстовой информации в друг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3"/>
          <p:cNvSpPr/>
          <p:nvPr/>
        </p:nvSpPr>
        <p:spPr>
          <a:xfrm>
            <a:off x="1255680" y="-177840"/>
            <a:ext cx="335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255680" y="-177840"/>
            <a:ext cx="335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255680" y="-177840"/>
            <a:ext cx="335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11280" y="0"/>
          <a:ext cx="7632720" cy="6834240"/>
        </p:xfrm>
        <a:graphic>
          <a:graphicData uri="http://schemas.openxmlformats.org/drawingml/2006/table">
            <a:tbl>
              <a:tblPr/>
              <a:tblGrid>
                <a:gridCol w="3780000"/>
                <a:gridCol w="3852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ы работы с текс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и выполнении заданий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бщеучебные навык и, формируемые при работе с текс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информац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пределить его основные элемент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йти необходимые единицы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дбор и систематизация материала по определённой тем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мение делать обоб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ь тек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равнить между собой содержащуюся в тексте информа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бнаружить в нём доводы в подтверждение выдвинутых тези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делать выводы из сформулированных в тексте посы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существление сравнений разного в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дбор аргументов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выдвинутому суждению, тезис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делать вы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1255680" y="-177840"/>
            <a:ext cx="335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1255680" y="-177840"/>
            <a:ext cx="335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1255680" y="-177840"/>
            <a:ext cx="335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76360" y="0"/>
          <a:ext cx="7848720" cy="7032600"/>
        </p:xfrm>
        <a:graphic>
          <a:graphicData uri="http://schemas.openxmlformats.org/drawingml/2006/table">
            <a:tbl>
              <a:tblPr/>
              <a:tblGrid>
                <a:gridCol w="3922560"/>
                <a:gridCol w="3926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ы работы с текс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и выполнении заданий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бщеучебные навык и, формируемые при работе с текс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ыслить содержание тек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вязать информацию, найденную в тексте, с информацией, полученной из других ист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ценить утверждения, сделанные в тексте, исходя из своих представлений о ми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йти доводы в защиту своей точки з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опоставление способов решений  свойств, характерных че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ценивание высказывания, м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боснование собственной пози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ладение правилами и видами доказатель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ыслить форму тек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явить критичность мышления и самостоя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еских сужд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нализ текста, эпизода интерпретация источ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блемное изучение темы, источ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пределение авторской пози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0"/>
          <p:cNvSpPr/>
          <p:nvPr/>
        </p:nvSpPr>
        <p:spPr>
          <a:xfrm>
            <a:off x="5292720" y="4724280"/>
            <a:ext cx="3672000" cy="1657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1258920" y="4797360"/>
            <a:ext cx="3744720" cy="172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5148360" y="2133720"/>
            <a:ext cx="3671640" cy="194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3640" y="264960"/>
            <a:ext cx="7129440" cy="11617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9360" rIns="99360" tIns="56160" bIns="56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692360" y="260280"/>
            <a:ext cx="6985080" cy="936720"/>
          </a:xfrm>
          <a:prstGeom prst="rect">
            <a:avLst/>
          </a:prstGeom>
          <a:solidFill>
            <a:srgbClr val="adfd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835280" y="40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бщеучебные нав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298764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6948360" y="126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187280" y="2205000"/>
            <a:ext cx="3672000" cy="15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116000" y="220500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и закрепление навыков  в стандартных и частично  изменен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5076720" y="213372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енение сформированных навыков  в нестандартных ситуациях в условиях выб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1258920" y="486900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петенция-совокупность навыков и качеств в отношении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5327640" y="472428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петентность-владение и обладание навыками и качествами, личностное отнош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9"/>
          <p:cNvSpPr/>
          <p:nvPr/>
        </p:nvSpPr>
        <p:spPr>
          <a:xfrm>
            <a:off x="2916360" y="3789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Сводной таблицы предметных и общеучебных навыков</a:t>
            </a: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332000" y="1600200"/>
          <a:ext cx="7632720" cy="4703760"/>
        </p:xfrm>
        <a:graphic>
          <a:graphicData uri="http://schemas.openxmlformats.org/drawingml/2006/table">
            <a:tbl>
              <a:tblPr/>
              <a:tblGrid>
                <a:gridCol w="2519280"/>
                <a:gridCol w="2405160"/>
                <a:gridCol w="27082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леч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и и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84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говорить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84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 через постановку вопрос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ое чт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в, и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оставительн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 составл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 различного вида для преобра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схем дл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ой информ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нов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ов преобра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а: план-схема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тер, дось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Сводной таблицы предметных и общеучебных навыков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7280" y="1600200"/>
          <a:ext cx="7777440" cy="4724280"/>
        </p:xfrm>
        <a:graphic>
          <a:graphicData uri="http://schemas.openxmlformats.org/drawingml/2006/table">
            <a:tbl>
              <a:tblPr/>
              <a:tblGrid>
                <a:gridCol w="2787840"/>
                <a:gridCol w="2347920"/>
                <a:gridCol w="2641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родуктивн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родуктивн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ов оценочн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итическ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ых вопрос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го ви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полн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а: основн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сль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ё поясн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кретн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ах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то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ументированн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а на вопрос 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м и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очного суж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чьей-либо точ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ния или 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ённой пози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Сводной таблицы предметных и общеучебных навыков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332000" y="1600200"/>
          <a:ext cx="7632720" cy="4389480"/>
        </p:xfrm>
        <a:graphic>
          <a:graphicData uri="http://schemas.openxmlformats.org/drawingml/2006/table">
            <a:tbl>
              <a:tblPr/>
              <a:tblGrid>
                <a:gridCol w="2735280"/>
                <a:gridCol w="2189160"/>
                <a:gridCol w="2708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в и явлен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го поряд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 явлений разного порядка в рамках предм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оставление событий и явлен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кратк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вн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вн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я 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ами анализ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ого докла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снове различн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Практический этап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ение тем учебного предмета, наилучшим образом подходящих для формирования того или иного навы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бор дополнительной информации, позволяющей закреплять и развивать формируемые навы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алгоритмов и рекомендаций для учащихся по осуществлению различных видов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методических приёмов для учителей по формированию навыков у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ение единых требований для выполнения определённых видов работ учащими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Алгоритм сравнения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 (в тексте, на чертеже, в схемах, графиках, иллюстрациях) объекты для срав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ерите важные для сравнения основания (критери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берите к выделенным критериям характерные черты, свойства объе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ажите различия и/или сходства между объектами срав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дите итог проделанной работе и запишите его в виде су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Что поможет проверить сформированность навыков</a:t>
            </a: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е содержания текста и правильное его поним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ие дать им объяснение понятиям , встречающимся в текс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дение навыком постановки проблемного вопро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дение навыком установления причинно-следственных связ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дение навыком сопоставления понят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244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Задача  учителя: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4437000"/>
            <a:ext cx="3457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...научить детей  учить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wkol'nik"/>
          <p:cNvPicPr/>
          <p:nvPr/>
        </p:nvPicPr>
        <p:blipFill>
          <a:blip r:embed="rId1"/>
          <a:stretch/>
        </p:blipFill>
        <p:spPr>
          <a:xfrm>
            <a:off x="179280" y="0"/>
            <a:ext cx="1901880" cy="249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5508720" y="2781360"/>
            <a:ext cx="3382920" cy="379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CA882BG0"/>
          <p:cNvPicPr/>
          <p:nvPr/>
        </p:nvPicPr>
        <p:blipFill>
          <a:blip r:embed="rId3"/>
          <a:stretch/>
        </p:blipFill>
        <p:spPr>
          <a:xfrm>
            <a:off x="2556000" y="2205000"/>
            <a:ext cx="1541160" cy="2030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AOJZZEK"/>
          <p:cNvPicPr/>
          <p:nvPr/>
        </p:nvPicPr>
        <p:blipFill>
          <a:blip r:embed="rId4"/>
          <a:stretch/>
        </p:blipFill>
        <p:spPr>
          <a:xfrm>
            <a:off x="3780000" y="1413000"/>
            <a:ext cx="1395360" cy="216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CAD7BPK8"/>
          <p:cNvPicPr/>
          <p:nvPr/>
        </p:nvPicPr>
        <p:blipFill>
          <a:blip r:embed="rId5"/>
          <a:stretch/>
        </p:blipFill>
        <p:spPr>
          <a:xfrm>
            <a:off x="4932360" y="549360"/>
            <a:ext cx="1370160" cy="213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CAGVIBEB"/>
          <p:cNvPicPr/>
          <p:nvPr/>
        </p:nvPicPr>
        <p:blipFill>
          <a:blip r:embed="rId6"/>
          <a:stretch/>
        </p:blipFill>
        <p:spPr>
          <a:xfrm>
            <a:off x="6084720" y="0"/>
            <a:ext cx="1557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Работа с учебником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епродуктивно-поисков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ментированное чт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ы на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олнение табли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 терми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ие сх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орные консп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ие пла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ие консп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6" descr="66"/>
          <p:cNvPicPr/>
          <p:nvPr/>
        </p:nvPicPr>
        <p:blipFill>
          <a:blip r:embed="rId1"/>
          <a:stretch/>
        </p:blipFill>
        <p:spPr>
          <a:xfrm>
            <a:off x="6948360" y="4437000"/>
            <a:ext cx="19494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Работа с учебником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о-аналитиче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ы и сх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графиков, чертеж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3851280" y="3645000"/>
            <a:ext cx="2449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Работа с учебником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ворче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к прочитанному текс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ксты с ошиб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ксты с пропущенными слов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з по заданным слов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ссвор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kniga73"/>
          <p:cNvPicPr/>
          <p:nvPr/>
        </p:nvPicPr>
        <p:blipFill>
          <a:blip r:embed="rId1"/>
          <a:stretch/>
        </p:blipFill>
        <p:spPr>
          <a:xfrm>
            <a:off x="6516720" y="4552920"/>
            <a:ext cx="2251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Приемы работы с текстом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прос-ответ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учший вопро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паргалка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тошный учени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8-37_G8egDQh5WT"/>
          <p:cNvPicPr/>
          <p:nvPr/>
        </p:nvPicPr>
        <p:blipFill>
          <a:blip r:embed="rId1"/>
          <a:stretch/>
        </p:blipFill>
        <p:spPr>
          <a:xfrm>
            <a:off x="5508720" y="1989000"/>
            <a:ext cx="3384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58880" y="188640"/>
            <a:ext cx="74851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«Формирование ключевых математических компетенций гимназиста при работе с текстом учебника»</a:t>
            </a:r>
            <a:r>
              <a:rPr b="1" lang="en-US" sz="4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611280" y="5589720"/>
            <a:ext cx="8353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02800"/>
                </a:solidFill>
                <a:latin typeface="Comic Sans MS"/>
              </a:rPr>
              <a:t>учитель математики МОУ «Гимназия №1 г.Рузы»</a:t>
            </a:r>
            <a:br>
              <a:rPr sz="2400"/>
            </a:br>
            <a:r>
              <a:rPr b="1" lang="ru-RU" sz="2400" spc="-1" strike="noStrike">
                <a:solidFill>
                  <a:srgbClr val="502800"/>
                </a:solidFill>
                <a:latin typeface="Comic Sans MS"/>
              </a:rPr>
              <a:t>Кучуева Надежда Павловна</a:t>
            </a: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353440" cy="1079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Спасибо за внимание!</a:t>
            </a:r>
            <a:endParaRPr b="1" lang="en-US" sz="54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«Чему мы должны учить?»</a:t>
            </a:r>
            <a:r>
              <a:rPr b="1" lang="en-US" sz="4000" spc="-1" strike="noStrike">
                <a:solidFill>
                  <a:srgbClr val="663300"/>
                </a:solidFill>
                <a:latin typeface="Calibri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804000" y="5157720"/>
            <a:ext cx="2174760" cy="1505160"/>
          </a:xfrm>
          <a:prstGeom prst="rect">
            <a:avLst/>
          </a:prstGeom>
          <a:ln w="0">
            <a:noFill/>
          </a:ln>
        </p:spPr>
      </p:pic>
      <p:sp>
        <p:nvSpPr>
          <p:cNvPr id="97" name="Documents"/>
          <p:cNvSpPr/>
          <p:nvPr/>
        </p:nvSpPr>
        <p:spPr>
          <a:xfrm>
            <a:off x="1187280" y="981000"/>
            <a:ext cx="2548080" cy="2849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ocuments"/>
          <p:cNvSpPr/>
          <p:nvPr/>
        </p:nvSpPr>
        <p:spPr>
          <a:xfrm>
            <a:off x="1547640" y="4292640"/>
            <a:ext cx="4392720" cy="22017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ocuments"/>
          <p:cNvSpPr/>
          <p:nvPr/>
        </p:nvSpPr>
        <p:spPr>
          <a:xfrm>
            <a:off x="5724360" y="981000"/>
            <a:ext cx="3168720" cy="3311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116000" y="2060640"/>
            <a:ext cx="216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ГОС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5580000" y="1700280"/>
            <a:ext cx="30243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сударственная инициати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Наша новая шко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35280" y="4653000"/>
            <a:ext cx="352872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2556000" y="479736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Концепции модернизации российского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956720" cy="18590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«Концепции модернизации российского образования» перед школой поставлена задача — добиться «нового образовательного результата»</a:t>
            </a:r>
            <a:r>
              <a:rPr b="1" lang="en-US" sz="4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32000" y="2520720"/>
            <a:ext cx="7488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ключевых компетенций и приобретение опыта решения жизненных проблем на основе знаний и ум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мений работы с информаци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навыков самостоятельного изучения материала и оценки результатов своей деятельности, а также умений принимать решения в нестандартной ситу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навыков работы в групп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навыков исследов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Ключевые компетентности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овокупность взаимосвязанных смысловых ориентаций, знаний, умений, навыков и опыта деятельности ученика по отношению к определённому кругу объектов реальной действительности, необходимых для осуществления личностно и социально значимой продуктивной деятельности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19303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2800"/>
                </a:solidFill>
                <a:latin typeface="Comic Sans MS"/>
              </a:rPr>
              <a:t>С учётом целей образования и основных видов деятельности учащихся выделяют следующие ключевые компетентности: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2565000"/>
            <a:ext cx="6767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ностно-смыслов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культурн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познавательн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муникативн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ально-трудов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«Как именно учить?»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методики использо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рганизовать образовательную деятельность учащих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мотивационные приёмы использо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овместить формирование знаний и навык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оверить усвоение материала учащимися? 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95672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Тестирование </a:t>
            </a: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PISA</a:t>
            </a:r>
            <a:br>
              <a:rPr sz="40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Programme for International Student Assessment</a:t>
            </a: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)</a:t>
            </a: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 умею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ять развёрнутый ответ в виде текс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елять и анализировать дета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поставлять, сравнивать и соединять найденную в разных источниках информацию в целостную информационную картин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ть разные типы чтения: просмотровый (ознакомительный), поисковый (с ориентацией на отбор нужной информации), аналитическ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улировать качественный, а не точный (количественный)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95672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Тестирование </a:t>
            </a: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PISA</a:t>
            </a:r>
            <a:br>
              <a:rPr sz="4000"/>
            </a:b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Programme for International Student Assessment</a:t>
            </a: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)</a:t>
            </a: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 могу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лечь информацию, не содержащуюся непосредственно в заданных услов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очнить и переформулировать вопрос, содержащий дополнительную информацию к зада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ить на вопросы, предполагающие многократное возвращение к условию с целью получить из него дополнительную информа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сть точку зрения или знания адреса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ь замысел и цели автора тек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0:24:03Z</dcterms:created>
  <dc:creator>Admin</dc:creator>
  <dc:description/>
  <dc:language>en-US</dc:language>
  <cp:lastModifiedBy>WORC</cp:lastModifiedBy>
  <dcterms:modified xsi:type="dcterms:W3CDTF">2002-01-01T03:59:59Z</dcterms:modified>
  <cp:revision>10</cp:revision>
  <dc:subject/>
  <dc:title>Слайд 1</dc:title>
</cp:coreProperties>
</file>