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A439-5161-48C0-B794-61865E0F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3E9D-CD89-4FFB-998A-F48EA0E2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777-25F1-49A5-A501-FCAAA168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083-790A-4CC8-92BB-27CC8C44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42C89-F337-486B-B66B-43BC6253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33BAF-E64D-4B17-842A-7BBF8392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0542F-9F14-4CDB-AB2E-F9C35B43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DEB80-399D-484C-A649-0BD03C11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BEBCD-265E-44AE-B416-D3D6F78D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DBC10-31DA-4B11-8909-6CE53FC3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87C7B-06B0-4AAD-946E-D44D2DB1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F965-73FB-4BB7-8424-59841DCF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A0065-1DD2-4F5B-8FB1-3F021B93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4F4C1-CC97-4005-9806-0022D56B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D16A1-3EE0-4222-AF31-A9FC6F49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FE7B2-C388-44AB-985D-3AD6555C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691D8-91A4-4D13-AD4F-EFEFD7FA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0BF5-A458-420D-B0C2-314E293F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70F-A930-42D7-849C-C63AE589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D96-EAFD-4DB6-8ABC-6E56A1A9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867-CA3C-4B06-87A2-14C75D2D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100-FA72-4804-92D2-110955EA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B0D-D3AB-4EEA-B0FA-8CE46279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0CD7-B256-488F-BF4B-3E70E5E5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3D4C-AC02-47C6-9678-A66F7B2E64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0E03-7957-4549-A530-0922FAE374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WordArt 7"/>
          <p:cNvSpPr txBox="1"/>
          <p:nvPr/>
        </p:nvSpPr>
        <p:spPr>
          <a:xfrm>
            <a:off x="1187280" y="404640"/>
            <a:ext cx="66978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ЧИСТОЙ ВОДЫ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WordArt 9"/>
          <p:cNvSpPr txBox="1"/>
          <p:nvPr/>
        </p:nvSpPr>
        <p:spPr>
          <a:xfrm>
            <a:off x="1071720" y="2500200"/>
            <a:ext cx="712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Жемчужина Байкал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Rectangle 26"/>
          <p:cNvSpPr/>
          <p:nvPr/>
        </p:nvSpPr>
        <p:spPr>
          <a:xfrm>
            <a:off x="4214880" y="4212720"/>
            <a:ext cx="4143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Учитель биологии, географии и химии МБОУ «Посольская СОШ» Кабанского района Республики Бурят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Хамуева Татьяна Никола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1240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В России 75 заказников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1,5 тыс. заказников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несколько тысяч памятников природы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22 национальных пар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1240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В Бурятии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3 (Баргузинский, Джергинский, Байкальский) заповедника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2 (Тункинский, Забайкальский) национальных парка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3 государственных природных заказников федерального значения и 17 заказников регионального знач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Comic Sans MS"/>
              </a:rPr>
              <a:t>ЗАЩИТА ОКРУЖАЮЩЕЙ СРЕД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09480" y="1752480"/>
            <a:ext cx="1981440" cy="106704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ниторин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228600" y="3657600"/>
            <a:ext cx="3809880" cy="99072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мотное потребле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утилизация отхо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943600" y="1752480"/>
            <a:ext cx="2514600" cy="106704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циональ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род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ь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124080" y="1752480"/>
            <a:ext cx="2286000" cy="106704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отходно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5181480" y="3657600"/>
            <a:ext cx="3657600" cy="99072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родосбережени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оровьесбереж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152280" y="5410080"/>
            <a:ext cx="8763120" cy="914400"/>
          </a:xfrm>
          <a:prstGeom prst="roundRect">
            <a:avLst>
              <a:gd name="adj" fmla="val 5000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блюдение международной системы природоохран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р и национальных норматив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2666880" y="2286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5486400" y="2209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1066680" y="2895480"/>
            <a:ext cx="15242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4114800" y="4191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6019920" y="2819520"/>
            <a:ext cx="121896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3048120" y="4724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6095880" y="4724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11004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Comic Sans MS"/>
              </a:rPr>
              <a:t>ЗАКОНЫ ЭКОЛОГ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Tahoma"/>
              </a:rPr>
              <a:t>ВСЕ СВЯЗАНО СО ВСЕМ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Tahoma"/>
              </a:rPr>
              <a:t>ВСЕ ДОЛЖНО КУДА-ТО ДЕВАТЬСЯ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Tahoma"/>
              </a:rPr>
              <a:t>ЗА ВСЕ НАДО ПЛАТИТЬ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Tahoma"/>
              </a:rPr>
              <a:t>ПРИРОДА ЗНАЕТ ЛУЧШ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332000" y="1052640"/>
            <a:ext cx="757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ff"/>
                </a:solidFill>
                <a:latin typeface="Comic Sans MS"/>
              </a:rPr>
              <a:t>«МЫСЛИТЬ </a:t>
            </a:r>
            <a:br>
              <a:rPr sz="5400"/>
            </a:br>
            <a:r>
              <a:rPr b="1" lang="ru-RU" sz="5400" spc="-1" strike="noStrike">
                <a:solidFill>
                  <a:srgbClr val="ff00ff"/>
                </a:solidFill>
                <a:latin typeface="Comic Sans MS"/>
              </a:rPr>
              <a:t>ГЛОБАЛЬНО,</a:t>
            </a:r>
            <a:br>
              <a:rPr sz="5400"/>
            </a:br>
            <a:r>
              <a:rPr b="1" lang="ru-RU" sz="5400" spc="-1" strike="noStrike">
                <a:solidFill>
                  <a:srgbClr val="ff00ff"/>
                </a:solidFill>
                <a:latin typeface="Comic Sans MS"/>
              </a:rPr>
              <a:t>А ДЕЙСТВОВАТЬ ЛОКАЛЬНО !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311004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Lake.wmv" descr=""/>
          <p:cNvPicPr/>
          <p:nvPr/>
        </p:nvPicPr>
        <p:blipFill>
          <a:blip r:embed="rId2"/>
          <a:stretch/>
        </p:blipFill>
        <p:spPr>
          <a:xfrm>
            <a:off x="-108000" y="0"/>
            <a:ext cx="108000" cy="71280"/>
          </a:xfrm>
          <a:prstGeom prst="rect">
            <a:avLst/>
          </a:prstGeom>
          <a:ln w="0">
            <a:noFill/>
          </a:ln>
        </p:spPr>
      </p:pic>
      <p:pic>
        <p:nvPicPr>
          <p:cNvPr id="91" name="Lake.wmv" descr=""/>
          <p:cNvPicPr/>
          <p:nvPr/>
        </p:nvPicPr>
        <p:blipFill>
          <a:blip r:embed="rId3"/>
          <a:stretch/>
        </p:blipFill>
        <p:spPr>
          <a:xfrm>
            <a:off x="9144000" y="0"/>
            <a:ext cx="108000" cy="71280"/>
          </a:xfrm>
          <a:prstGeom prst="rect">
            <a:avLst/>
          </a:prstGeom>
          <a:ln w="0">
            <a:noFill/>
          </a:ln>
        </p:spPr>
      </p:pic>
      <p:pic>
        <p:nvPicPr>
          <p:cNvPr id="92" name="Lake.wmv" descr=""/>
          <p:cNvPicPr/>
          <p:nvPr/>
        </p:nvPicPr>
        <p:blipFill>
          <a:blip r:embed="rId4"/>
          <a:stretch/>
        </p:blipFill>
        <p:spPr>
          <a:xfrm>
            <a:off x="9144000" y="6786720"/>
            <a:ext cx="108000" cy="71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7"/>
          <p:cNvSpPr/>
          <p:nvPr/>
        </p:nvSpPr>
        <p:spPr>
          <a:xfrm>
            <a:off x="755640" y="788400"/>
            <a:ext cx="79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5 декабря 1996 года в Мехико на заседании Юнеско по всемирному наследию было принято решение включить озеро Байкал в список участников Всемирного наследия. Это долгожданное решение начинает новую эпоху в охране озер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154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31100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0"/>
          <p:cNvSpPr txBox="1"/>
          <p:nvPr/>
        </p:nvSpPr>
        <p:spPr>
          <a:xfrm>
            <a:off x="395280" y="549360"/>
            <a:ext cx="8209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ую роль играет вода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природе и жизни человека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6400800" y="-109440"/>
            <a:ext cx="36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0"/>
          <p:cNvSpPr/>
          <p:nvPr/>
        </p:nvSpPr>
        <p:spPr>
          <a:xfrm>
            <a:off x="3443400" y="2255760"/>
            <a:ext cx="36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26"/>
          <p:cNvSpPr/>
          <p:nvPr/>
        </p:nvSpPr>
        <p:spPr>
          <a:xfrm>
            <a:off x="571680" y="528840"/>
            <a:ext cx="8208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cc"/>
                </a:solidFill>
                <a:latin typeface="Tahoma"/>
              </a:rPr>
              <a:t>¾ поверхности планеты покрыто водо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cc"/>
                </a:solidFill>
                <a:latin typeface="Tahoma"/>
              </a:rPr>
              <a:t>Общий объем водных запасов 1400000000 км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cc"/>
                </a:solidFill>
                <a:latin typeface="Tahoma"/>
              </a:rPr>
              <a:t>из них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cc"/>
                </a:solidFill>
                <a:latin typeface="Tahoma"/>
              </a:rPr>
              <a:t>97% соленая во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cc"/>
                </a:solidFill>
                <a:latin typeface="Tahoma"/>
              </a:rPr>
              <a:t>2,2% ледни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cc"/>
                </a:solidFill>
                <a:latin typeface="Tahoma"/>
              </a:rPr>
              <a:t>в атмосфере 0,2% вод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cc"/>
                </a:solidFill>
                <a:latin typeface="Tahoma"/>
              </a:rPr>
              <a:t>0,6% пресная во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cc"/>
                </a:solidFill>
                <a:latin typeface="Tahoma"/>
              </a:rPr>
              <a:t>10% мирового запаса пресной воды в о. Байка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311472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7"/>
          <p:cNvSpPr txBox="1"/>
          <p:nvPr/>
        </p:nvSpPr>
        <p:spPr>
          <a:xfrm>
            <a:off x="1258920" y="907920"/>
            <a:ext cx="6408720" cy="57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385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ДА -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8"/>
          <p:cNvSpPr txBox="1"/>
          <p:nvPr/>
        </p:nvSpPr>
        <p:spPr>
          <a:xfrm>
            <a:off x="179280" y="2133720"/>
            <a:ext cx="878544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ЕСУР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ТРАНСПОРТНАЯ СИСТЕ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СНОВА ЖИЗ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РАСТВОРИТЕЛЬ 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ПЕРЕНОСЧИК ВЕЩЕСТВ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ТЕРМОРЕГУЛЯТО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6400800" y="-906480"/>
            <a:ext cx="3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0" y="360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539640" y="1268280"/>
            <a:ext cx="806472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ЧЕМУ О. БАЙКАЛ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ЕСЛИ В СПИСОК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МИРНОГО НАСЛЕДИЯ ?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Сточные воды,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-нефтяное загрязнение,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-кислотные дожди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-радиоактивное загрязне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ФАКТОРЫ ЗАГРЯЗНЕНИЯ ГИДРОСФЕР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Экологические проблемы Байка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omul[2]"/>
          <p:cNvPicPr/>
          <p:nvPr/>
        </p:nvPicPr>
        <p:blipFill>
          <a:blip r:embed="rId1"/>
          <a:stretch/>
        </p:blipFill>
        <p:spPr>
          <a:xfrm>
            <a:off x="5975280" y="1413000"/>
            <a:ext cx="3168720" cy="5445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1_large"/>
          <p:cNvPicPr/>
          <p:nvPr/>
        </p:nvPicPr>
        <p:blipFill>
          <a:blip r:embed="rId2"/>
          <a:stretch/>
        </p:blipFill>
        <p:spPr>
          <a:xfrm>
            <a:off x="0" y="1371600"/>
            <a:ext cx="2857680" cy="5486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2857680" y="1357200"/>
            <a:ext cx="3143160" cy="2830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4"/>
          <a:stretch/>
        </p:blipFill>
        <p:spPr>
          <a:xfrm>
            <a:off x="2857680" y="4143240"/>
            <a:ext cx="31431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395280" y="260280"/>
            <a:ext cx="81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ahoma"/>
              </a:rPr>
              <a:t>Основные угрозы сохранению всемирного наследия озера Байкал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42920" y="1413000"/>
            <a:ext cx="8786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Уничтожение лесов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вследствие пожаров и вырубок в водосборном бассейне озе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Разрушение и загрязнение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побережье под воздействием 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туризма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(мусор, незаконное строительство, разрушение почвенного покро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Загрязнение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акватории озера за счет сброса 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отходов </a:t>
            </a:r>
            <a:r>
              <a:rPr b="1" i="1" lang="ru-RU" sz="2800" spc="-1" strike="noStrike">
                <a:solidFill>
                  <a:srgbClr val="c00000"/>
                </a:solidFill>
                <a:latin typeface="Tahoma"/>
              </a:rPr>
              <a:t>с водного транспорта , 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хозяйственно-бытовыми  и промышленными стоками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Браконьерст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2:15:25Z</dcterms:created>
  <dc:creator>Ксения</dc:creator>
  <dc:description/>
  <dc:language>en-US</dc:language>
  <cp:lastModifiedBy>класс9</cp:lastModifiedBy>
  <dcterms:modified xsi:type="dcterms:W3CDTF">2013-12-20T01:38:02Z</dcterms:modified>
  <cp:revision>19</cp:revision>
  <dc:subject/>
  <dc:title>Географическое положение озера Байкал</dc:title>
</cp:coreProperties>
</file>