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2AD-E828-4178-A991-9B882F6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7CB-C1C0-4C83-A419-41EA5D3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5A4-BA77-40A9-B447-F22E0E1B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822-D2EF-4017-B086-9E181A78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E98-0051-4AA7-950C-AC852D77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51BB-A271-40C0-BF4C-CE727B0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4102-9193-498F-A372-E7203A8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2BB-EAB0-4A63-97EC-995D945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6142-DBB6-478C-828C-9CE8E81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0FA1-E6DA-473A-82D6-30464747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A5CB-76D6-48BF-8E26-640E7299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480-0397-4673-90C8-8641310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FB9-DCE1-4E4A-AB35-37A8ACB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198-5C2F-4745-84CC-F66C05D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1861-1FC6-4E8C-A269-ECC2DE2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A1EB-706A-4B20-BA13-DA55518E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381-54CF-4FEC-B3CF-3997FE6F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172-6766-4E69-BE46-90CDA33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F21-2757-4F57-A857-E8B6A0BA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15E-D346-45D3-8071-08DEE27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A84-E7DB-4F0F-9083-C5A4FFF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2AD-C322-452D-918D-B77C73E6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4AF-99B3-4B97-ABD8-9A8A17C6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4DA-A3D5-44B7-9729-D65E3BD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85A7F8-E15C-4480-A7A5-64FEE554FAC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7C0154-C560-4E35-AE74-16F6D5E1331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Кроноцкий государственный природный биосферный заповедни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4864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Book Antiqua"/>
              </a:rPr>
              <a:t>Территор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483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лощадь заповедника составляет: всего - 1 147 619,37 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 том числе: </a:t>
            </a:r>
            <a:r>
              <a:rPr b="0" i="1" lang="ru-RU" sz="2400" spc="-1" strike="noStrike">
                <a:solidFill>
                  <a:srgbClr val="ffffff"/>
                </a:solidFill>
                <a:latin typeface="Bookman Old Style"/>
              </a:rPr>
              <a:t>лесная площад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— 660 380,37 га, </a:t>
            </a:r>
            <a:r>
              <a:rPr b="0" i="1" lang="ru-RU" sz="2400" spc="-1" strike="noStrike">
                <a:solidFill>
                  <a:srgbClr val="ffffff"/>
                </a:solidFill>
                <a:latin typeface="Bookman Old Style"/>
              </a:rPr>
              <a:t>нелесная площад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— 352 239 г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okman Old Style"/>
              </a:rPr>
              <a:t>морская акватория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— 135 000 га, ширина морской акватории- 3 морских мили (5586 м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рия образования заповедни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Заповедник образован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1 ноября 1934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года на месте существовавшего с 1882 года “Соболиного заказник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1951 году был ликвидирован. В 1959 году на основании постановления Совета министров РСФСР от 1 июня 1959 восстанов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1961 году заповедник ликвидирован втори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29 июля 1966 год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Кроноцкий государственный заповедник восстановлен в прежних границ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споряжением Совета Министров РСФСР от 15 октября 1982 года Кроноцкому государственному заповеднику приписано 135 тыс. га прибрежной акватори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Book Antiqua"/>
              </a:rPr>
              <a:t>Задачи заповед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существление охраны природных территорий в целях сохранения биологического разнообразия и поддержания в естественном состоянии охраняемых природных комплексов и объек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рганизация и проведение научных исследований, включая ведение Летописи приро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существление экологического мониторинг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экологическое просвещ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участие в государственной экологической экспертизе проектов и схем размещения хозяйственных и иных объек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содействие в подготовке научных кадров и специалистов в области охраны окружающей природной ср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Book Antiqua"/>
              </a:rPr>
              <a:t>Уникальные объекты заповедни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735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914400" y="1905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оноцкое озеро</a:t>
            </a:r>
            <a:endParaRPr b="1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362320"/>
            <a:ext cx="762120" cy="838080"/>
          </a:xfrm>
          <a:prstGeom prst="line">
            <a:avLst/>
          </a:prstGeom>
          <a:ln cap="sq" w="4428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971800" y="60958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емячикский лиман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208240" y="6246360"/>
            <a:ext cx="612720" cy="79560"/>
          </a:xfrm>
          <a:prstGeom prst="line">
            <a:avLst/>
          </a:prstGeom>
          <a:ln cap="sq" w="4140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76720" y="525780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улкан Большой Семячик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207880" y="5486400"/>
            <a:ext cx="841320" cy="1440"/>
          </a:xfrm>
          <a:prstGeom prst="line">
            <a:avLst/>
          </a:prstGeom>
          <a:ln cap="sq" w="4140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4267080"/>
            <a:ext cx="18288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лина гейзеров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436480" y="4648320"/>
            <a:ext cx="841320" cy="228600"/>
          </a:xfrm>
          <a:prstGeom prst="line">
            <a:avLst/>
          </a:prstGeom>
          <a:ln cap="sq" w="4140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2280" y="3657600"/>
            <a:ext cx="22100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льдера вулкана Узон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4038480"/>
            <a:ext cx="380880" cy="533520"/>
          </a:xfrm>
          <a:prstGeom prst="line">
            <a:avLst/>
          </a:prstGeom>
          <a:ln cap="sq" w="4140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2880" y="297180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шевские горячие источники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89160" y="3429000"/>
            <a:ext cx="384120" cy="380880"/>
          </a:xfrm>
          <a:prstGeom prst="line">
            <a:avLst/>
          </a:prstGeom>
          <a:ln cap="sq" w="4140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00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Book Antiqua"/>
              </a:rPr>
              <a:t>Флора Кроноцкого заповедника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Флора заповедника не только почти на 100% представляет флору Восточной Камчатки, но и содержит в своем составе небольшое число видов, свойственных скорее Центральной Камчат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На территории 37 видов отнесено к числу редких и охраняемых на территории Камчатского кра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495680" y="1143000"/>
            <a:ext cx="4281480" cy="4799160"/>
            <a:chOff x="4495680" y="1143000"/>
            <a:chExt cx="4281480" cy="47991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4495680" y="1143000"/>
              <a:ext cx="428148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495680" y="1143000"/>
              <a:ext cx="4281480" cy="47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Book Antiqua"/>
              </a:rPr>
              <a:t>Фауна Кроноцкого заповедн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Из млекопитающих здесь водятся соболь, лось, горностай, снежный баран, бурый медведь, рысь, белка и др. Здесь же располагаются лежбища ластоног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Наиболее важна роль заповедника в сохранении бурого медведя: здесь обитает крупнейшая в России охраняемая дикая популяция этих животных (около 700 особей), что обеспечивает их стабильную сохранность на полуостр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Дикий северный олень в настоящее время сохранился только на территории заповедника, и судьба этого вида зависит от сохранности популяции на заповедной терри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876920" y="1447920"/>
            <a:ext cx="3959280" cy="4798800"/>
            <a:chOff x="4876920" y="1447920"/>
            <a:chExt cx="3959280" cy="47988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4876920" y="1447920"/>
              <a:ext cx="3959280" cy="47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76920" y="1447920"/>
              <a:ext cx="3959280" cy="47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5-19T17:23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