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B3F-1ED2-43A3-B918-E77EBE32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0ED-F715-47B6-B06C-D39D7B39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4F4-7F9D-4C29-BDBB-96135466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5C6-43DD-46A3-99E8-7515B484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A4E7-E444-4467-B34B-B292DEA4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D8D-45C9-4CFB-9C36-0AE4A12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98CD-2667-4117-8EE7-4CB82A8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B4A2-E9B0-4E1C-896B-E47099D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AF42-5DC5-44E7-AA3E-21E8B663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2601-3D5B-4630-ADE4-EED61ECD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D9FB-1C44-48CD-B48B-8558BF7D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5E24-EFEC-431D-9EA7-5A1BC537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938-C9D4-42B9-BD5E-A26413D0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AB29-A169-4786-99B7-3235726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38B8-D121-49B6-9891-FCAC21EE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A335-B026-432D-90A9-0A3F9B49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8A32-A70D-4EBC-AC96-F482DC05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722-DD10-4548-B174-01940EA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AC0-72F7-4035-B3A7-747E9E60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196-4376-4012-BFA8-458FAE7A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369-802F-4C56-BE64-04D0A3D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426-9BBF-414A-AA5F-12314E5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0F5-560E-4027-A82F-87A5C2B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A3F-D7E8-440F-84D4-8AEB5BC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727E-1C16-435C-840F-3B8B6CBB86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600-79B8-4ABF-9F90-E2D6F29634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40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"Не жалейте сердца…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Добру откроются сердца"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езентацию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одготови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лассный руководитель 7 класса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: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Чуенкова Нина Владимировн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МОУ  «Урусовская сош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Ртищеского района Саратовской области 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оспитание потребности  в деятельности на пользу людям, стремление совершать добрые дела через формирование этических норм поведения в обществе и общения друг с другом, развитие эмоционально-ценностной сферы обучающихся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900000" y="1052640"/>
          <a:ext cx="7751880" cy="4725720"/>
        </p:xfrm>
        <a:graphic>
          <a:graphicData uri="http://schemas.openxmlformats.org/drawingml/2006/table">
            <a:tbl>
              <a:tblPr/>
              <a:tblGrid>
                <a:gridCol w="1811520"/>
                <a:gridCol w="2652480"/>
                <a:gridCol w="1584360"/>
                <a:gridCol w="1703520"/>
              </a:tblGrid>
              <a:tr h="9205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ндиви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рганиз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индивидуа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20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Homo Sapiens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динично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риродное существо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ринадлежность к роду человеческо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Голов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Рук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ог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ердц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истема пищеварения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истема кровообра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Рост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ес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Голос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очерк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оходка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неш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амоуважен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ебялюб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воевание симпат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214200" y="738000"/>
            <a:ext cx="86439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Может быть, именно поэтому в старой азбуке буквы алфавита обозначались самыми близкими человеку словам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емля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Л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Люд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М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Мы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бро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Азбука как бы призывала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Люди Земли, Мыслите, Думайте и Творите Добро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85800" y="285480"/>
            <a:ext cx="77724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испанском языке оно означает способность признавать отличные от своих собственных идеи или мн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 французском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 английском – готовность быть терпимым, снисходительны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 китайском – позволять, принимать, быть по отношению к другим великодушны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 арабском – прощение, снисходительность, мягкость, милосердие, сострадание, благосклонность, терпение, расположенность к други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 русском – способность терпеть что-то или кого-то (быть выдержанным, выносливым, стойким, уметь мириться с существованием чего-либо, кого-либ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помни эти стро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обрые слова – корн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обрые мысли – цве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обрые дела – пло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Добрые сердца – сады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дорога добра.mp3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442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8:57:51Z</dcterms:created>
  <dc:creator>1</dc:creator>
  <dc:description/>
  <dc:language>en-US</dc:language>
  <cp:lastModifiedBy>Admin</cp:lastModifiedBy>
  <dcterms:modified xsi:type="dcterms:W3CDTF">2015-03-04T08:34:56Z</dcterms:modified>
  <cp:revision>6</cp:revision>
  <dc:subject/>
  <dc:title>Добру откроются сердца</dc:title>
</cp:coreProperties>
</file>