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926-596A-4ECF-B077-38190D8C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BA5-FDB1-417A-ABB6-96DCCDCD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DF81-52CE-433E-A037-CDEDAC3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4961C-1AE5-4493-BEF8-743F893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33BFB-E39F-4E70-BA4E-30B6B619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11739-527B-4519-976B-2371BE9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1AA84-6A03-4339-9B8A-FB67E7D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03D73-FEAF-4F56-B7CF-F2BC98A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ABEA4-A915-426F-A20D-73C5BFD4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1B38C-25D0-4C9A-9527-104A79EA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7237B-5CD0-4953-8305-E5D24AC0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AF0C4-6729-4732-A90C-41F6BB9B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9AE-3E5B-47E1-806B-FC53C557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D8AA-1524-4721-9682-A671966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E716E-ACE6-4673-86ED-8EC545C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7C317-C0D8-4F54-89F6-C55DA79E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6D6E1-7908-4898-B14B-9DB01BE5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1304-6800-4171-BB3D-14CBB78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9737-DF0C-4C39-BAC7-334D830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FED4F-6496-4783-9361-6561F39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16F2-2ABB-4461-82D7-E83DFFA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1F5B1-98D1-47B7-8AA5-48F4B80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C853A-75B8-4457-84E6-75611763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C31-4D7F-4B31-9605-247C33F0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F450E-2B34-4FA1-BA47-962900C5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99CA4-E2AB-42F1-8D0E-E54C920C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CB576-2289-4F08-A993-1E85A62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53BF-01E9-4DD8-A368-68605CA1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5A725-4D46-4269-B205-B26DFD5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835DD-E1B8-4FFF-B9B8-4B0023A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00973-BBEC-4711-9C8D-F694D6F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15663-C4C8-4ED3-A9DD-32C73AB2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B749-3E67-415D-A8B5-57B6E1B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E5C8F-E236-407F-8B49-2CB460D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651-120A-4EEF-9499-5DEC336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419CF-7084-45AD-B4E2-25B8AB94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31303-968A-491B-8DD1-FC00EEB3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429C5-FF16-4881-8CFD-220384B8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935EB-6341-43F8-8E22-DD954264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64CDF-F4AF-49FD-BE95-ADA2038C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400D3-3240-45A2-9A5A-194C33B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89E7-073E-4234-B4A8-52FF8B04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4742F-36F0-4666-949E-D84053C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77485-EFC0-4864-AC4D-34F6649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BA0A9-F716-4394-8C1A-E7D35DA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7C5-1315-40EF-8040-D9CA9A4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B11B0-5671-4092-89F8-0D533C0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2877E-059D-41AA-94F2-5426D966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355C3-9814-49A2-8C9B-A0FF9B3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184AC-855F-4489-AFF6-49A01FD5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C905-9714-4A3C-895D-69D00349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60AFC-899F-4266-959A-8C081B31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3A462-9D31-4E4A-BB9D-7355E4F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4E82A-D347-4BBD-A646-E58F2AD9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C20AE-9760-4A79-B52F-1C07FBC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60FAA-DD9E-4D2B-BB79-DB081E8D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95AD-CCB5-4F36-962A-9A97C78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AAE25-1258-421B-8BD3-351F5CA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C1735-00D4-4410-952F-90D8BC4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AE634-7D3D-4CFF-8037-77750A7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E704-EFAA-4376-906E-D6A6365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3C52D-0C94-4598-ACE4-0E20D30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7BE26-12EE-4A5A-996D-84B80F9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4B68C-8796-4C64-BC26-9F5F3A7F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B648E-4985-4343-82F4-5AD37A3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C638F-98DC-45C7-A065-E42B5A9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B2635-8C30-4296-A702-4C5B754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F55B-2A23-4DEF-BA86-669918FE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6942E-5CBB-4CBB-82F2-81E1FBAE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EBA5B-354B-4128-9DC2-6F3ABC4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47CE3-486D-4A47-AA4C-D0E7CEC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CD255-8B7B-4686-856E-FA74713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F8093-9108-44BE-ABE3-186C3F5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C03DF-1667-492D-854E-BE3C541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032FA-A972-41BE-A609-A44D6C0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0D5F2-81DE-4C37-984A-177F8423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9E52E-8426-4590-99CE-CFBBB7F2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C7AF-760E-4EF1-A4B7-C07275CA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F745-8068-4570-BFF2-C334F23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0806-E924-48BD-97E8-5B052C1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391-D94D-4384-A47B-285D684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E5C5-60D5-40C7-947C-6D54B18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E4C-6A51-45A0-9911-7F950BA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CEC-9BD0-4F47-B620-CB3D09D8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19D-5F07-44C3-A3F5-8D93D89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AEFC-FA75-4706-9368-4EABF59D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5326-6470-44D1-8E15-2C25B177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9CB3-C6C9-4431-87B9-7686B147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F42A-ED55-4C37-BE08-7DDE5021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459D-3156-426D-8298-A563229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EB5E-0B10-4D16-AF17-67778E9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77B-971F-4129-B38F-44DF92A4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EEC0-4FC4-4D98-8B4E-1252C7DA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95D7-98FB-471F-9426-2140747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F5EA-C662-4F87-AAAC-585130B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0877-BE3C-437E-B170-DA4027B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2D03-BB0B-4D9B-910D-78EF2BA0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C698-A6AD-44B4-919F-7B3D6C4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48B48-DE6C-4E98-9C6C-CCCC6A0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EFCE-D4E4-4FB0-8C92-4B3FD3E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B35C-D94C-4FA2-AA84-6F06F2A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31AB-E853-48AB-93FB-3391177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327-6226-492E-8E6B-A51A5CB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DBC1-2260-423A-BCD1-408CC13F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C945-B0BB-4C82-BD3A-38759E1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7C2F-AB52-4D03-8A2F-56081106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12BE-3C71-4C73-97EC-4958C404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4610-4EC0-4DEE-97C7-429B71F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3BCB-7635-4CBC-BD2D-7853185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24F7-ACE5-4BFB-9269-8BDBE397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1263-AC91-41C0-847F-B90F1C6B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193C-4E91-4BEF-8113-7C20A73D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58A8-46BA-45B6-B9D9-89AA1E96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A58-1A5D-426E-A1DE-0C6D757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9EBF-1A9E-4BF2-8FB0-B25B10A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2ED1-C329-4071-BA38-0512028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37F6-3EA6-4ED8-A80D-186039B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D68A-0C8C-44F3-9834-804D57A0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22BD-DA45-428F-89D7-75E3748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CBA6-42BD-4EF6-B07D-306AF5E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AF5C-C934-40F3-A57A-8959EFC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5BFC-D9A2-4C79-B1D5-E95C4AA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FB88-A921-46FA-8C32-3E943D1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BF58-5DB2-4A7F-9DE0-8A174739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C40-B508-4B2A-A717-B8085AF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1A6F-1351-4023-825E-0DC6FCC1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48AE-911B-4A81-BD3B-63D8F74B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AD5E-FBE1-442E-BAC2-0131224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C1EC0-ECFF-4F4E-B836-FC24477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93C1-380F-4020-A655-9880BB5F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F5E8C-8A75-496A-A4AD-810ED60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5E45-CF39-4118-9A64-52C313D1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CCBD-71A2-453E-9110-9B22CF4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7C8C-E7AE-45E3-A5E8-C938C56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0FAA0-D279-45E0-ADE3-FBCBB3E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EBC-2F08-49FB-AAAC-D433692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A283-AFAD-4F6A-87A6-D78F661D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3195-44B6-4558-8414-3D4A535E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66C1-39A3-4D85-B454-1A165443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60F6-8160-43C2-AF23-20FEF3A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E94A-569C-4845-84B4-014DBED8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48F8-0293-41DC-8D2F-553BB59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48CD-1A50-49AE-AE98-BEC071F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DF44-3C8F-4B98-83AC-96856E2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C232-DEA0-49CC-B933-C975F69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F4EE-F2E6-42CE-B62B-0EDE4AA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272-0E5B-44F0-82B7-05045D7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20D8-E0BF-40F8-BA8B-0AF8DD5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2EA30-1266-45BF-AD65-DC4CC615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D99D-8A45-4BCF-9D9A-337848A3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E753C-DD62-4FCD-AFC1-8A4654ED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1705-56B9-4EA6-9AB0-42EB763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F833-FB28-4D12-9CCA-905B4E5A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38CDF-2FDE-4255-94AA-F5B60C36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107B-9AB9-45A9-8BFD-9A68B8AF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B171-D71C-45C3-944D-21A6F445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4DB09-1F32-4119-9720-E3F81CA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E4-3E5A-4254-8A2E-68B5C92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DB1D-882B-4C72-AB0E-0E33D957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4AE1D-3D5C-47E5-81DB-B8E2B4D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A81C-794C-49E5-ABA0-0D32D28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EB020-BA16-42B7-9672-766CAA0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BAC6-A987-4EEA-8703-93748D5C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7CCC5-9AE3-4394-AFC3-86A9A0A2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88AF-1D33-4C54-8F65-648E01E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F4BBA-4F5E-46E4-B09A-6D60B3C5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04AC8-D49B-4817-A497-EAF0FA96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2A30-79D1-41EF-89F3-2FBFCAB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618-0B3E-45D6-A3FC-1046BE7517A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F5F-5997-4469-B357-8486ABB866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292-D38B-44DF-A7FE-53F3F328187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59F-A253-4056-9FDE-4E89A9D05F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40C-0A7F-40A3-AA0E-857ADD1924B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AB9-30E5-401E-A086-DE39054EAC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96A-0C0E-4EFB-998F-524E284A0B9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EA9C-33B7-4A5F-9B88-46FE6B1B0D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030-AA32-4B6F-8BCB-DA733656145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FC6-8A36-4B78-A6D5-5326257A85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F4B1-2ED9-48A2-B57A-049078F4B30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F7AC-4B86-4B6D-994A-6A243238B1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7D4-CF2F-4C2E-8C83-C315C9E5E30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CA2-DA47-464B-89B1-4BE5C30448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A97-62E6-466D-B1B9-A779488EA61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4B9-68F5-4095-80F0-8833802E92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D8E-1D0F-4DF7-89F7-5B3FACEE79B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C37-2AC6-4FE2-965D-FE17B592A8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32EB-A2BF-4BFD-B946-74AF35F06F8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450-F955-4604-85C5-09B99B29FC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0E03-BF85-4B10-B6F2-D9C08F27441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55D-DC15-40CF-AB02-1B94CF3FD0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8B8-62CA-45B9-B8FB-978974CEC6B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5A4-9E45-4479-85A1-778AFAF1AD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66B-6844-4674-89D9-FB3A3E15CF0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CC4-5A95-4534-8A76-4AFFFE82DF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93F-2373-431C-A752-C70BEE5F880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6589-2B35-4DD8-B76A-4914D1ABF7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066080" cy="128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800000"/>
                </a:solidFill>
                <a:latin typeface="Monotype Corsiva"/>
              </a:rPr>
              <a:t>Классный час</a:t>
            </a:r>
            <a:endParaRPr b="1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856800" y="2356920"/>
            <a:ext cx="7753320" cy="32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990000"/>
                </a:solidFill>
                <a:uFillTx/>
                <a:latin typeface="Arial"/>
              </a:rPr>
              <a:t>«О чём может рассказать дневник школьника?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99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42480" y="9284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Дневник – это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57160" y="1981080"/>
            <a:ext cx="8058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ронологическая запись каких-либо событий из жизни одного человека или коллек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итературная форма повествования, последовательно излагающая события личной или общественной жизни человека, от имени которого ведётся расс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(большая энциклопе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4200" y="609480"/>
            <a:ext cx="87012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6600ff"/>
                </a:solidFill>
                <a:latin typeface="Arial Narrow"/>
              </a:rPr>
              <a:t>Школьный дневник – </a:t>
            </a:r>
            <a:r>
              <a:rPr b="1" lang="ru-RU" sz="6500" spc="-1" strike="noStrike">
                <a:solidFill>
                  <a:srgbClr val="6600ff"/>
                </a:solidFill>
                <a:latin typeface="Arial Narrow"/>
              </a:rPr>
              <a:t>это основной документ обучающегося.</a:t>
            </a:r>
            <a:endParaRPr b="1" lang="en-US" sz="6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94" name="Rectangle 5" descr=""/>
          <p:cNvPicPr/>
          <p:nvPr/>
        </p:nvPicPr>
        <p:blipFill>
          <a:blip r:embed="rId1"/>
          <a:stretch/>
        </p:blipFill>
        <p:spPr>
          <a:xfrm>
            <a:off x="579600" y="781200"/>
            <a:ext cx="8570880" cy="503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100000">
              <a:srgbClr val="ff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915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c6bff"/>
                </a:solidFill>
                <a:uFillTx/>
                <a:latin typeface="Arial Narrow"/>
              </a:rPr>
              <a:t>Правила работы с дневником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48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Делать записи в дневнике так, чтобы другим людям было приятно его читат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одержать дневник в чистоте, чтобы было приятно брать его в рук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Всегда своевременно и без лишних напоминаний предъявлять его для подписи родителя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тараться не допускать грамматических ошибок в записях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Своевременно заполнять все графы дневника, как того требует классный руководитель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595959"/>
                </a:solidFill>
                <a:latin typeface="Arial"/>
              </a:rPr>
              <a:t>Не забывать и намеренно не оставлять его дома, чтобы избежать плохих отметок в дневни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893000" y="1994040"/>
            <a:ext cx="34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12">
            <a:hlinkClick r:id="rId1" action="ppaction://hlinksldjump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8000"/>
              </a:solidFill>
              <a:latin typeface="Arial Narrow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756720"/>
            <a:ext cx="91440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е давайте близким на ночь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Школьный свой дневник читать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Будут их потом кошмары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Часто мучить по ночам.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Станет мама заикаться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Папа дергаться начнет,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Доктора такое чтенье</a:t>
            </a:r>
            <a:endParaRPr b="1" lang="en-US" sz="44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Запрещают перед сном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.</a:t>
            </a:r>
            <a:endParaRPr b="1" lang="en-US" sz="1200" spc="-1" strike="noStrike">
              <a:solidFill>
                <a:srgbClr val="008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	</a:t>
            </a:r>
            <a:r>
              <a:rPr b="1" i="1" lang="ru-RU" sz="12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                                                     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Г. Остер</a:t>
            </a: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 Narrow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66"/>
            </a:gs>
            <a:gs pos="100000">
              <a:srgbClr val="ff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616716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14200" y="428400"/>
            <a:ext cx="8461440" cy="60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4"/>
          <p:cNvGraphicFramePr/>
          <p:nvPr/>
        </p:nvGraphicFramePr>
        <p:xfrm>
          <a:off x="2143080" y="214200"/>
          <a:ext cx="4857840" cy="61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14200"/>
                    <a:ext cx="4857840" cy="61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600120" y="30099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Спасибо за работу!</a:t>
            </a:r>
            <a:endParaRPr b="1" lang="en-US" sz="6000" spc="1" strike="noStrike">
              <a:ln w="9360">
                <a:solidFill>
                  <a:srgbClr val="cc33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52:10Z</dcterms:created>
  <dc:creator>Елена</dc:creator>
  <dc:description/>
  <dc:language>en-US</dc:language>
  <cp:lastModifiedBy>Y</cp:lastModifiedBy>
  <dcterms:modified xsi:type="dcterms:W3CDTF">2013-10-21T19:05:10Z</dcterms:modified>
  <cp:revision>19</cp:revision>
  <dc:subject/>
  <dc:title>Бушуева Елена Васильевна</dc:title>
</cp:coreProperties>
</file>