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751-4ADD-4FFA-8710-5053C0C5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2C0-CA4E-45EE-8A18-9E056665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021-1AB2-4525-94C2-2139E7D8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CFF-7B4A-4BD6-8752-FA7DF058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E22-174C-455F-89EC-CFA6194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7C1-D4FD-4CA9-B4CA-B8FDE93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C95-348C-4A3A-A96B-7827C47C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F96-6419-4005-9D7F-C1FBC739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63D-1CF8-4273-AEFA-D7EDA43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34B-4397-49B0-B61E-6487CBB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0BA-7991-46ED-9F5E-63682EB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54E-4875-45CD-BD85-960F19E1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C82D-C973-42AF-A4BD-8855040C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Федор Михайлович 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Достое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5533920" cy="3321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599920" y="1905120"/>
            <a:ext cx="396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Arial"/>
              </a:rPr>
              <a:t>(1821 – 188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920" y="2971800"/>
            <a:ext cx="250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публиц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кр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41120" y="6284880"/>
            <a:ext cx="43243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Перов. Портрет Ф.М.Досто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715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каторге Достоевский, впервые близко столкнувшись с народом, был поражен, когда увидел, с какой ненавистью обитатели острога относятся к дворянам.  Мысль о трагическом разъединении с народом стала одним из основных аспектов духовной драмы Достоевского. Постепенно писатель приходит к мысли о том, что передовая интеллигенция должна отказаться от политической борьбы, от попыток пробудить сознательность народных масс, поднять их до уровня понимания прогрессивных политических программ. Интеллигенция сама должна пойти на выучку к народу и воспринять его взгляды и моральные идеалы, главными из которых он считал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лубокую религиозность, смирение и способность к самопожертвов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ую борьбу он стал считать величайшим заблуждением и противопоставлял ей морально-этический путь перевоспитания человека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895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100000">
              <a:srgbClr val="c674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6400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родить Россию, спасти угнетенный народ можно, лишь возвратившись «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 высшим духовным ценностям добра, любви и милосердия, известным еще с библейских време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ить людей может христианская религия с её идеями братства и взаимного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Нет ничего прекраснее, глубже, симпатичнее, разумнее, мужественнее и совершеннее Христа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Достоевск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349200">
            <a:off x="6629040" y="380880"/>
            <a:ext cx="2190600" cy="31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0" y="4191120"/>
            <a:ext cx="6477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54 -1859 г.г. – солдатская служ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емипалати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855 году произведен в унтер-офиц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857 году – венчание с М.Д.Иса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1049200">
            <a:off x="6629040" y="3504960"/>
            <a:ext cx="2141640" cy="31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440" y="5715000"/>
            <a:ext cx="63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59 г. – «Дядюшкин сон», «Село Степанчиково 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итател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ображение русской провинции и дерев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72280" y="1447920"/>
            <a:ext cx="3771720" cy="2828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30040" y="155520"/>
            <a:ext cx="652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59 год – возвращение в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дание журналов «Время»(1861-186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Эпоха»(1864-1865), «Гражданин»(187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080" y="1600200"/>
            <a:ext cx="59018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1год – «Униженные и оскорбленн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еобразная личная исповедь  Достоевск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го    воспоминания   о    начале    сво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орческого  пути,   неутихающая    б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  униженного  и   поруганного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весь роман проходит мысль о 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в мире, где господствует власть дене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стокость  и   угнетение,   един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ой   «униженных  и   оскорблё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 всех   жизненных    невзгод  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атская помощь друг другу, любовь и со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сатель призывает бедных людей не к борьб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м злом, а  к  отстранению  от   учас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еправедной жизни, к уходу  в свой замкнутый ми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уководствоваться христианским учением о люб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ближнему и всепро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5181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202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60-1861 г.г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–«Записки из Мертвого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тины русской каторги. Мир закоренелых преступников, в которых автор сумел найти что-то человече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Записки…» - «страшная книга»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.И.Герц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971800" cy="212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97180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718200">
            <a:off x="5028840" y="1905120"/>
            <a:ext cx="3886200" cy="2828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352680" y="1981080"/>
            <a:ext cx="193068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067560" y="5105520"/>
            <a:ext cx="606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И сколько в этих стенах погребено напрасно молод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колько великих сил погибло здесь даром!...  Ведь  э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жет быть, и есть самый даровитый, самый  си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род из  всего  народа  нашего.    Но    погибли    да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гучие    силы,    погибли    ненормально,     незакон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езвозвратно. А кто виноват? То-то, кто виноват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100000">
              <a:srgbClr val="c674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6019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1962 года Достоевский впервые выехал за границу (Германия, Италия, Франция, Швейцария. Лондон). Свои впечатления от заграничного путешествия Изложил в цикле очерков «Зимние заметки о летних впечатлениях» (1863), в которых высказал мысль, что Европа утратила способность к развитию, что у неё нет будущего, что там никогда не восторжествуют идеи социальной справедливости, поскольку люди, живущие на Западе, в силу господства в их среде эгоистических и индивидуалистических начал, лишены стремления к братству. Такие стремления, считал писатель, есть только в России, где народные массы, не утратив своего исконного тяготения к общинным началам, сохранили «всемирное боление за всех», и поэтому только Россия может указать Западу путь к общечеловеческому единению и братст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841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100000">
              <a:srgbClr val="c674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66 год – «Преступление и наказ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ой романа мучается при виде преступлений, безнаказа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ающихся у него на глазах. Остаться безучастным он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ет.   И вот у  него появляется  мысль, осущест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ой  требует переступить через зак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34440" y="1295280"/>
            <a:ext cx="1609560" cy="239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022480" cy="2571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514600" y="2895480"/>
            <a:ext cx="257652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3400560" cy="230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55880" y="5867280"/>
            <a:ext cx="48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омане поставлены социа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равственные, философские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4480" y="5638680"/>
            <a:ext cx="870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ман Достоевского – суровый приговор общественному стр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анному на власти денег, на  унижении  человека, стра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упление в защиту человеческ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680" y="2209680"/>
            <a:ext cx="25534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анро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м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6960" y="1001880"/>
            <a:ext cx="17809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23160" y="1752480"/>
            <a:ext cx="198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98040" y="2489040"/>
            <a:ext cx="2384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75080" y="3276720"/>
            <a:ext cx="20430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тербург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93840" y="4317840"/>
            <a:ext cx="3050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ман - опровер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743200" y="1294920"/>
            <a:ext cx="2209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43200" y="1980720"/>
            <a:ext cx="2133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19520" y="274284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2767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7632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«Я убежден, что ни единый из литераторов наших, бывших и живущих, не писал под такими условиями, под которыми я постоянно пишу…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Досто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1864 году не стало жены, старшего брата Михаила, друга и единомышлен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1867 году Ф.М.Достоевский женился на А.Г.Снитк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88000" y="457200"/>
            <a:ext cx="1882800" cy="297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9430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3086280" cy="2314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429000" y="54100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нна Григо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нит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228960" y="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8 год – «Иди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ига о прекрасном человеке князе Мышкине, оказавшемся в мире, где царит беспредел, культ денег, где люди не знают жалости, не понимают добро. Князь готов помочь страждущим, но, к сожалению, ничего не может сделать, он бессилен перед окружающим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79-1880 г.г. – «Братья Карамазов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лософский роман о смысле человеческой жизни, добре и зле, атеизме и религии. Духовная биография автора, его идейный и жизненный путь от атеизма в кружке Петрашевского (Иван Карамазов) до верующего человека (Алеша Карамазов). Отрицание идеи «вседозволенности» (Смердяк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524400">
            <a:off x="6781320" y="228240"/>
            <a:ext cx="1354320" cy="2362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2971800" cy="222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-152280" y="6019920"/>
            <a:ext cx="4572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71-1872 г.г. – «Бе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75 год – «Подро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800000" cy="239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315200" y="1828800"/>
            <a:ext cx="1606680" cy="219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12193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133720" y="4038480"/>
            <a:ext cx="1307880" cy="196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днее крупное событие в жизни и творчестве Достоевского – «Речь о Пушкине» на заседании Общества любителей российской словесности, посвященном открытию памятника Пушкину в Москве (8 июня 1880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3352680"/>
            <a:ext cx="2203200" cy="292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760600">
            <a:off x="3429000" y="228600"/>
            <a:ext cx="1994040" cy="284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281400" cy="3057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457200" y="320004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Достоевском, действи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четались самые противоречивые качества: доверчивость и простота - с болезненной мнительностью, замкнутость - с искренностью и откровенностью, сердечность и участие - с отчужденностью, принимаемые подчас за высокомерие, неудержимая страстность - с непроницаемостью, серьезность - с легкомысл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.М.Румянц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440" y="914400"/>
            <a:ext cx="366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Я скажу вам про себя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я - дитя века, дитя нев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 сомнения. Каких страш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учений стоило и 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еперь эта жажда ве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Ф.М.Достое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9880" y="1523880"/>
            <a:ext cx="518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олстой   и    Достоевский   –   д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еличайших   гения,    силою     сво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алантов  они  потрясли весь   м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и обратили на Россию изумл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имание всей Европы, и оба в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 равные  в  великие  ряды    люд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ьи    имена  –    Шекспир,    Дан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рвантес,  Руссо,  Г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.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819160" cy="212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04920" y="0"/>
            <a:ext cx="952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сегодняшнем мире … тревожный наб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остоевского  гудит,   неумолчно   взы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 человечности и гум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.Айтм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16880" y="5181480"/>
            <a:ext cx="380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.М.Достоевский умер 28 январ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 февраля) 1881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хоронен на кладбище Александро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вской лавры в Петербур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4804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4920" y="3467160"/>
            <a:ext cx="1904760" cy="339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 любил он прежде всего живую человеческую душу во всем и везде, и верил он, что мы все род Божий, верил в бесконечную силу человеческой души, торжествующую над всяким внешним насилием и над всяким внутренним падением. Приняв в свою душу всю жизненную злобу, всю тяготу и черноту жизни и преодолев все это бесконечной силой любви, Достоевский во всех своих творениях возвещал эту победу. Изведав божественную силу в душе, пробивающуюся через всякую человеческую немощь, Достоевский пришел к познанию Бога и Богочеловека. Действительность Бога и Христа открылась ему во внутренней силе любви и всепрощения, и эту же всепрощающую благодатную силу проповедовал он как основание и для внешнего осуществления на земле того царства правды, которого он жаждал и к которому стремился всю сво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.С.Соловьев. Три речи в память Достоевского. 1881-1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Достоевский Федор"/>
          <p:cNvPicPr/>
          <p:nvPr/>
        </p:nvPicPr>
        <p:blipFill>
          <a:blip r:embed="rId1"/>
          <a:stretch/>
        </p:blipFill>
        <p:spPr>
          <a:xfrm>
            <a:off x="6629400" y="380880"/>
            <a:ext cx="2192400" cy="2905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3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2125800" cy="292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233856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2666880"/>
            <a:ext cx="3429000" cy="229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42240" y="5181480"/>
            <a:ext cx="2823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иг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иинской боль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480" y="3886200"/>
            <a:ext cx="23601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ец писател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ихаил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сто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533520"/>
            <a:ext cx="609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М.Достоевский родился 30 октября (11 ноября) 1821 года  в  Москве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емье врача Мариинской больницы для бед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7280" y="5257800"/>
            <a:ext cx="29451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ть писател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рия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чаева (Достоев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3560" y="50655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89 -18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4120" y="6284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0 -1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3657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 по вечерам в доме Достоевских устраивались семейные чтения. Читали Н.М.Карамзина, Г.Р.Державина, В.А.Жуковского, А.С.Пушкина, И.И.Лажечникова, сочинения западноевропейских писателей. Любовь к Пушкину Достоевский пронес через всю сво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ым обучением детей занимались родители и приходящие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33 г. – полупансион Сушара, через год – пансион Л.И.Черм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20892600">
            <a:off x="6629400" y="3733920"/>
            <a:ext cx="2130480" cy="2641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21224400">
            <a:off x="3809880" y="380880"/>
            <a:ext cx="241776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1192000">
            <a:off x="4127040" y="3288960"/>
            <a:ext cx="204480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1213000">
            <a:off x="6476760" y="838080"/>
            <a:ext cx="2225520" cy="243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50000">
              <a:srgbClr val="c674c2"/>
            </a:gs>
            <a:gs pos="100000">
              <a:srgbClr val="5b35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733920" cy="280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24640" y="431640"/>
            <a:ext cx="848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«Меня с братом свезли в Петербург в Инженерное училищ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испортили нашу будущность… по-моему, это была ошибка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3440" y="1219320"/>
            <a:ext cx="477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38 – 1843 г.г. – учеба в Глав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женерном училище в Петербур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ервые литературные опы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сторические трагедии «Борис Годунов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Мария Стюарт»- не сохранилис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2819520"/>
            <a:ext cx="38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43 – 1844 г.г.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ба в инженер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пусе при Санкт-Петербург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женерной коман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ста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3640" y="5943600"/>
            <a:ext cx="50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45 год – роман «Бедные лю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ысокая оценка романа В.Г.Белинск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3276720" cy="212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934320" y="2743200"/>
            <a:ext cx="2047680" cy="295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562720" y="4267080"/>
            <a:ext cx="1236600" cy="173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74c2"/>
            </a:gs>
            <a:gs pos="100000">
              <a:srgbClr val="5b355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304812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20815800">
            <a:off x="228600" y="3962520"/>
            <a:ext cx="170640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694200">
            <a:off x="3962520" y="3933360"/>
            <a:ext cx="2065320" cy="29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4114800" cy="2638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418640" y="380880"/>
            <a:ext cx="4730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 Петербурга, образ «малень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», тема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йственности человеческой лич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речий мечты и действи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ие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Бедных людях»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аются в произвед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Двойник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46 г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Белые ноч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48 г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Неточка Незванов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46-1849 г.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791320" y="3124080"/>
            <a:ext cx="3200400" cy="280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100000">
              <a:srgbClr val="c674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58672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1847 года Достоевский сближается с социалистом-утопистом М.В.Буташевичем-Петрашевским, посещает «пятницы» петрашевцев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тика правительства, свобода и социальная справедливость, отмена крепостного права, революционный переворот- идеи петрашев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апреле 1849 года Достоевский прочитал на собрании запрещенное «Письмо Белинского к Гоголю», исполненное «дерзкого  вольнодум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о словам тайного аген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апреля 1849 года тридцать семь участников кружка, в т.ч. Достоевского, арестовали и отправили в Петропавловскую крепос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Алексеевский равели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семи месяцев следствия последовал приговор – «подвергнуть смертной казни расстреляние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2590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3133440" cy="208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095880" y="5029200"/>
            <a:ext cx="2533680" cy="174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100000">
              <a:srgbClr val="c674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"/>
            <a:ext cx="89917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 декабря 1849 года на Семеновском плацу в Петербурге над петрашевцами был совершен обряд подготовки к смертной ка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Момент  этот  был  поистине  ужасен.  Сердце  замерло   в ожидании,  и страшный момент этот продолжался полминут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выстрелов не последова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Его Величество … повелел вместо смертной казни … в   каторжную работу в крепостях на четыре года, а потом рядовым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278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2921040"/>
            <a:ext cx="4648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декабря 1849 года Досто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вали в кандалы и отправи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ий пу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обольс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 дней в пересы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юрьме. Встреча с женами декабрист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.А.Муравьевой, П.Е.Анненко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Д.Фонвизиной, которые навещ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сыльных, помогали с продукта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еждой, каждому подарили Евангелие. Книгу эту Достоевский берег всю жизнь, как святы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мский острог – 4 года катор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00800" y="4762440"/>
            <a:ext cx="259092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3559"/>
            </a:gs>
            <a:gs pos="100000">
              <a:srgbClr val="c674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172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Это был ад, тьма кромешн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бители, убийцы, насильники, воры, фальшивомонетч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оевский был в остроге чернорабочим: обжигал и толок алебастр, вертел точильное колесо в мастерской, таскал кирпич с берега Иртыша, разбирал старые барки, стоя по колено в холодн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уховное «перерожд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оевский увидел на каторге всю меру страдания простого человека, его бесправное положение, поко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«И в каторге между разбойниками, я, в четыре года, отличил наконец людей. Поверишь ли: есть характеры глубокие, сильные, прекрасные… Что за чудный народ! Если я узнал не Россию, так русский народ хорошо, и так хорошо, как, может быть, не многие знают 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из письма брату Михаил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553080" y="3048120"/>
            <a:ext cx="219564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2666880" cy="200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4-06-05T14:40:3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