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gif" ContentType="image/gif"/>
  <Override PartName="/ppt/media/image13.gif" ContentType="image/gif"/>
  <Override PartName="/ppt/media/image9.gif" ContentType="image/gif"/>
  <Override PartName="/ppt/media/image10.png" ContentType="image/png"/>
  <Override PartName="/ppt/media/image11.gif" ContentType="image/gif"/>
  <Override PartName="/ppt/media/image12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F9D-030C-4064-B8B2-599F037C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FE6-9627-4FCE-AF18-B3ED08EC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184-0D9E-4028-9B62-80878488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CAE-45CB-462D-A01F-EEBE27DF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718D-A21F-4388-AB49-716A6FBF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5514-2B45-41AF-82FB-CA428A27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73C1-4687-4721-A829-F6DEDBAD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220E-190D-4B38-A9A9-CADF66D9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8126-2D77-4F3E-B83B-587A2780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1DFC-8B03-41CB-8C7B-8A44AE59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0A88-D7AA-4C02-A75F-34514D7F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7FC-BFA0-422B-8DEC-6F4CD5A7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A782-C4C5-4796-967A-E949B101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9CBD-F2FC-4E6B-8250-486DABD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6B35-3481-4CDD-B099-DC14AD35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3C97-C9D0-44E1-9116-0B532F8B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512F-8216-4707-99D2-F883863A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92E1-5A92-4922-BDDA-1B615087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3702-FC2F-44B3-8E07-25A2168F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7C00-B0C1-4022-9EAD-9A9B3192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6B72-D7ED-44C2-9CEA-DAAC2E45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E02B-8ECA-484D-9389-938BC7F9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F13-517C-4CB8-9D0A-7144F7FA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1683E-7CF3-4498-9CBC-72ECB57E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480F-8DD7-4D49-923A-92FD817B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6276B-F4E5-4300-91D6-0EE24845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90F0-2FEE-4A19-9973-DAEA1CA3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74CF7-94C2-4005-AD77-98F85A3C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09CE-A84F-4598-A83E-1D83E6EF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8614-71AD-4939-872B-2DB2E160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70B83-0296-4687-ACAE-A01422A6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5072-42BF-4D90-A604-79054767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36695-19DA-48F5-984B-B0726F1C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B4D-6C0D-49A7-8940-849CD1BC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7F24-C1BE-44DC-9894-7EC37376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330C9-BEF3-47F0-89D2-AE92F242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3C25B-2864-432B-BFB6-E593049D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8676-D48A-4ED3-9A97-0775BE37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E803B-FA1C-4182-844E-D9D6E937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2F602-7D90-47A2-AE53-61093ACA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21832-177C-40BF-9C6E-4E19DCD2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27A8-D731-41F7-8424-9FCD56ED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8779-4A48-4215-8EEA-67D92F17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5345F-972C-4EAF-ADFD-CBD4B868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685-4BDC-47B7-8934-DFF260B0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13D1C-521D-4552-9CEA-CA3FB587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2E2F3-495D-48AD-A05B-AB7ECD51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42DB-D7E8-4900-8C2A-EC445B1E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F33A9-B51F-4743-916A-395F4AAC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57DEB-6E19-434C-9479-CF1AE821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60477-5FE4-45D3-B598-CD5AC678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B1AA-7470-4EB1-8A07-4E48AC57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5229A-AFA7-40BC-A126-5C39D03D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7527A-50FA-46D5-8424-E1617534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44E1-EF61-4615-94CF-DFD1700D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4D6-EC02-4E49-94B5-7FAF14EB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5D3D8-FF15-45B8-B6AD-64EDB895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F9286-6992-4CFF-8FA4-6DD0DD3F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BD952-7F64-4601-A614-D2D11DE9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A7AD4-E652-4477-B2F5-2FD6B538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A01EF-7512-428D-AE5E-971ECE86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160FD-902B-4D41-87AC-EEBD8D34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936BF-8455-41F0-A011-4F905CF4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13A6A-206F-4F87-94B1-37D9E06D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2B647-193D-47D2-AE96-CB1973A5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64B1E-DE20-4D03-88BB-8D33D741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238-20A0-4990-A025-A31B1046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99B21-9A74-412E-84F7-AB347F4C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B70C1-34B4-4DD1-A036-BC182D1D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4CFA6-7033-49F6-82F7-41D573BC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C00-9D25-4664-A69B-AC6AA007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501-4C95-4405-B2C2-21BBA290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c17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7cc1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D9D1-DCEC-43D8-9B71-8736C7E877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c17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7cc17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59DD-1E17-4AAC-9B8C-1BF1FE9D3FA7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6053-8B26-4740-B92C-A596B0D5D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c17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7cc17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DE0E-90E2-4A61-9B63-D70995F07C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c17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7cc17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67A5-13E7-4EB9-8B69-13C12FDD35A7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FBB2-55B6-4A6F-92D4-AA8F9DFB75D1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859280" y="4292280"/>
            <a:ext cx="4105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cc17"/>
                </a:solidFill>
                <a:latin typeface="Tahoma"/>
              </a:rPr>
              <a:t>Автор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cc17"/>
                </a:solidFill>
                <a:latin typeface="Tahoma"/>
              </a:rPr>
              <a:t>учитель информатики  и И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cc17"/>
                </a:solidFill>
                <a:latin typeface="Tahoma"/>
              </a:rPr>
              <a:t>Кулагина Л.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908000" y="836640"/>
            <a:ext cx="67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«Основная общеобразовательная школа №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. Прасковея  Буденно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тавропольского к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WordArt 11"/>
          <p:cNvSpPr txBox="1"/>
          <p:nvPr/>
        </p:nvSpPr>
        <p:spPr>
          <a:xfrm>
            <a:off x="3635280" y="6021360"/>
            <a:ext cx="1654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12 год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-1620720" y="2636640"/>
            <a:ext cx="1279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«Формирование устойчивого познаватель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нтереса к информа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к путь личностного роста учени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14"/>
          <p:cNvSpPr/>
          <p:nvPr/>
        </p:nvSpPr>
        <p:spPr>
          <a:xfrm>
            <a:off x="647640" y="765000"/>
            <a:ext cx="8496360" cy="5112000"/>
          </a:xfrm>
          <a:prstGeom prst="horizontalScroll">
            <a:avLst>
              <a:gd name="adj" fmla="val 12500"/>
            </a:avLst>
          </a:prstGeom>
          <a:solidFill>
            <a:srgbClr val="66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3080" y="479160"/>
            <a:ext cx="43290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cc17"/>
                </a:solidFill>
                <a:latin typeface="Arial"/>
              </a:rPr>
              <a:t>Заключение. Выводы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271520" y="162864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явила что игровая ситуация помогает снять чувство усталости, усиливает непроизвольное запоминание. С помощью игры старюсь привить учащимся стремление пополнять недостающие знания, совершенствовать навыки, необходимые для повышения творческой активности. В игре ярче и полнее раскрываются способности детей, их индивидуальность. Для застенчивых ребят игра становится иногда единственной возможностью проявить себя. В заключение можно сказать, что каким бы ни было по своей форме занятие, главное, чтобы оно было интересным для учащихся, ставило перед ними конкретные задачи и помогало находить их решение, давало простор для проявления творческой самостоятельности, основывающейся на полученных знаниях и умен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11" descr="стрелка 1"/>
          <p:cNvPicPr/>
          <p:nvPr/>
        </p:nvPicPr>
        <p:blipFill>
          <a:blip r:embed="rId1"/>
          <a:stretch/>
        </p:blipFill>
        <p:spPr>
          <a:xfrm rot="10800000">
            <a:off x="178920" y="2492280"/>
            <a:ext cx="390600" cy="419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smile"/>
          <p:cNvPicPr/>
          <p:nvPr/>
        </p:nvPicPr>
        <p:blipFill>
          <a:blip r:embed="rId2"/>
          <a:stretch/>
        </p:blipFill>
        <p:spPr>
          <a:xfrm>
            <a:off x="1476360" y="333360"/>
            <a:ext cx="863640" cy="849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5" descr="pupil"/>
          <p:cNvPicPr/>
          <p:nvPr/>
        </p:nvPicPr>
        <p:blipFill>
          <a:blip r:embed="rId3"/>
          <a:stretch/>
        </p:blipFill>
        <p:spPr>
          <a:xfrm>
            <a:off x="3924360" y="4986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cc17"/>
                </a:solidFill>
                <a:latin typeface="Arial"/>
              </a:rPr>
              <a:t>Актуальность темы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24000" y="797760"/>
            <a:ext cx="84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овременном постоянно меняющемся, динамическом мире на первый план выходит не просто обучение учащегося предметным знаниям, умениям, навыкам, (некоторые из которых могут оказаться либо устаревшими, либо невостребованными), а личность учащегося, как будущего активного деятел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формирования познавательного интереса к обучению представляет особую значимость для преподавания информатики. Возникновение интереса к информатике у значительного числа учащихся зависит в большей степени от методики ее преподавания, от того, насколько умело будет построена учебная работа. Надо позаботиться о том, чтобы на уроках каждый ученик работал активно и увлеченно, и использовать это как отправную точку для возникновения и развития любознательности, глубокого познавательного интере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им из средств решения данной задачи я считаю, является создание на уроках информатики таких условий, при которых формируется и удовлетворяется познавательная потребность обучаемы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ым методом стимулирования интереса к предмету в моей педагогической деятельности выступае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етод использования различных игр и игровых фор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рганизации познавательной деятель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38440" y="537840"/>
            <a:ext cx="53769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Основополагающий  вопрос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324000" y="333360"/>
            <a:ext cx="718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755640" y="191592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мощью чего формировать и разви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вательный интерес у  учащих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уроках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MYNET096"/>
          <p:cNvPicPr/>
          <p:nvPr/>
        </p:nvPicPr>
        <p:blipFill>
          <a:blip r:embed="rId1"/>
          <a:stretch/>
        </p:blipFill>
        <p:spPr>
          <a:xfrm>
            <a:off x="3059280" y="3357720"/>
            <a:ext cx="305892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43200" y="189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cc17"/>
                </a:solidFill>
                <a:latin typeface="Arial"/>
              </a:rPr>
              <a:t>Цель и задачи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-12960" y="987480"/>
            <a:ext cx="9266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выработать собственные приемы, способствующ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ю познавательного интереса и творческой актив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уроках информат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чи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величение творческой  активности учащихся на уро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качества знаний учащихся; воспитание таких качеств личност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деловитость и целеустремлённость, стремление к повыш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ственной квалификации, самосовершенствова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ктом исследования являются познавательные интерес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иков на уроках информа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MYNET040"/>
          <p:cNvPicPr/>
          <p:nvPr/>
        </p:nvPicPr>
        <p:blipFill>
          <a:blip r:embed="rId1"/>
          <a:stretch/>
        </p:blipFill>
        <p:spPr>
          <a:xfrm>
            <a:off x="3564000" y="4056120"/>
            <a:ext cx="3166920" cy="2801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7427880" y="3860640"/>
            <a:ext cx="171612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2728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cc17"/>
                </a:solidFill>
                <a:latin typeface="Arial"/>
              </a:rPr>
              <a:t>Методические аспекты</a:t>
            </a:r>
            <a:endParaRPr b="1" lang="en-US" sz="2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ффективность умственного развития, осуществляемого в процессе овладения нов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ниями, навыками и умениями, зависит от содержания, методов, средств и способ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и процесса об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рганизации занятий школьников по информатике я использую различные методы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ства обучения с тем, чтобы с одной стороны, свести работу за компьютером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ламентированной норме; с другой стороны, достичь наибольшего педагогическ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фф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6" descr="baby01"/>
          <p:cNvPicPr/>
          <p:nvPr/>
        </p:nvPicPr>
        <p:blipFill>
          <a:blip r:embed="rId1"/>
          <a:stretch/>
        </p:blipFill>
        <p:spPr>
          <a:xfrm>
            <a:off x="7596360" y="4797360"/>
            <a:ext cx="1217520" cy="1446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pc9"/>
          <p:cNvPicPr/>
          <p:nvPr/>
        </p:nvPicPr>
        <p:blipFill>
          <a:blip r:embed="rId2"/>
          <a:stretch/>
        </p:blipFill>
        <p:spPr>
          <a:xfrm>
            <a:off x="179280" y="4797360"/>
            <a:ext cx="165600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 обучении информатике параллельно применяю общие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пецифические методы, связанные с применением средств ИК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ловесные методы обучения (рассказ, объяснение, лекция, беседа, работа с учебником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глядные методы (наблюдение, иллюстрация, демонстрация наглядных пособий, презентаций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актические методы (устные и письменные упражнения, практические компьютерные работы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облемное обучен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тод проект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олевой метод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тод использования различных игр и игровых фор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нным методом стимулирования интереса к предмету в мо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едагогической деятельности выступает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метод использова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различных игр и игровых форм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рганизации познавательн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еятельност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cc17"/>
                </a:solidFill>
                <a:latin typeface="Arial"/>
              </a:rPr>
              <a:t>Материалы исследования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graphicFrame>
        <p:nvGraphicFramePr>
          <p:cNvPr id="269" name="Object 12"/>
          <p:cNvGraphicFramePr/>
          <p:nvPr/>
        </p:nvGraphicFramePr>
        <p:xfrm>
          <a:off x="1547640" y="1268280"/>
          <a:ext cx="7253640" cy="462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68280"/>
                    <a:ext cx="725364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 txBox="1"/>
          <p:nvPr/>
        </p:nvSpPr>
        <p:spPr>
          <a:xfrm>
            <a:off x="4140000" y="4941360"/>
            <a:ext cx="215892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0"/>
          <p:cNvSpPr/>
          <p:nvPr/>
        </p:nvSpPr>
        <p:spPr>
          <a:xfrm>
            <a:off x="1258920" y="5084640"/>
            <a:ext cx="4537080" cy="1511280"/>
          </a:xfrm>
          <a:prstGeom prst="wedgeEllipseCallout">
            <a:avLst>
              <a:gd name="adj1" fmla="val 49162"/>
              <a:gd name="adj2" fmla="val -241069"/>
            </a:avLst>
          </a:prstGeom>
          <a:solidFill>
            <a:srgbClr val="ffff99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Игры активизируют мыслительную деятельность учащихся, вызывают живой интерес к предмету и помогают усваивать учебный материал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cc17"/>
                </a:solidFill>
                <a:latin typeface="Arial"/>
              </a:rPr>
              <a:t>Ожидаемые результаты исследования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1557360"/>
            <a:ext cx="2592360" cy="1440000"/>
          </a:xfrm>
          <a:prstGeom prst="wedgeEllipseCallout">
            <a:avLst>
              <a:gd name="adj1" fmla="val -61328"/>
              <a:gd name="adj2" fmla="val 2148"/>
            </a:avLst>
          </a:prstGeom>
          <a:solidFill>
            <a:srgbClr val="66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Учащиеся активнее готовят домашнее зад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0" y="2852640"/>
            <a:ext cx="2736720" cy="1440000"/>
          </a:xfrm>
          <a:prstGeom prst="wedgeEllipseCallout">
            <a:avLst>
              <a:gd name="adj1" fmla="val -15430"/>
              <a:gd name="adj2" fmla="val -69953"/>
            </a:avLst>
          </a:prstGeom>
          <a:solidFill>
            <a:srgbClr val="66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Для подготовки к урокам используют дополнительный материал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5003640" y="4581360"/>
            <a:ext cx="4427640" cy="1656000"/>
          </a:xfrm>
          <a:prstGeom prst="wedgeEllipseCallout">
            <a:avLst>
              <a:gd name="adj1" fmla="val 16402"/>
              <a:gd name="adj2" fmla="val -164861"/>
            </a:avLst>
          </a:prstGeom>
          <a:solidFill>
            <a:srgbClr val="ffff99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Увеличилось количество, из отстающих,  учащихся желающих довести выполнение своих работ до логического конца во внеурочное врем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2987640" y="3284640"/>
            <a:ext cx="2736720" cy="1439640"/>
          </a:xfrm>
          <a:prstGeom prst="wedgeEllipseCallout">
            <a:avLst>
              <a:gd name="adj1" fmla="val 70879"/>
              <a:gd name="adj2" fmla="val -127398"/>
            </a:avLst>
          </a:prstGeom>
          <a:solidFill>
            <a:srgbClr val="ffff99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Не обнаружили учащихся не посещающих уроки информат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5796000" y="2852640"/>
            <a:ext cx="3348000" cy="1224000"/>
          </a:xfrm>
          <a:prstGeom prst="wedgeEllipseCallout">
            <a:avLst>
              <a:gd name="adj1" fmla="val -23069"/>
              <a:gd name="adj2" fmla="val -88134"/>
            </a:avLst>
          </a:prstGeom>
          <a:solidFill>
            <a:srgbClr val="ffff99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Увеличилось количество посещающих кружок по предмету информат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4"/>
          <p:cNvSpPr/>
          <p:nvPr/>
        </p:nvSpPr>
        <p:spPr>
          <a:xfrm>
            <a:off x="179280" y="198900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произош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два месяца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6300720" y="1557360"/>
            <a:ext cx="2160720" cy="863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произош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деся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яце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2916360" y="19890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708000" y="115920"/>
            <a:ext cx="472284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cc17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f7cc17"/>
                </a:solidFill>
                <a:latin typeface="Arial"/>
              </a:rPr>
              <a:t>Выводы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3" name="Oval 9"/>
          <p:cNvSpPr/>
          <p:nvPr/>
        </p:nvSpPr>
        <p:spPr>
          <a:xfrm>
            <a:off x="395280" y="1413000"/>
            <a:ext cx="2016000" cy="19447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чем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гры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пользова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урочное врем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2700360" y="836640"/>
            <a:ext cx="6443640" cy="4392720"/>
          </a:xfrm>
          <a:prstGeom prst="cloudCallout">
            <a:avLst>
              <a:gd name="adj1" fmla="val -52143"/>
              <a:gd name="adj2" fmla="val -13282"/>
            </a:avLst>
          </a:prstGeom>
          <a:solidFill>
            <a:srgbClr val="66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йчас нашей стране нужны люд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собные принимать быстрые нестандартные решения, умеющие творчески мысли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обучении информатики на уроках и внеурочно стараюсь   создавать атмосферу творческого поиска, помогающую школьнику как можно более полно раскрыть свои способности. Для этого на уроках использую   элементы развивающего обучения: проблемные ситуации, творческие задания, применяю проективный метод, привлекаю школьников к самостоятельной научно-исследовательской деятельност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755640" y="4797360"/>
            <a:ext cx="6264360" cy="2060640"/>
          </a:xfrm>
          <a:prstGeom prst="cloudCallout">
            <a:avLst>
              <a:gd name="adj1" fmla="val -32337"/>
              <a:gd name="adj2" fmla="val -113634"/>
            </a:avLst>
          </a:prstGeom>
          <a:solidFill>
            <a:srgbClr val="66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дактические игры способствуют активизации мыслительной деятельности учащихся, вызывают живой интерес к предмету и помогают усваивать учебный материа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03:46:40Z</dcterms:created>
  <dc:creator>Шиварев Павел Васильевич</dc:creator>
  <dc:description/>
  <dc:language>en-US</dc:language>
  <cp:lastModifiedBy>111</cp:lastModifiedBy>
  <dcterms:modified xsi:type="dcterms:W3CDTF">2013-12-02T10:06:46Z</dcterms:modified>
  <cp:revision>28</cp:revision>
  <dc:subject/>
  <dc:title>Образец презентации учащегося</dc:title>
</cp:coreProperties>
</file>