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F19-3B2D-47E2-B147-C4EF052F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BDEB-8DAB-4DE1-A639-1941C960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2F5-EF8B-4BEE-B6D9-988269E2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BF6-1217-4D73-A4D1-98074C7A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0B1-010D-4513-999B-16BB887D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91C7-C9A6-4DA9-B756-00892C04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4A4-7EFB-463B-9EED-17271F65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38F-E2B4-4CA3-B0CB-186F2DEA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114-6F4F-4069-82E1-5D9A3F70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52E4-F47C-4098-B247-F883C4D9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896-F592-4094-92CA-4EE1197A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8D6B-F021-480C-832C-2F27657D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3D1AD-C786-46E3-BB41-A9CB0441E2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0440" y="1655640"/>
            <a:ext cx="5565960" cy="995400"/>
            <a:chOff x="190440" y="1655640"/>
            <a:chExt cx="5565960" cy="9954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90440" y="1655640"/>
              <a:ext cx="5565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190440" y="1655640"/>
              <a:ext cx="55659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792000" y="2735280"/>
            <a:ext cx="4499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ак связан с муромскими лес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 дорогой «Владимирк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А.С.Пушки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16720" y="1359000"/>
            <a:ext cx="3563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мила спит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зал Фарлаф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так нашёл её неда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устынных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уромск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злого лешего в руках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9492" t="0" r="27612" b="12851"/>
          <a:stretch/>
        </p:blipFill>
        <p:spPr>
          <a:xfrm>
            <a:off x="4608360" y="3168720"/>
            <a:ext cx="1063800" cy="143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87280" y="3959280"/>
            <a:ext cx="2952720" cy="244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-158760"/>
            <a:ext cx="9144000" cy="1454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264360" y="4103640"/>
            <a:ext cx="250668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44360"/>
            <a:ext cx="9144000" cy="145404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190440" y="1655640"/>
            <a:ext cx="5565960" cy="995400"/>
            <a:chOff x="190440" y="1655640"/>
            <a:chExt cx="5565960" cy="99540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190440" y="1655640"/>
              <a:ext cx="5565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90440" y="1655640"/>
              <a:ext cx="55659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503280" y="2879640"/>
            <a:ext cx="43988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к выглядит сейчас им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ринадлежащее великому поэ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Н.А.Некрасов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в с. Алешунино Муромского райо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40360" y="1511280"/>
            <a:ext cx="4489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мирский край главой золо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ркаешь вдали над ре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знаешь, мы любим тебя всей душ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димся твоей сединой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ф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rcRect l="9492" t="0" r="27612" b="12851"/>
          <a:stretch/>
        </p:blipFill>
        <p:spPr>
          <a:xfrm>
            <a:off x="4967280" y="2879640"/>
            <a:ext cx="1063800" cy="144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63520" y="4392720"/>
            <a:ext cx="2689200" cy="1882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456000" y="4392720"/>
            <a:ext cx="2689200" cy="201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6480000" y="3311640"/>
            <a:ext cx="250668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144360"/>
            <a:ext cx="9144000" cy="1454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87880" y="1428840"/>
            <a:ext cx="411336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ладимирская Богомате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сь вела сквозь мерзость, кровь и с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орогах киевских ладья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уя правильный фарватер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.Волош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-576360" y="1449360"/>
            <a:ext cx="5565960" cy="995400"/>
            <a:chOff x="-576360" y="1449360"/>
            <a:chExt cx="5565960" cy="99540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-576360" y="1449360"/>
              <a:ext cx="5565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-576360" y="1449360"/>
              <a:ext cx="55659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31640" y="2664000"/>
            <a:ext cx="4105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Что знаменитый автор коме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«Горе от ума» А.С.Грибоедов на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земля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191280" y="3440160"/>
            <a:ext cx="2663640" cy="2174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rcRect l="9492" t="0" r="27612" b="12851"/>
          <a:stretch/>
        </p:blipFill>
        <p:spPr>
          <a:xfrm>
            <a:off x="4680000" y="2735280"/>
            <a:ext cx="1063440" cy="144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360360" y="3952800"/>
            <a:ext cx="1428840" cy="2095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2360" y="404352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144360"/>
            <a:ext cx="9144000" cy="145404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360360" y="1440000"/>
            <a:ext cx="7945560" cy="973080"/>
            <a:chOff x="360360" y="1440000"/>
            <a:chExt cx="7945560" cy="97308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360360" y="1440000"/>
              <a:ext cx="794556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60360" y="1440000"/>
              <a:ext cx="7945560" cy="9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479680" y="2622600"/>
            <a:ext cx="3997440" cy="3925800"/>
            <a:chOff x="2479680" y="2622600"/>
            <a:chExt cx="3997440" cy="3925800"/>
          </a:xfrm>
        </p:grpSpPr>
        <p:sp>
          <p:nvSpPr>
            <p:cNvPr id="75" name=""/>
            <p:cNvSpPr/>
            <p:nvPr/>
          </p:nvSpPr>
          <p:spPr>
            <a:xfrm>
              <a:off x="2479680" y="2622600"/>
              <a:ext cx="3997440" cy="39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3"/>
            <a:srcRect l="4724" t="3188" r="4724" b="0"/>
            <a:stretch/>
          </p:blipFill>
          <p:spPr>
            <a:xfrm>
              <a:off x="2498760" y="2631960"/>
              <a:ext cx="3971880" cy="314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3909960" y="4329000"/>
              <a:ext cx="2216160" cy="220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287280" y="3456000"/>
            <a:ext cx="2303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граф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68920" y="3489480"/>
            <a:ext cx="2057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64360" y="5781600"/>
            <a:ext cx="26319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тер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144360" y="4994280"/>
            <a:ext cx="216072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216000"/>
            <a:ext cx="9144000" cy="1454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19280" y="1295280"/>
            <a:ext cx="39909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Задания для груп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1640" y="2395440"/>
            <a:ext cx="25927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еограф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ложить маршру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ешествий, поез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ладимир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бер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С.Пушк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А.Некрасо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С.Грибоед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угих писател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ов 19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2520" y="2416320"/>
            <a:ext cx="25243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тор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рать све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проживании поэ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исателей 19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ерри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мир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бер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сведения об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ниях, колич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пос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80000" y="2448000"/>
            <a:ext cx="256068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итерато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снить, ка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я поэ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исателей 19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и напис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пребы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ерритории наш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я или о н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696000" y="5281560"/>
            <a:ext cx="216072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216000"/>
            <a:ext cx="9144000" cy="1454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232000" y="1079640"/>
            <a:ext cx="475128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В итоге... </a:t>
            </a:r>
            <a:endParaRPr b="0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576360" y="3168720"/>
            <a:ext cx="8140680" cy="31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нференция на тему «Край родной Владимирский!!!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очные экскурсии-презентации по местам пребыв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 Владимирщине великих людей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убличные выступ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окла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616720" y="4751280"/>
            <a:ext cx="266364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-287280"/>
            <a:ext cx="9144000" cy="145404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1079640" y="1689120"/>
            <a:ext cx="6980040" cy="4211640"/>
            <a:chOff x="1079640" y="1689120"/>
            <a:chExt cx="6980040" cy="4211640"/>
          </a:xfrm>
        </p:grpSpPr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1079640" y="1689120"/>
              <a:ext cx="6980040" cy="42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079640" y="1689120"/>
              <a:ext cx="6980040" cy="42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2T08:07:52Z</dcterms:created>
  <dc:creator>User</dc:creator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