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8827-4CAA-44BA-81B5-85154F9F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0A7-F47E-4AC8-A4E0-40C8B36A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7C355-1B4A-450A-A3A2-D7B5F677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ECAC1-24BC-4234-ACEE-5BD4E57D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E5003-98A7-4462-9BDF-2724C779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6CF1F-09C5-45AB-8119-75C865A9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B1ADF-A3D4-4B20-840F-03A5A3F9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22635-8DB8-459F-875B-50377FC9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DCC22-6746-44C9-9CE2-C14F4E89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790C5-C7BF-4C3A-920D-EE1BF789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4122B-5086-44A0-9811-91BDD935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F3C4A-B1E8-44DE-BFA7-A0F26007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99B-8433-4113-A156-869BAEE7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32071-73E1-4932-A8A9-8B9135E2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36388-138A-4E92-A353-CE0E6C5A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8861F-D4F1-4DF2-89E3-B4AC459B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67468-E55D-4F72-AF92-F38DD97F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CD0B4-FDB2-4A2D-9C46-67D7F14A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01D9B-F12C-484A-A4BE-D5FF783F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209FF-A262-4CB4-AEF3-80194F41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A89E8-0E26-4E2C-8A30-20BE06AB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D80EA-1637-4839-89EC-E86B5925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B84CB-5874-47B7-ACFF-370BAB32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0DE6-25FB-4A4A-A8E0-2DDECE2B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2E0CD-DC40-4791-97B8-EE02D9F2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8F5E-CC97-4EBA-9800-0CB63B00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FBBB-B680-4A4E-8B61-0B4AC79E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E77D-D219-4231-8BB3-2D7AD8D9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0B0F-E7C9-4B77-AD1F-DE5A0BDC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7725-8396-4FC3-969A-886951B3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E6B1-4EE4-4CB3-9C59-74A67BBA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552F-A5FF-425F-953B-04728D02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587-8F3E-4009-980F-B9582B58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BA75-1FE9-42E5-9069-2D7285F6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F5A2-888C-4758-A6C1-A9BA4691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672F-9A72-4A8C-B87A-D6F327D6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F3BE-32BE-4419-9F60-FC7290A2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F88A-79FE-49F9-9B71-AFA5F87B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6AFCF-4AD3-42EB-B76E-A6E5C65B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23895-F1D3-489F-B750-2E659839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781F4-0C38-48BB-822C-C317D505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1AB90-D15E-4279-881A-F46DEA8B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96835-48FA-4689-9303-6075EB46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F41-D0A2-4AA8-B5B5-F52352D3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FCD33-8248-4185-9308-595C96DE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DF5EB-34A2-46B0-9688-2F7DB44B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698ED-4E91-4090-A982-58B81118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07ACB-6362-4107-942B-4DAE11C6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6434C-CB39-4CBC-9080-1BD8B954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19303-4343-42BB-982D-1DD4D20A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29018-31C0-4809-85D4-789D826F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35DD3-ADAD-4652-9EC1-95547CC0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45254-CA37-43D0-AD71-BB66BA87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B641A-259B-4FC6-BC90-C0822179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501-313A-440B-BBD3-286240DF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E783F-ECE7-4381-AE9C-793DB14D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50CA1-CDFC-475F-B2AF-FFD1F991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9F342-459F-47CD-B544-DA8F8050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A3116-FF53-45F8-91CB-080035E1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4AF1D-A212-4D1E-8F34-4B93CD6A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4DEA3-264E-4176-B616-C6A0FE2D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B2FDA-A278-4F9E-894D-F6E1695E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4D0C5-DAC2-4970-BC60-6AD7F550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C645E-4B9D-4CF0-82B9-AA1CF8CE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DC2F08-E212-4589-AF92-4CDC1A9F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7618-A2CC-44FA-A960-8E10DDFE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42D0AE-0815-4593-929A-C92145F9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21F606-5F3C-43B7-A913-040BC60C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D5A3A4-A865-4567-A483-2A263E1A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ADCFF-84B1-49EF-A8C2-4888C6B6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24DEC3-F809-4AAC-A64F-51900D0F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80057F-7A63-4346-B647-78C81644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5546C9-AA29-49BE-87BC-5E611F61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ED3AB-EE48-428D-9414-FEF927AB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40C7CB-0EA2-46DE-A5C1-F530DEC4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CD24D-6BC4-4A50-872A-ED96A8D3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BC7-E9E4-4519-8182-4E0DD101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235CB1-6DA9-4B09-BA33-8D2A0667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19FD5-6C83-4015-ADC5-4D3DC797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353D7-B635-4A84-85DC-44F40786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A17A1-1C5C-4E3B-BE29-01A5DB5E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75AF3-ADF4-4A5B-8954-1EBB3552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14EE1-E4A2-4281-8B7E-AE7A5191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0C543-56E0-4DEB-A595-D9571197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23ADC-5B2F-4D8C-B790-FA1AAAB3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61E22-381D-4E91-87DC-DDAC2417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F512A-3E99-42AA-B02C-8BDD1085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EAA9-95AE-40AF-8602-016B3A89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5C63F-F867-4318-91FA-B8FB0F37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0B071-320A-43C3-88EA-24C6AA33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874ED-6124-4C8E-A4C5-43B635FF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F5AAD-7F7F-4E2A-872B-F84A8179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92E7A-A519-401D-88ED-74A5A172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5F8FA-9B4E-43B5-ADB1-0781566B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FCADD-084C-461E-855B-64A60B62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CDA58-9787-4B3A-8149-F8FCF9E4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0AD32-AA7F-4BE4-A916-16CA8A07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70233-B4C7-4B90-AA20-13E7DDBF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CD7-D14E-4F22-BFFC-A00850C0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D2898-C92A-4E20-A0A2-CE236296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89C4A-0CF9-4542-A3AA-DA781147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1330A-8FA7-40B0-B5F8-91685284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15F27-793C-4F51-825F-064BFA00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A402E-4263-4D40-BC78-29D6018D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88F97-E201-498E-87F6-B85BE691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FC568-68CA-478D-AEA7-3810BD37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BDC96-63DD-4844-A61E-7EEC9A66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04D5D-E7EE-4808-9D8F-29A18ECB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7AC1E-0B51-45BE-BE09-13AB1538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27F6-E7CA-46DE-8DEB-94FD624E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47EDC-9034-41C7-8BAF-D209563E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3B2F6-6746-4078-93B0-60936B48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32E79-F84E-4C52-9266-29234333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2A129-5030-4AE6-869D-5F2B808F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A3551-1958-4543-B118-ACB9F48A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FA52B-E4E3-4547-93A1-06640301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F9C2F-4A6E-4631-B282-AE858107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C5A8F-350D-4495-B59A-F321959C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34EF1-1BD0-4BAE-A8AF-9126D424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B6AD2-18DF-4F8C-9B24-8CB9CC97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8C06-8E77-4186-A27D-F00B72D1BD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48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5551-3B4A-4F3E-A96F-FC8CCFDDDD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4ECC-A852-400A-92E7-F2ADC9FD7A2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2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22DF-C7DB-495B-A57F-0E1BBB8DB9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73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8971-48DE-4A77-9CC6-ADD67FAD969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9BF2-83C8-4C4D-BFB0-324FA459EC4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224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75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345F-70D2-4D2A-8661-B7FBA51AF3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2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2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5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78B8-FF8B-4989-BB64-DAD2777588F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779E-5950-46D5-B05E-B0CE392A49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43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0FBE-A1DD-47FB-B5A6-76F2683CD8F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7fc13"/>
                </a:solidFill>
                <a:latin typeface="Arial Black"/>
              </a:rPr>
              <a:t>ЭКЗАМЕН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285480" y="5928840"/>
            <a:ext cx="350028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м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6" name="Group 31"/>
          <p:cNvGrpSpPr/>
          <p:nvPr/>
        </p:nvGrpSpPr>
        <p:grpSpPr>
          <a:xfrm>
            <a:off x="1042920" y="1916280"/>
            <a:ext cx="2016000" cy="1728360"/>
            <a:chOff x="1042920" y="1916280"/>
            <a:chExt cx="2016000" cy="1728360"/>
          </a:xfrm>
        </p:grpSpPr>
        <p:sp>
          <p:nvSpPr>
            <p:cNvPr id="547" name="AutoShape 29"/>
            <p:cNvSpPr/>
            <p:nvPr/>
          </p:nvSpPr>
          <p:spPr>
            <a:xfrm>
              <a:off x="1042920" y="1916280"/>
              <a:ext cx="2016000" cy="1728360"/>
            </a:xfrm>
            <a:custGeom>
              <a:avLst/>
              <a:gdLst>
                <a:gd name="textAreaLeft" fmla="*/ 688680 w 2016000"/>
                <a:gd name="textAreaRight" fmla="*/ 1327320 w 2016000"/>
                <a:gd name="textAreaTop" fmla="*/ 590400 h 1728360"/>
                <a:gd name="textAreaBottom" fmla="*/ 1137960 h 172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6050" y="11723"/>
                  </a:lnTo>
                  <a:lnTo>
                    <a:pt x="786" y="14846"/>
                  </a:lnTo>
                  <a:lnTo>
                    <a:pt x="6742" y="13436"/>
                  </a:lnTo>
                  <a:lnTo>
                    <a:pt x="3163" y="18437"/>
                  </a:lnTo>
                  <a:lnTo>
                    <a:pt x="8094" y="14812"/>
                  </a:lnTo>
                  <a:lnTo>
                    <a:pt x="6580" y="20741"/>
                  </a:lnTo>
                  <a:lnTo>
                    <a:pt x="9794" y="15533"/>
                  </a:lnTo>
                  <a:lnTo>
                    <a:pt x="10800" y="21600"/>
                  </a:lnTo>
                  <a:lnTo>
                    <a:pt x="11723" y="15550"/>
                  </a:lnTo>
                  <a:lnTo>
                    <a:pt x="14846" y="20814"/>
                  </a:lnTo>
                  <a:lnTo>
                    <a:pt x="13436" y="14858"/>
                  </a:lnTo>
                  <a:lnTo>
                    <a:pt x="18437" y="18437"/>
                  </a:lnTo>
                  <a:lnTo>
                    <a:pt x="14812" y="13506"/>
                  </a:lnTo>
                  <a:lnTo>
                    <a:pt x="20741" y="15020"/>
                  </a:lnTo>
                  <a:lnTo>
                    <a:pt x="15533" y="11806"/>
                  </a:lnTo>
                  <a:lnTo>
                    <a:pt x="21600" y="10800"/>
                  </a:lnTo>
                  <a:lnTo>
                    <a:pt x="15550" y="9877"/>
                  </a:lnTo>
                  <a:lnTo>
                    <a:pt x="20814" y="6754"/>
                  </a:lnTo>
                  <a:lnTo>
                    <a:pt x="14858" y="8164"/>
                  </a:lnTo>
                  <a:lnTo>
                    <a:pt x="18437" y="3163"/>
                  </a:lnTo>
                  <a:lnTo>
                    <a:pt x="13506" y="6788"/>
                  </a:lnTo>
                  <a:lnTo>
                    <a:pt x="15020" y="859"/>
                  </a:lnTo>
                  <a:lnTo>
                    <a:pt x="11806" y="6067"/>
                  </a:lnTo>
                  <a:lnTo>
                    <a:pt x="10800" y="0"/>
                  </a:lnTo>
                  <a:lnTo>
                    <a:pt x="9877" y="6050"/>
                  </a:lnTo>
                  <a:lnTo>
                    <a:pt x="6754" y="786"/>
                  </a:lnTo>
                  <a:lnTo>
                    <a:pt x="8164" y="6742"/>
                  </a:lnTo>
                  <a:lnTo>
                    <a:pt x="3163" y="3163"/>
                  </a:lnTo>
                  <a:lnTo>
                    <a:pt x="6788" y="8094"/>
                  </a:lnTo>
                  <a:lnTo>
                    <a:pt x="859" y="6580"/>
                  </a:lnTo>
                  <a:lnTo>
                    <a:pt x="6067" y="979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7fc1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Text Box 30"/>
            <p:cNvSpPr/>
            <p:nvPr/>
          </p:nvSpPr>
          <p:spPr>
            <a:xfrm>
              <a:off x="1652040" y="2442240"/>
              <a:ext cx="76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9" name="Group 32"/>
          <p:cNvGrpSpPr/>
          <p:nvPr/>
        </p:nvGrpSpPr>
        <p:grpSpPr>
          <a:xfrm>
            <a:off x="3492360" y="981000"/>
            <a:ext cx="1942920" cy="1871280"/>
            <a:chOff x="3492360" y="981000"/>
            <a:chExt cx="1942920" cy="1871280"/>
          </a:xfrm>
        </p:grpSpPr>
        <p:sp>
          <p:nvSpPr>
            <p:cNvPr id="550" name="AutoShape 33"/>
            <p:cNvSpPr/>
            <p:nvPr/>
          </p:nvSpPr>
          <p:spPr>
            <a:xfrm>
              <a:off x="3492360" y="981000"/>
              <a:ext cx="1942920" cy="1871280"/>
            </a:xfrm>
            <a:custGeom>
              <a:avLst/>
              <a:gdLst>
                <a:gd name="textAreaLeft" fmla="*/ 663480 w 1942920"/>
                <a:gd name="textAreaRight" fmla="*/ 1279440 w 1942920"/>
                <a:gd name="textAreaTop" fmla="*/ 639000 h 1871280"/>
                <a:gd name="textAreaBottom" fmla="*/ 1232280 h 18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6050" y="11723"/>
                  </a:lnTo>
                  <a:lnTo>
                    <a:pt x="786" y="14846"/>
                  </a:lnTo>
                  <a:lnTo>
                    <a:pt x="6742" y="13436"/>
                  </a:lnTo>
                  <a:lnTo>
                    <a:pt x="3163" y="18437"/>
                  </a:lnTo>
                  <a:lnTo>
                    <a:pt x="8094" y="14812"/>
                  </a:lnTo>
                  <a:lnTo>
                    <a:pt x="6580" y="20741"/>
                  </a:lnTo>
                  <a:lnTo>
                    <a:pt x="9794" y="15533"/>
                  </a:lnTo>
                  <a:lnTo>
                    <a:pt x="10800" y="21600"/>
                  </a:lnTo>
                  <a:lnTo>
                    <a:pt x="11723" y="15550"/>
                  </a:lnTo>
                  <a:lnTo>
                    <a:pt x="14846" y="20814"/>
                  </a:lnTo>
                  <a:lnTo>
                    <a:pt x="13436" y="14858"/>
                  </a:lnTo>
                  <a:lnTo>
                    <a:pt x="18437" y="18437"/>
                  </a:lnTo>
                  <a:lnTo>
                    <a:pt x="14812" y="13506"/>
                  </a:lnTo>
                  <a:lnTo>
                    <a:pt x="20741" y="15020"/>
                  </a:lnTo>
                  <a:lnTo>
                    <a:pt x="15533" y="11806"/>
                  </a:lnTo>
                  <a:lnTo>
                    <a:pt x="21600" y="10800"/>
                  </a:lnTo>
                  <a:lnTo>
                    <a:pt x="15550" y="9877"/>
                  </a:lnTo>
                  <a:lnTo>
                    <a:pt x="20814" y="6754"/>
                  </a:lnTo>
                  <a:lnTo>
                    <a:pt x="14858" y="8164"/>
                  </a:lnTo>
                  <a:lnTo>
                    <a:pt x="18437" y="3163"/>
                  </a:lnTo>
                  <a:lnTo>
                    <a:pt x="13506" y="6788"/>
                  </a:lnTo>
                  <a:lnTo>
                    <a:pt x="15020" y="859"/>
                  </a:lnTo>
                  <a:lnTo>
                    <a:pt x="11806" y="6067"/>
                  </a:lnTo>
                  <a:lnTo>
                    <a:pt x="10800" y="0"/>
                  </a:lnTo>
                  <a:lnTo>
                    <a:pt x="9877" y="6050"/>
                  </a:lnTo>
                  <a:lnTo>
                    <a:pt x="6754" y="786"/>
                  </a:lnTo>
                  <a:lnTo>
                    <a:pt x="8164" y="6742"/>
                  </a:lnTo>
                  <a:lnTo>
                    <a:pt x="3163" y="3163"/>
                  </a:lnTo>
                  <a:lnTo>
                    <a:pt x="6788" y="8094"/>
                  </a:lnTo>
                  <a:lnTo>
                    <a:pt x="859" y="6580"/>
                  </a:lnTo>
                  <a:lnTo>
                    <a:pt x="6067" y="979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7fc1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Text Box 34"/>
            <p:cNvSpPr/>
            <p:nvPr/>
          </p:nvSpPr>
          <p:spPr>
            <a:xfrm>
              <a:off x="4079520" y="1550520"/>
              <a:ext cx="739800" cy="581400"/>
            </a:xfrm>
            <a:prstGeom prst="rect">
              <a:avLst/>
            </a:prstGeom>
            <a:solidFill>
              <a:srgbClr val="f7fc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2" name="Group 35"/>
          <p:cNvGrpSpPr/>
          <p:nvPr/>
        </p:nvGrpSpPr>
        <p:grpSpPr>
          <a:xfrm>
            <a:off x="2050920" y="3933720"/>
            <a:ext cx="2017440" cy="1800000"/>
            <a:chOff x="2050920" y="3933720"/>
            <a:chExt cx="2017440" cy="1800000"/>
          </a:xfrm>
        </p:grpSpPr>
        <p:sp>
          <p:nvSpPr>
            <p:cNvPr id="553" name="AutoShape 36"/>
            <p:cNvSpPr/>
            <p:nvPr/>
          </p:nvSpPr>
          <p:spPr>
            <a:xfrm>
              <a:off x="2050920" y="3933720"/>
              <a:ext cx="2017440" cy="1800000"/>
            </a:xfrm>
            <a:custGeom>
              <a:avLst/>
              <a:gdLst>
                <a:gd name="textAreaLeft" fmla="*/ 689040 w 2017440"/>
                <a:gd name="textAreaRight" fmla="*/ 1328400 w 2017440"/>
                <a:gd name="textAreaTop" fmla="*/ 614880 h 1800000"/>
                <a:gd name="textAreaBottom" fmla="*/ 118512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6050" y="11723"/>
                  </a:lnTo>
                  <a:lnTo>
                    <a:pt x="786" y="14846"/>
                  </a:lnTo>
                  <a:lnTo>
                    <a:pt x="6742" y="13436"/>
                  </a:lnTo>
                  <a:lnTo>
                    <a:pt x="3163" y="18437"/>
                  </a:lnTo>
                  <a:lnTo>
                    <a:pt x="8094" y="14812"/>
                  </a:lnTo>
                  <a:lnTo>
                    <a:pt x="6580" y="20741"/>
                  </a:lnTo>
                  <a:lnTo>
                    <a:pt x="9794" y="15533"/>
                  </a:lnTo>
                  <a:lnTo>
                    <a:pt x="10800" y="21600"/>
                  </a:lnTo>
                  <a:lnTo>
                    <a:pt x="11723" y="15550"/>
                  </a:lnTo>
                  <a:lnTo>
                    <a:pt x="14846" y="20814"/>
                  </a:lnTo>
                  <a:lnTo>
                    <a:pt x="13436" y="14858"/>
                  </a:lnTo>
                  <a:lnTo>
                    <a:pt x="18437" y="18437"/>
                  </a:lnTo>
                  <a:lnTo>
                    <a:pt x="14812" y="13506"/>
                  </a:lnTo>
                  <a:lnTo>
                    <a:pt x="20741" y="15020"/>
                  </a:lnTo>
                  <a:lnTo>
                    <a:pt x="15533" y="11806"/>
                  </a:lnTo>
                  <a:lnTo>
                    <a:pt x="21600" y="10800"/>
                  </a:lnTo>
                  <a:lnTo>
                    <a:pt x="15550" y="9877"/>
                  </a:lnTo>
                  <a:lnTo>
                    <a:pt x="20814" y="6754"/>
                  </a:lnTo>
                  <a:lnTo>
                    <a:pt x="14858" y="8164"/>
                  </a:lnTo>
                  <a:lnTo>
                    <a:pt x="18437" y="3163"/>
                  </a:lnTo>
                  <a:lnTo>
                    <a:pt x="13506" y="6788"/>
                  </a:lnTo>
                  <a:lnTo>
                    <a:pt x="15020" y="859"/>
                  </a:lnTo>
                  <a:lnTo>
                    <a:pt x="11806" y="6067"/>
                  </a:lnTo>
                  <a:lnTo>
                    <a:pt x="10800" y="0"/>
                  </a:lnTo>
                  <a:lnTo>
                    <a:pt x="9877" y="6050"/>
                  </a:lnTo>
                  <a:lnTo>
                    <a:pt x="6754" y="786"/>
                  </a:lnTo>
                  <a:lnTo>
                    <a:pt x="8164" y="6742"/>
                  </a:lnTo>
                  <a:lnTo>
                    <a:pt x="3163" y="3163"/>
                  </a:lnTo>
                  <a:lnTo>
                    <a:pt x="6788" y="8094"/>
                  </a:lnTo>
                  <a:lnTo>
                    <a:pt x="859" y="6580"/>
                  </a:lnTo>
                  <a:lnTo>
                    <a:pt x="6067" y="979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7fc1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Text Box 37"/>
            <p:cNvSpPr/>
            <p:nvPr/>
          </p:nvSpPr>
          <p:spPr>
            <a:xfrm>
              <a:off x="2660400" y="4481640"/>
              <a:ext cx="768240" cy="581400"/>
            </a:xfrm>
            <a:prstGeom prst="rect">
              <a:avLst/>
            </a:prstGeom>
            <a:solidFill>
              <a:srgbClr val="f7fc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5" name="Group 38"/>
          <p:cNvGrpSpPr/>
          <p:nvPr/>
        </p:nvGrpSpPr>
        <p:grpSpPr>
          <a:xfrm>
            <a:off x="4643280" y="3714840"/>
            <a:ext cx="1942920" cy="1799640"/>
            <a:chOff x="4643280" y="3714840"/>
            <a:chExt cx="1942920" cy="1799640"/>
          </a:xfrm>
        </p:grpSpPr>
        <p:sp>
          <p:nvSpPr>
            <p:cNvPr id="556" name="AutoShape 39"/>
            <p:cNvSpPr/>
            <p:nvPr/>
          </p:nvSpPr>
          <p:spPr>
            <a:xfrm>
              <a:off x="4643280" y="3714840"/>
              <a:ext cx="1942920" cy="1799640"/>
            </a:xfrm>
            <a:custGeom>
              <a:avLst/>
              <a:gdLst>
                <a:gd name="textAreaLeft" fmla="*/ 663480 w 1942920"/>
                <a:gd name="textAreaRight" fmla="*/ 1279440 w 1942920"/>
                <a:gd name="textAreaTop" fmla="*/ 614520 h 1799640"/>
                <a:gd name="textAreaBottom" fmla="*/ 1185120 h 179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6050" y="11723"/>
                  </a:lnTo>
                  <a:lnTo>
                    <a:pt x="786" y="14846"/>
                  </a:lnTo>
                  <a:lnTo>
                    <a:pt x="6742" y="13436"/>
                  </a:lnTo>
                  <a:lnTo>
                    <a:pt x="3163" y="18437"/>
                  </a:lnTo>
                  <a:lnTo>
                    <a:pt x="8094" y="14812"/>
                  </a:lnTo>
                  <a:lnTo>
                    <a:pt x="6580" y="20741"/>
                  </a:lnTo>
                  <a:lnTo>
                    <a:pt x="9794" y="15533"/>
                  </a:lnTo>
                  <a:lnTo>
                    <a:pt x="10800" y="21600"/>
                  </a:lnTo>
                  <a:lnTo>
                    <a:pt x="11723" y="15550"/>
                  </a:lnTo>
                  <a:lnTo>
                    <a:pt x="14846" y="20814"/>
                  </a:lnTo>
                  <a:lnTo>
                    <a:pt x="13436" y="14858"/>
                  </a:lnTo>
                  <a:lnTo>
                    <a:pt x="18437" y="18437"/>
                  </a:lnTo>
                  <a:lnTo>
                    <a:pt x="14812" y="13506"/>
                  </a:lnTo>
                  <a:lnTo>
                    <a:pt x="20741" y="15020"/>
                  </a:lnTo>
                  <a:lnTo>
                    <a:pt x="15533" y="11806"/>
                  </a:lnTo>
                  <a:lnTo>
                    <a:pt x="21600" y="10800"/>
                  </a:lnTo>
                  <a:lnTo>
                    <a:pt x="15550" y="9877"/>
                  </a:lnTo>
                  <a:lnTo>
                    <a:pt x="20814" y="6754"/>
                  </a:lnTo>
                  <a:lnTo>
                    <a:pt x="14858" y="8164"/>
                  </a:lnTo>
                  <a:lnTo>
                    <a:pt x="18437" y="3163"/>
                  </a:lnTo>
                  <a:lnTo>
                    <a:pt x="13506" y="6788"/>
                  </a:lnTo>
                  <a:lnTo>
                    <a:pt x="15020" y="859"/>
                  </a:lnTo>
                  <a:lnTo>
                    <a:pt x="11806" y="6067"/>
                  </a:lnTo>
                  <a:lnTo>
                    <a:pt x="10800" y="0"/>
                  </a:lnTo>
                  <a:lnTo>
                    <a:pt x="9877" y="6050"/>
                  </a:lnTo>
                  <a:lnTo>
                    <a:pt x="6754" y="786"/>
                  </a:lnTo>
                  <a:lnTo>
                    <a:pt x="8164" y="6742"/>
                  </a:lnTo>
                  <a:lnTo>
                    <a:pt x="3163" y="3163"/>
                  </a:lnTo>
                  <a:lnTo>
                    <a:pt x="6788" y="8094"/>
                  </a:lnTo>
                  <a:lnTo>
                    <a:pt x="859" y="6580"/>
                  </a:lnTo>
                  <a:lnTo>
                    <a:pt x="6067" y="979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7fc1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Text Box 40"/>
            <p:cNvSpPr/>
            <p:nvPr/>
          </p:nvSpPr>
          <p:spPr>
            <a:xfrm>
              <a:off x="5230440" y="4262400"/>
              <a:ext cx="739800" cy="581400"/>
            </a:xfrm>
            <a:prstGeom prst="rect">
              <a:avLst/>
            </a:prstGeom>
            <a:solidFill>
              <a:srgbClr val="f7fc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8" name="Group 41"/>
          <p:cNvGrpSpPr/>
          <p:nvPr/>
        </p:nvGrpSpPr>
        <p:grpSpPr>
          <a:xfrm>
            <a:off x="5867280" y="1844640"/>
            <a:ext cx="2089080" cy="1800000"/>
            <a:chOff x="5867280" y="1844640"/>
            <a:chExt cx="2089080" cy="1800000"/>
          </a:xfrm>
        </p:grpSpPr>
        <p:sp>
          <p:nvSpPr>
            <p:cNvPr id="559" name="AutoShape 42">
              <a:hlinkClick r:id="rId1" action="ppaction://hlinksldjump"/>
            </p:cNvPr>
            <p:cNvSpPr/>
            <p:nvPr/>
          </p:nvSpPr>
          <p:spPr>
            <a:xfrm>
              <a:off x="5867280" y="1844640"/>
              <a:ext cx="2089080" cy="1800000"/>
            </a:xfrm>
            <a:custGeom>
              <a:avLst/>
              <a:gdLst>
                <a:gd name="textAreaLeft" fmla="*/ 713520 w 2089080"/>
                <a:gd name="textAreaRight" fmla="*/ 1375560 w 2089080"/>
                <a:gd name="textAreaTop" fmla="*/ 614880 h 1800000"/>
                <a:gd name="textAreaBottom" fmla="*/ 118512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6050" y="11723"/>
                  </a:lnTo>
                  <a:lnTo>
                    <a:pt x="786" y="14846"/>
                  </a:lnTo>
                  <a:lnTo>
                    <a:pt x="6742" y="13436"/>
                  </a:lnTo>
                  <a:lnTo>
                    <a:pt x="3163" y="18437"/>
                  </a:lnTo>
                  <a:lnTo>
                    <a:pt x="8094" y="14812"/>
                  </a:lnTo>
                  <a:lnTo>
                    <a:pt x="6580" y="20741"/>
                  </a:lnTo>
                  <a:lnTo>
                    <a:pt x="9794" y="15533"/>
                  </a:lnTo>
                  <a:lnTo>
                    <a:pt x="10800" y="21600"/>
                  </a:lnTo>
                  <a:lnTo>
                    <a:pt x="11723" y="15550"/>
                  </a:lnTo>
                  <a:lnTo>
                    <a:pt x="14846" y="20814"/>
                  </a:lnTo>
                  <a:lnTo>
                    <a:pt x="13436" y="14858"/>
                  </a:lnTo>
                  <a:lnTo>
                    <a:pt x="18437" y="18437"/>
                  </a:lnTo>
                  <a:lnTo>
                    <a:pt x="14812" y="13506"/>
                  </a:lnTo>
                  <a:lnTo>
                    <a:pt x="20741" y="15020"/>
                  </a:lnTo>
                  <a:lnTo>
                    <a:pt x="15533" y="11806"/>
                  </a:lnTo>
                  <a:lnTo>
                    <a:pt x="21600" y="10800"/>
                  </a:lnTo>
                  <a:lnTo>
                    <a:pt x="15550" y="9877"/>
                  </a:lnTo>
                  <a:lnTo>
                    <a:pt x="20814" y="6754"/>
                  </a:lnTo>
                  <a:lnTo>
                    <a:pt x="14858" y="8164"/>
                  </a:lnTo>
                  <a:lnTo>
                    <a:pt x="18437" y="3163"/>
                  </a:lnTo>
                  <a:lnTo>
                    <a:pt x="13506" y="6788"/>
                  </a:lnTo>
                  <a:lnTo>
                    <a:pt x="15020" y="859"/>
                  </a:lnTo>
                  <a:lnTo>
                    <a:pt x="11806" y="6067"/>
                  </a:lnTo>
                  <a:lnTo>
                    <a:pt x="10800" y="0"/>
                  </a:lnTo>
                  <a:lnTo>
                    <a:pt x="9877" y="6050"/>
                  </a:lnTo>
                  <a:lnTo>
                    <a:pt x="6754" y="786"/>
                  </a:lnTo>
                  <a:lnTo>
                    <a:pt x="8164" y="6742"/>
                  </a:lnTo>
                  <a:lnTo>
                    <a:pt x="3163" y="3163"/>
                  </a:lnTo>
                  <a:lnTo>
                    <a:pt x="6788" y="8094"/>
                  </a:lnTo>
                  <a:lnTo>
                    <a:pt x="859" y="6580"/>
                  </a:lnTo>
                  <a:lnTo>
                    <a:pt x="6067" y="979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7fc1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43"/>
            <p:cNvSpPr/>
            <p:nvPr/>
          </p:nvSpPr>
          <p:spPr>
            <a:xfrm>
              <a:off x="6498720" y="2392560"/>
              <a:ext cx="795240" cy="581400"/>
            </a:xfrm>
            <a:prstGeom prst="rect">
              <a:avLst/>
            </a:prstGeom>
            <a:solidFill>
              <a:srgbClr val="f7fc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1" name="Rectangle 3"/>
          <p:cNvSpPr/>
          <p:nvPr/>
        </p:nvSpPr>
        <p:spPr>
          <a:xfrm>
            <a:off x="4000680" y="5462640"/>
            <a:ext cx="514332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шкина Ксения Никола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математики, инфор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«Старочервовская ООШ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меровского района Кемеров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a00de"/>
                </a:solidFill>
                <a:latin typeface="Arial"/>
              </a:rPr>
              <a:t>Билет 1.   </a:t>
            </a:r>
            <a:br>
              <a:rPr sz="3600"/>
            </a:br>
            <a:r>
              <a:rPr b="1" lang="ru-RU" sz="3600" spc="-1" strike="noStrike">
                <a:solidFill>
                  <a:srgbClr val="3a00de"/>
                </a:solidFill>
                <a:latin typeface="Arial"/>
              </a:rPr>
              <a:t>Хим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9280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то прозрачный газ без запаха. Как и все газы, его можно превратить в жидкость. В природе он образуется в результате разложения под землей или под водой остатков органических веществ, растений и животных. Его можно встретить и в угольных шахтах. Там может скопиться такое количество газа, что он становится опасным: достаточно небольшой искры, чтоб газ начал реагировать с кислородом и произошел взрыв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1476360" y="6093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от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3564000" y="5877000"/>
            <a:ext cx="241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a00de"/>
                </a:solidFill>
                <a:latin typeface="Comic Sans MS"/>
              </a:rPr>
              <a:t>МЕТА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1844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00de"/>
                </a:solidFill>
                <a:latin typeface="Arial"/>
              </a:rPr>
              <a:t>Билет 2.   </a:t>
            </a:r>
            <a:br>
              <a:rPr sz="4000"/>
            </a:br>
            <a:r>
              <a:rPr b="0" lang="ru-RU" sz="4000" spc="-1" strike="noStrike">
                <a:solidFill>
                  <a:srgbClr val="3a00de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3a00de"/>
                </a:solidFill>
                <a:latin typeface="Arial"/>
              </a:rPr>
              <a:t>Химия + биолог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496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Отбросив три буквы подряд в названии крупного млекопитающего отряда хищных получите название химического элемента первой группы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1476360" y="6093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от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3492360" y="5950080"/>
            <a:ext cx="24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omic Sans MS"/>
              </a:rPr>
              <a:t>ме</a:t>
            </a:r>
            <a:r>
              <a:rPr b="1" lang="ru-RU" sz="3600" spc="-1" strike="noStrike">
                <a:solidFill>
                  <a:srgbClr val="3a00de"/>
                </a:solidFill>
                <a:latin typeface="Comic Sans MS"/>
              </a:rPr>
              <a:t>две</a:t>
            </a:r>
            <a:r>
              <a:rPr b="1" lang="ru-RU" sz="3600" spc="-1" strike="noStrike">
                <a:solidFill>
                  <a:srgbClr val="ff3300"/>
                </a:solidFill>
                <a:latin typeface="Comic Sans MS"/>
              </a:rPr>
              <a:t>д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132000" y="189000"/>
            <a:ext cx="5554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a00de"/>
                </a:solidFill>
                <a:latin typeface="Arial"/>
              </a:rPr>
              <a:t>Билет 3.     </a:t>
            </a:r>
            <a:br>
              <a:rPr sz="3600"/>
            </a:br>
            <a:r>
              <a:rPr b="0" lang="ru-RU" sz="3600" spc="-1" strike="noStrike">
                <a:solidFill>
                  <a:srgbClr val="3a00de"/>
                </a:solidFill>
                <a:latin typeface="Arial"/>
              </a:rPr>
              <a:t>Математи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555640" y="1700280"/>
            <a:ext cx="6119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езд №1 отправляется из Новгорода в Москву. А через час  поезд №2 отправляется из Москвы в Новгород. Какой из них в момент встречи будет ближе к Москв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2700360" y="6093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от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4284720" y="587700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a00de"/>
                </a:solidFill>
                <a:latin typeface="Comic Sans MS"/>
              </a:rPr>
              <a:t>одинако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a00de"/>
                </a:solidFill>
                <a:latin typeface="Arial"/>
              </a:rPr>
              <a:t>Билет 4.     </a:t>
            </a:r>
            <a:br>
              <a:rPr sz="4400"/>
            </a:br>
            <a:r>
              <a:rPr b="0" lang="ru-RU" sz="4400" spc="-1" strike="noStrike">
                <a:solidFill>
                  <a:srgbClr val="3a00de"/>
                </a:solidFill>
                <a:latin typeface="Arial"/>
              </a:rPr>
              <a:t>Географ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496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Как называется дробь в числителе которой единица, а в знаменателе число, показывающее, во сколько раз длина линии на карте меньше длины линии на местности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1476360" y="6093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c13"/>
                </a:solidFill>
                <a:latin typeface="Comic Sans MS"/>
              </a:rPr>
              <a:t>от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3564000" y="587700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fc13"/>
                </a:solidFill>
                <a:latin typeface="Comic Sans MS"/>
              </a:rPr>
              <a:t>масшта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3300"/>
                </a:solidFill>
                <a:latin typeface="Arial"/>
              </a:rPr>
              <a:t>Билет 5.</a:t>
            </a:r>
            <a:br>
              <a:rPr sz="3900"/>
            </a:br>
            <a:r>
              <a:rPr b="0" lang="ru-RU" sz="3900" spc="-1" strike="noStrike">
                <a:solidFill>
                  <a:srgbClr val="ff3300"/>
                </a:solidFill>
                <a:latin typeface="Arial"/>
              </a:rPr>
              <a:t>Физик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324000" y="53737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omic Sans MS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2268360" y="5373720"/>
            <a:ext cx="69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omic Sans MS"/>
              </a:rPr>
              <a:t>Электропоезд не дым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692360" y="1989000"/>
            <a:ext cx="69832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лектропоезд идет с востока на запад. Ветер дует с севера на юг. В какую сторону отклоняется дым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7:58:24Z</dcterms:created>
  <dc:creator>1</dc:creator>
  <dc:description/>
  <dc:language>en-US</dc:language>
  <cp:lastModifiedBy>Admin</cp:lastModifiedBy>
  <dcterms:modified xsi:type="dcterms:W3CDTF">2012-08-29T21:12:05Z</dcterms:modified>
  <cp:revision>5</cp:revision>
  <dc:subject/>
  <dc:title>Слайд 1</dc:title>
</cp:coreProperties>
</file>