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222-7014-4C51-980A-93ED0DC9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183-2F7E-4134-94F4-56CA1D5C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C17-69FF-409C-8B82-04E2BAE1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A4D-D141-435E-8A67-9A17B301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E216-226D-46B2-8827-1008ED2C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56D3-6D40-4543-9515-0828E043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5237-4C8D-4681-8BD1-8BE2AAFE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0805-A96A-49D5-B4E5-98022930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950D-C9A8-41EC-A74C-70072230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4796-7A5A-4C01-9644-940FC670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B337-EB41-4E8E-B967-7DEA30FE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2B3-4C12-467E-92B7-4AB3A84B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613E-2DB4-45E5-BF30-E4546149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4778-FC6F-4FB7-A591-276B45ED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C5D6-0739-4893-ADC6-D2002175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9DC2-D9A0-4C5D-AD6D-19EF8331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4AD8-23B6-4D69-B11C-936124B5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05ED-F4BE-4363-9B1D-C3C91843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68592-DC01-4A3F-82AF-C0745317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6234-4FDC-4BC7-9BB3-FC93EF17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31FD-C4BA-4831-AA2C-FB541458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35A40-C40E-416F-87F9-AD7569DD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564-43A8-469F-924B-0D5B56BB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3F1A-3E4E-4B10-966D-FA4FFA5F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7BB34-8C89-4A4D-813F-C13470D8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9E3B-3D82-4080-80A7-8F127804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B460-9D01-433C-8E5A-E50731C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A000-5864-4961-A94A-56CDD154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F047-45E2-4452-9FEE-ED277F13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65C24-F558-4BD8-8B6B-D39C4928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B5561-37E9-4A46-824A-2EF3A48C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41BB-4A25-4B9E-AD9F-5366A5D5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ABC20-4E33-4D69-AD0C-79C73A7D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873-B694-45EE-8A2A-950B45AE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00BB1-DBE7-448C-A1BE-BB658F36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6A454-8D62-4911-9C3D-812A6D01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6547-E7D5-4E85-BBD1-81AE3329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F681A-CF29-426C-81CB-3CBDEEC8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083A6-50F7-40D8-96D6-A7937802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97B20-0B52-4A38-9F7D-07923275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7F65F-B37D-41E2-86F4-45EBCF43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7BF2-CE55-4F5A-89B3-F2E856FB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F7838-5148-45E7-80F2-02715317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52B-FD39-431F-A58E-DCFAB153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F7C-398E-4B16-93F5-BF2679F7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3C9-5B6A-452D-B5B4-0C0C7AEE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C37-57A1-4640-A2A4-0060A67F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9E1-9130-443C-B7A2-13CF71E2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9938-3A40-49F2-B9E0-E39861F431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F137-DC89-4AF3-A4CD-0A7FAF118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5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A550-C4EB-4549-BE0D-7CFBAB99BA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0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90BC-F232-40D5-A968-B27258C16C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14.xml"/><Relationship Id="rId7" Type="http://schemas.openxmlformats.org/officeDocument/2006/relationships/slide" Target="slide11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13.xml"/><Relationship Id="rId11" Type="http://schemas.openxmlformats.org/officeDocument/2006/relationships/slide" Target="slide10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5.xml"/><Relationship Id="rId15" Type="http://schemas.openxmlformats.org/officeDocument/2006/relationships/slide" Target="slide9.xml"/><Relationship Id="rId16" Type="http://schemas.openxmlformats.org/officeDocument/2006/relationships/slide" Target="slide12.xml"/><Relationship Id="rId17" Type="http://schemas.openxmlformats.org/officeDocument/2006/relationships/slide" Target="slide3.xml"/><Relationship Id="rId18" Type="http://schemas.openxmlformats.org/officeDocument/2006/relationships/slide" Target="slide3.xml"/><Relationship Id="rId19" Type="http://schemas.openxmlformats.org/officeDocument/2006/relationships/slide" Target="slide3.xml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848720" cy="716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К доске </a:t>
            </a: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II </a:t>
            </a: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тур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11280" y="3141360"/>
            <a:ext cx="8137440" cy="16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ктори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тественно – математическо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ик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" y="5462640"/>
            <a:ext cx="813744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ишкина Ксения Никола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математики, информат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БОУ «Старочервовская ООШ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емеровского района Кемеровской обла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Математика + географ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200"/>
                </a:solidFill>
                <a:latin typeface="Comic Sans MS"/>
              </a:rPr>
              <a:t>Сколько океанов омывает берега России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13372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886200" y="53341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00de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Математика + географ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4200"/>
                </a:solidFill>
                <a:latin typeface="Comic Sans MS"/>
              </a:rPr>
              <a:t>Сколько на земле частей света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13372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3886200" y="53341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00de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Вопрос:</a:t>
            </a:r>
            <a:br>
              <a:rPr sz="4000"/>
            </a:b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Биология +</a:t>
            </a:r>
            <a:r>
              <a:rPr b="1" lang="ru-RU" sz="4000" spc="-1" strike="noStrike">
                <a:solidFill>
                  <a:srgbClr val="3a00d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Математик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4200"/>
                </a:solidFill>
                <a:latin typeface="Comic Sans MS"/>
              </a:rPr>
              <a:t>Сколько пар ног у насекомых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213372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3886200" y="53341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00de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Вопрос:</a:t>
            </a:r>
            <a:br>
              <a:rPr sz="4000"/>
            </a:b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Биология +</a:t>
            </a:r>
            <a:r>
              <a:rPr b="1" lang="ru-RU" sz="4000" spc="-1" strike="noStrike">
                <a:solidFill>
                  <a:srgbClr val="3a00d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Математик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200"/>
                </a:solidFill>
                <a:latin typeface="Comic Sans MS"/>
              </a:rPr>
              <a:t>На сколько процентов огурцы состоят из воды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213372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3886200" y="53341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00de"/>
                </a:solidFill>
                <a:latin typeface="Comic Sans MS"/>
              </a:rPr>
              <a:t>На 98%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Вопрос:</a:t>
            </a:r>
            <a:br>
              <a:rPr sz="4000"/>
            </a:b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Биология +</a:t>
            </a:r>
            <a:r>
              <a:rPr b="1" lang="ru-RU" sz="4000" spc="-1" strike="noStrike">
                <a:solidFill>
                  <a:srgbClr val="3a00d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Математик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200"/>
                </a:solidFill>
                <a:latin typeface="Comic Sans MS"/>
              </a:rPr>
              <a:t>Сколько основных групп крови у человека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13372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3886200" y="53341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00de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9"/>
          <p:cNvGrpSpPr/>
          <p:nvPr/>
        </p:nvGrpSpPr>
        <p:grpSpPr>
          <a:xfrm>
            <a:off x="-1016640" y="2119320"/>
            <a:ext cx="9576720" cy="8105400"/>
            <a:chOff x="-1016640" y="2119320"/>
            <a:chExt cx="9576720" cy="8105400"/>
          </a:xfrm>
        </p:grpSpPr>
        <p:sp>
          <p:nvSpPr>
            <p:cNvPr id="315" name="AutoShape 26"/>
            <p:cNvSpPr/>
            <p:nvPr/>
          </p:nvSpPr>
          <p:spPr>
            <a:xfrm rot="12668400">
              <a:off x="-533160" y="4038120"/>
              <a:ext cx="8610480" cy="4267440"/>
            </a:xfrm>
            <a:prstGeom prst="triangle">
              <a:avLst>
                <a:gd name="adj" fmla="val 84273"/>
              </a:avLst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Line 27"/>
            <p:cNvSpPr/>
            <p:nvPr/>
          </p:nvSpPr>
          <p:spPr>
            <a:xfrm flipV="1">
              <a:off x="157680" y="4326480"/>
              <a:ext cx="4685040" cy="2154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Line 28"/>
            <p:cNvSpPr/>
            <p:nvPr/>
          </p:nvSpPr>
          <p:spPr>
            <a:xfrm flipH="1" flipV="1">
              <a:off x="690840" y="4272120"/>
              <a:ext cx="7868880" cy="2300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8" name="Text Box 31"/>
          <p:cNvSpPr/>
          <p:nvPr/>
        </p:nvSpPr>
        <p:spPr>
          <a:xfrm>
            <a:off x="304920" y="2286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Times New Roman"/>
              </a:rPr>
              <a:t>Сколько треугольников на рисунке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32"/>
          <p:cNvSpPr/>
          <p:nvPr/>
        </p:nvSpPr>
        <p:spPr>
          <a:xfrm>
            <a:off x="5867280" y="22096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7772400" y="2209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9">
                                  <p:stCondLst>
                                    <p:cond delay="7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7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10"/>
          <p:cNvSpPr txBox="1"/>
          <p:nvPr/>
        </p:nvSpPr>
        <p:spPr>
          <a:xfrm>
            <a:off x="990720" y="990720"/>
            <a:ext cx="70866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во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Comic Sans MS"/>
              </a:rPr>
              <a:t>Второй ур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23">
            <a:hlinkClick r:id="rId1" action="ppaction://hlinksldjump"/>
          </p:cNvPr>
          <p:cNvSpPr/>
          <p:nvPr/>
        </p:nvSpPr>
        <p:spPr>
          <a:xfrm>
            <a:off x="1403280" y="6316560"/>
            <a:ext cx="55450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Comic Sans MS"/>
              </a:rPr>
              <a:t>ПЕРЕМЕ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25">
            <a:hlinkClick r:id="rId2" action="ppaction://hlinksldjump"/>
          </p:cNvPr>
          <p:cNvSpPr/>
          <p:nvPr/>
        </p:nvSpPr>
        <p:spPr>
          <a:xfrm>
            <a:off x="3581280" y="990720"/>
            <a:ext cx="18288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3" action="ppaction://hlinksldjump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4" action="ppaction://hlinksldjump"/>
              </a:rPr>
              <a:t> +физ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3581280" y="2209680"/>
            <a:ext cx="182880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5" action="ppaction://hlinksldjump"/>
              </a:rPr>
              <a:t>Химия + биолог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6095880" y="4533840"/>
            <a:ext cx="18288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6" action="ppaction://hlinksldjump"/>
              </a:rPr>
              <a:t>Биология + Матема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6095880" y="3314880"/>
            <a:ext cx="18288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7" action="ppaction://hlinksldjump"/>
              </a:rPr>
              <a:t>Математика + географ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30">
            <a:hlinkClick r:id="rId8" action="ppaction://hlinksldjump"/>
          </p:cNvPr>
          <p:cNvSpPr/>
          <p:nvPr/>
        </p:nvSpPr>
        <p:spPr>
          <a:xfrm>
            <a:off x="3505320" y="3352680"/>
            <a:ext cx="1828800" cy="6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9" action="ppaction://hlinksldjump"/>
              </a:rPr>
              <a:t>Химия +физ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3505320" y="4572000"/>
            <a:ext cx="18288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10" action="ppaction://hlinksldjump"/>
              </a:rPr>
              <a:t>Биология + Матема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6095880" y="2171880"/>
            <a:ext cx="18288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11" action="ppaction://hlinksldjump"/>
              </a:rPr>
              <a:t>Математика + географ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34">
            <a:hlinkClick r:id="rId12" action="ppaction://hlinksldjump"/>
          </p:cNvPr>
          <p:cNvSpPr/>
          <p:nvPr/>
        </p:nvSpPr>
        <p:spPr>
          <a:xfrm>
            <a:off x="914400" y="3314880"/>
            <a:ext cx="18288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13" action="ppaction://hlinksldjump"/>
              </a:rPr>
              <a:t>Химия +физ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36"/>
          <p:cNvSpPr/>
          <p:nvPr/>
        </p:nvSpPr>
        <p:spPr>
          <a:xfrm>
            <a:off x="914400" y="2171880"/>
            <a:ext cx="18288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14" action="ppaction://hlinksldjump"/>
              </a:rPr>
              <a:t>Химия + биолог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37"/>
          <p:cNvSpPr/>
          <p:nvPr/>
        </p:nvSpPr>
        <p:spPr>
          <a:xfrm>
            <a:off x="6095880" y="990720"/>
            <a:ext cx="18288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15" action="ppaction://hlinksldjump"/>
              </a:rPr>
              <a:t>Математика + географ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38"/>
          <p:cNvSpPr/>
          <p:nvPr/>
        </p:nvSpPr>
        <p:spPr>
          <a:xfrm>
            <a:off x="990720" y="4572000"/>
            <a:ext cx="18288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16" action="ppaction://hlinksldjump"/>
              </a:rPr>
              <a:t>Биология + Матема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40">
            <a:hlinkClick r:id="rId17" action="ppaction://hlinksldjump"/>
          </p:cNvPr>
          <p:cNvSpPr/>
          <p:nvPr/>
        </p:nvSpPr>
        <p:spPr>
          <a:xfrm>
            <a:off x="990720" y="990720"/>
            <a:ext cx="18288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18" action="ppaction://hlinksldjump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Comic Sans MS"/>
                <a:hlinkClick r:id="rId19" action="ppaction://hlinksldjump"/>
              </a:rPr>
              <a:t> +физ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Математика + физ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200"/>
                </a:solidFill>
                <a:latin typeface="Comic Sans MS"/>
              </a:rPr>
              <a:t>Так называется одна из основных деталей поршневых машин, а еще это объемная геометрическая фигура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213372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6">
            <a:hlinkClick r:id="rId1" action="ppaction://hlinksldjump"/>
          </p:cNvPr>
          <p:cNvSpPr/>
          <p:nvPr/>
        </p:nvSpPr>
        <p:spPr>
          <a:xfrm>
            <a:off x="3886200" y="53341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00de"/>
                </a:solidFill>
                <a:latin typeface="Comic Sans MS"/>
              </a:rPr>
              <a:t>Цилинд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Математика + физ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200"/>
                </a:solidFill>
                <a:latin typeface="Comic Sans MS"/>
              </a:rPr>
              <a:t>Кто имеет большую скорость: муха, летящая со скоростью 10 м/с или волк бегущий со скоростью 36 км/ч 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13372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5">
            <a:hlinkClick r:id="rId1" action="ppaction://hlinksldjump"/>
          </p:cNvPr>
          <p:cNvSpPr/>
          <p:nvPr/>
        </p:nvSpPr>
        <p:spPr>
          <a:xfrm>
            <a:off x="3886200" y="533412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00de"/>
                </a:solidFill>
                <a:latin typeface="Comic Sans MS"/>
              </a:rPr>
              <a:t>одинако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da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Химия + Биолог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200"/>
                </a:solidFill>
                <a:latin typeface="Comic Sans MS"/>
              </a:rPr>
              <a:t>Название этого химического элемента состоит из названий двух животных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213372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886200" y="53341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00de"/>
                </a:solidFill>
                <a:latin typeface="Comic Sans MS"/>
              </a:rPr>
              <a:t>МышьЯ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da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Химия + Биолог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200"/>
                </a:solidFill>
                <a:latin typeface="Comic Sans MS"/>
              </a:rPr>
              <a:t>Какой элемент таблицы Менделеева убивает микроорганизмы и безвреден для человека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13372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3886200" y="53341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00de"/>
                </a:solidFill>
                <a:latin typeface="Comic Sans MS"/>
              </a:rPr>
              <a:t>серебр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Химия + Физ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4200"/>
                </a:solidFill>
                <a:latin typeface="Comic Sans MS"/>
              </a:rPr>
              <a:t>Какой из воздушных шаров при равных объемах имеет большую подъемную силу: наполненный гелием или водородом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133720" y="579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4038480" y="56386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00de"/>
                </a:solidFill>
                <a:latin typeface="Comic Sans MS"/>
              </a:rPr>
              <a:t>водород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Химия + Физ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Comic Sans MS"/>
              </a:rPr>
              <a:t>Где быстрее распространяются запахи: в комнате при </a:t>
            </a:r>
            <a:r>
              <a:rPr b="0" lang="en-US" sz="4400" spc="-1" strike="noStrike">
                <a:solidFill>
                  <a:srgbClr val="004200"/>
                </a:solidFill>
                <a:latin typeface="Times New Roman"/>
              </a:rPr>
              <a:t>t</a:t>
            </a:r>
            <a:r>
              <a:rPr b="0" lang="ru-RU" sz="4400" spc="-1" strike="noStrike">
                <a:solidFill>
                  <a:srgbClr val="004200"/>
                </a:solidFill>
                <a:latin typeface="Comic Sans MS"/>
              </a:rPr>
              <a:t>=</a:t>
            </a:r>
            <a:r>
              <a:rPr b="0" lang="en-US" sz="4400" spc="-1" strike="noStrike">
                <a:solidFill>
                  <a:srgbClr val="004200"/>
                </a:solidFill>
                <a:latin typeface="Comic Sans MS"/>
              </a:rPr>
              <a:t>20</a:t>
            </a:r>
            <a:r>
              <a:rPr b="0" lang="en-US" sz="4400" spc="-1" strike="noStrike" baseline="30000">
                <a:solidFill>
                  <a:srgbClr val="004200"/>
                </a:solidFill>
                <a:latin typeface="Comic Sans MS"/>
              </a:rPr>
              <a:t>0</a:t>
            </a:r>
            <a:r>
              <a:rPr b="0" lang="en-US" sz="4400" spc="-1" strike="noStrike">
                <a:solidFill>
                  <a:srgbClr val="0042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4200"/>
                </a:solidFill>
                <a:latin typeface="Comic Sans MS"/>
              </a:rPr>
              <a:t>или при </a:t>
            </a:r>
            <a:r>
              <a:rPr b="0" lang="en-US" sz="4400" spc="-1" strike="noStrike">
                <a:solidFill>
                  <a:srgbClr val="0042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4200"/>
                </a:solidFill>
                <a:latin typeface="Comic Sans MS"/>
              </a:rPr>
              <a:t>=-10</a:t>
            </a:r>
            <a:r>
              <a:rPr b="0" lang="en-US" sz="4400" spc="-1" strike="noStrike" baseline="30000">
                <a:solidFill>
                  <a:srgbClr val="004200"/>
                </a:solidFill>
                <a:latin typeface="Comic Sans MS"/>
              </a:rPr>
              <a:t>0</a:t>
            </a:r>
            <a:r>
              <a:rPr b="0" lang="ru-RU" sz="4400" spc="-1" strike="noStrike">
                <a:solidFill>
                  <a:srgbClr val="004200"/>
                </a:solidFill>
                <a:latin typeface="Comic Sans MS"/>
              </a:rPr>
              <a:t> ? Почему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53352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057400" y="48769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00de"/>
                </a:solidFill>
                <a:latin typeface="Comic Sans MS"/>
              </a:rPr>
              <a:t>При </a:t>
            </a:r>
            <a:r>
              <a:rPr b="1" lang="en-US" sz="3200" spc="-1" strike="noStrike">
                <a:solidFill>
                  <a:srgbClr val="3a00de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3a00de"/>
                </a:solidFill>
                <a:latin typeface="Comic Sans MS"/>
              </a:rPr>
              <a:t>=20</a:t>
            </a:r>
            <a:r>
              <a:rPr b="1" lang="en-US" sz="3200" spc="-1" strike="noStrike" baseline="30000">
                <a:solidFill>
                  <a:srgbClr val="3a00de"/>
                </a:solidFill>
                <a:latin typeface="Comic Sans MS"/>
              </a:rPr>
              <a:t>0</a:t>
            </a:r>
            <a:r>
              <a:rPr b="1" lang="ru-RU" sz="3200" spc="-1" strike="noStrike">
                <a:solidFill>
                  <a:srgbClr val="3a00de"/>
                </a:solidFill>
                <a:latin typeface="Comic Sans MS"/>
              </a:rPr>
              <a:t>, т.к. молекулы движутся быстре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3a00de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Математика + географ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4200"/>
                </a:solidFill>
                <a:latin typeface="Comic Sans MS"/>
              </a:rPr>
              <a:t>Какой угол образует с экватором меридиан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213372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a00de"/>
                </a:solidFill>
                <a:latin typeface="Comic Sans MS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886200" y="53341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a00de"/>
                </a:solidFill>
                <a:latin typeface="Comic Sans MS"/>
              </a:rPr>
              <a:t>90</a:t>
            </a:r>
            <a:r>
              <a:rPr b="1" lang="ru-RU" sz="4400" spc="-1" strike="noStrike" baseline="30000">
                <a:solidFill>
                  <a:srgbClr val="3a00de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8-29T21:10:4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