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C24-B1D1-40CB-B6BA-A8FB58BD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185-F3E6-455F-9D71-88913BF7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E53C9-FFB4-4C17-BA48-C167C3D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2D35F-BA3C-4287-82C0-8D0D161A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5853A-4802-4599-9B1C-E560FA25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CB06F-6F46-4B00-9429-C64818B8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2F2EA-8BDE-40FB-963F-8B68556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341DE-AB65-43D8-8D97-8AD17F08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2F2DF-FA32-4A89-A6D6-A855D257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C5495-92CF-4C27-990F-12855A2A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653D9-F64D-4179-BEA9-CD349D16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166EF-ADC9-464D-A620-ACB40692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2D7-6E3C-4CBA-8872-EA3E52A6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08AD3-C78B-4FD7-A9CB-210540C2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92A62-59D8-4165-9AB2-8F3CE6C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FB084-B17F-450C-AD12-F2949D7F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8B73B-A04B-475B-A1D2-356C10ED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81FBB-4758-4916-99F2-8855ED58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9FAC8-40A9-403F-915F-7778171E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826DC-94AC-45A4-A2CF-9857171F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E79FC-FC5D-4082-A9A1-E71214F2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07770-6B6E-44C7-94BC-2BF0E32B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00914-768B-43DD-9CDC-4BCF6FDC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DC9-8847-4734-AD0E-71635E04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22C82-EC94-449C-9964-3DDCD0C9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7251C-1E3B-488F-8F3B-3FD3FFF0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C9C2C-7E76-4CB7-A284-53BEE527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157BE-C88A-478B-A8F9-8736303D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F5269-411C-43BB-B81C-A3E55365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D985E-FCC9-4510-A95D-7FFE8C65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37BB8-8906-4FB0-8497-C69DF60F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251B6-47D6-499E-8963-A99264AE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3DD4A-6B81-4DEF-86FC-E8498DF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95976-2465-421D-B6C2-67B6DB06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753D-9418-4ADE-B074-E7287DB4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594DD-2755-4420-8C8F-09896E11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2CDF6-DF34-40BE-9B5D-BBCB2BDE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190E1-565F-442F-9E9B-4344A85E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2208F-735D-40EA-B9C7-70C0321B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F0A25-32F1-4A56-9FD4-559CEEE6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8F2E1-34F2-4341-87AA-33614FC0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7E44A-65FD-4960-AA05-412C0974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6DB89-D85C-447A-9CA3-BB118C03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88C97-77C1-4CC4-82E6-CCF28863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56083-5C87-45EE-9BCE-C5A433C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106A-672B-49F3-A51C-0B803ACC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E0293-F841-413A-8956-6FA9FA72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CBCCF-878F-494F-B338-F4FEA6BE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85DB3-7ED5-42D3-BC46-D3E3BF2A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C4473-24CB-4FBD-B457-29D47EFD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27796-F0E8-4BA6-AA7A-4A8BB76D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293ED-D992-454E-9114-A734EC9D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DDF6E-1B0E-415F-988C-DE0DA3F6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6C53F-F012-415A-901F-D37F3500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F00E6-B6DF-4177-BD6E-47816E21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89941-3B61-44B6-B0CE-25DD1C80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759D-27DD-4FFF-B051-44DB918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DB129-443F-4832-9B8B-2A1B691A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05732-FF9C-4B6F-9DF6-69EFC94F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5A722-9BCE-47B7-AE7C-0DADCE74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A61BA-B5D0-4C42-B699-9165256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8B272-9933-43E4-9BD7-24A1362D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C6055-4EA4-4B6A-B922-2C458A9D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A6574-7FDA-4932-904E-56C00814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CAFBE-4481-486F-A281-2CD173BC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47C1C-CA8E-4B5E-8F70-7F7C2227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51C91-446B-49D9-8BA0-C4EA5AA7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6A0D-BA70-4144-AE47-15E86446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7EE32-A806-4E25-AE37-BF6D1C04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7C2E5-A529-48A1-96CB-92631F5F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ED8DC-9DE9-40A0-B96A-DCFB236B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29405-048D-4E81-AFF1-FC136C6E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DB994-007B-4540-923A-F3712AFC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7CC37-E5EC-4E10-89D4-C3E398C4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8CF52-4AE3-4271-AB46-422C0A1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48F3D-9285-47AE-BEDE-A13AE2B9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E2B3F-C05F-4FE3-BBEA-E4174479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3102A-8122-4868-B608-B93D614E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862A-444C-47B9-BF33-F832F64B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C3359-8F68-49CB-8F20-898D090F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55E71-B9F1-41B2-9BB1-5981EBDF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FD21E-494A-4919-A784-E18A622B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8E1E6-6386-4AC6-8E32-B406E712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748BD-5B45-435D-862F-26FC59DB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E4234-57CC-4839-A10B-98E5099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15DA40-0C92-4ACA-A04F-8C45E53A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11637-FA13-4235-82C1-F1F48C7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5B6297-3BB9-4743-BDA2-053EBE9B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6B7D12-8557-4C11-8C7F-BDDDD8C4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AE84-E20E-4392-9C60-6CA14793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76C4D-8F76-48B4-AA77-4A65E9D7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CCDDC-1B35-4276-A600-D3483113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C70D9-F1AC-4703-BDBA-FF80DF95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60F8C-6D42-47F0-A8F2-C0228B7B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90FAD-9D3F-4F3A-8309-A9F629F5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5CE64-26E7-46C0-A425-81E2ABA2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94A94-1C35-4058-B98E-5E54C02F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D8F1C-807E-460C-840A-7C5DF4C6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7C65F-A508-45B4-8A15-83BFDC19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FDBB3-62E6-44FE-80A6-F1F31016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376C-A4F2-4A80-8FCA-7C956E9C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1917A-3D2C-47A6-AA2D-68046D48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1A1D88-9E56-4482-B357-863317B6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9C17F-8EA0-4ED4-895C-1BC34CF5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D28-F8A8-40AD-A2EA-E3101678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A343-39D4-476A-936D-338E5A8F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0D54-1531-4F5B-9624-6503E244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60A6-1BC3-4E09-B778-D98BEB7D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9F9A-943C-4536-9D4F-3D13DCDB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7179-F92D-4947-8FB4-5AFE8FD7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F968-29F2-4BE2-9FDC-B955A98B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C4150-D6BF-44F0-877A-5B6C63DA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98DF-F0D4-49A5-92F2-D93C020F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9ADC-451F-4E69-8487-9803B5C9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DACB6-EBAA-4123-A6DE-DEB7E5E9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092-88AE-412C-8B35-B33F48C4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98AF-B93D-408C-9BC7-1202FF34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849E-4E56-463B-99A5-79904C8D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70B7-85BA-4CF9-A881-ABCA4A1F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D8F90-6FC4-4227-A56D-EA8F7DF8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31AE-00E9-423D-BBF9-F991D5BF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2528-BF7B-457E-A80C-7EBB9714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B051B-3390-4BF9-A939-298C7A83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36DC-7295-4A6F-840D-F8B3D73A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3CE4-CEC7-4463-BA48-7B9954EA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EDF4C-4AA2-487E-8E95-3831528C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A8A-C789-4E46-ABF6-D53B6BC9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9BD27-6D9C-4A8D-87E2-DE8041B5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AEAA-E7C0-4432-9976-518B6A1F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7CDF-1DDA-4D41-935F-B49B65FA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AC9C9-274F-458C-B3CA-9A5BC58B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71FA-41BD-4368-A325-59553B17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380C-28FF-4B48-AA69-22A42E69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3F18-1288-49FE-A73B-9F343D50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2770-4DD2-4635-A48A-FB1DB063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6AE78-C9F9-4532-9F84-BBEFE9F3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CAED-C5FA-453B-9ACB-AE570DDE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113-110F-42F9-B2C9-47198027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51FC-80DB-4F4B-9185-022F5856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23A8A-DC25-40CE-8334-9ADEE14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2C604-E292-4D06-AB6D-F82FD58B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585D5-D381-4E43-AE0B-F1B9C7E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2D43-1CE8-4FAF-9E47-A44A3041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4F60B-FBF6-437D-A2DD-2C668703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F49FD-F861-4391-BA01-EC4AE242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4A18C-03E7-4C5B-A026-2F774E9F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8CF68-D1BA-4BA6-8AEF-E4E97728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AB823-A4F7-4A8E-9DDA-1AE5DED2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800-9C6C-44BD-B893-8E9F922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34600-6C0D-4286-BDF6-42F06F6E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4E84-E341-4666-A332-2279B9AF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E98A6-7219-4A02-B514-FC8610F7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004D8-8BA1-484E-91AA-729790E2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641BD-B121-4103-A6BE-90DFCC13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39E95-7B6F-4952-B3B5-C48985FE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AF7D9-B35A-4169-A93E-F0450538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B9EDC-B4A8-4D44-A19D-362E1A8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A67D5-4A3D-40C4-83B5-639F76AE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D6818-4964-4D3C-872A-5C44F581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F94-DDC7-43D7-8840-8B5B972B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A3FC-A8DB-4FFA-8123-4A81D831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073A8-4C8F-4EDF-9302-1CDEF7FE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C0CD9-38C8-4C84-B2B8-408D32E8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AD4C2-0417-4E4D-9FD3-C412A38B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92B03-138C-496C-B82C-A9C29669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60C8D-FE80-4968-8E5B-EE471920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1981D-6019-4D8B-958D-A8B52D7D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595C2-4F5A-4C2A-AE4E-1CA12BC9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C6B96-C3C8-49F0-9265-4AFAF2ED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06ADE-9542-4B9C-84B0-74492DF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AD1-CF39-4C08-81A5-35BC601B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205E6-E899-45CC-9FDB-70388B13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17FF1-47C6-4BD8-8078-78B6CEDC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B6D9F-3C80-49A1-ADBE-F2B2AFB5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1A9B2-39DC-49D4-9E40-D67659D0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BB45-AAB9-472A-B047-6C6A9F0D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456BB-D3E3-4B9C-9783-BA3C8343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52ED6-B841-49D4-9F9E-82353250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5312D-A063-4D70-8A5B-204C752C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245D7-B1DE-44FC-8800-26AC8A03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81C32-D2F6-4E9D-989B-07A9229A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043C-46CB-4850-976E-35E1C918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20CE4-4DB4-4263-9A98-AA9E01F0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7FA0-DA8F-4D14-BA15-3F618BF2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4A75-0844-4125-A2A9-E12B3F52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CF60D-D6D4-49F7-98D0-4AA65F7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03841-6077-405A-8ACB-755AF5B5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D6662-D7DD-49BE-8D91-107D87F5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D89F1-BAA3-4C62-8811-7D38E253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B0E6F-A8FB-4000-9B61-A729E130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89C8D-6D7D-41D5-B1FE-45049FC9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D3A96-8DFF-49D4-B223-457278BB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5493-2530-4B37-90BB-0A3534A794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8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E309-0549-438A-ACD1-E35F5828C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3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3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3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4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5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5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6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6481-F673-4CDF-B920-E2BDE7E2CEF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808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809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810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11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812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3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4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815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816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817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818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819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820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1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2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3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4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5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6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7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8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29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0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1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2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3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4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5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6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7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8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39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0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1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2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3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4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5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6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7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8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49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50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51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52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53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54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55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grpSp>
                      <p:nvGrpSpPr>
                        <p:cNvPr id="856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857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58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59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60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61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62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63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64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65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66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67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868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</p:grpSp>
                    <p:sp>
                      <p:nvSpPr>
                        <p:cNvPr id="869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0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1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2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3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4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5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6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7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8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79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0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1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2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3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4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5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6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7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8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89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0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1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2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3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4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5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6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7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8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899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900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901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902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903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904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05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906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07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908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909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0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1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2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3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4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5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6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7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918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919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0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1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2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3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4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25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926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7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8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9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0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9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FD3E-C80D-4FDE-822F-F9E6AB1E10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67F-7D99-460A-B92C-140036487E0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4584-050F-4235-AEA3-C1519C4206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53AB-0E7B-406F-B246-28FA934812B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162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163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4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65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166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7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6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B670-7811-4451-9517-CBA5C5028C7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B0EC-4A05-4C64-90AA-1D6C2A4DC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3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4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6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794-F56D-42C6-BA42-D7BBB24B2CE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16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17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18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219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20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1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223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24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grpSp>
                  <p:nvGrpSpPr>
                    <p:cNvPr id="225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26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endParaRPr>
                      </a:p>
                    </p:txBody>
                  </p:sp>
                  <p:grpSp>
                    <p:nvGrpSpPr>
                      <p:cNvPr id="227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28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29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0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1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2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3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4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5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6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7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8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9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0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1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2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3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4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5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6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7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8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49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0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1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2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3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4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5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6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7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8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59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0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1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2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3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grpSp>
                      <p:nvGrpSpPr>
                        <p:cNvPr id="264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265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6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7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8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69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70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71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72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73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74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75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  <p:sp>
                        <p:nvSpPr>
                          <p:cNvPr id="276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Comic Sans MS"/>
                            </a:endParaRPr>
                          </a:p>
                        </p:txBody>
                      </p:sp>
                    </p:grpSp>
                    <p:sp>
                      <p:nvSpPr>
                        <p:cNvPr id="277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8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79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0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1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2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3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4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5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6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7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8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89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0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1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2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3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4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5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6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7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8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9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0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1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2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3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4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5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6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7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8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09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10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11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12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13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314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316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317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8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9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0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1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2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3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4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5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326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27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9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0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3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334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7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339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4C4F-F0EB-4EC9-9956-4C1768B7383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895A-A576-44FE-8193-04C590B8FF7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B3EE-2860-4A59-B8A2-8D20A42EAB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90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03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0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2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0F66-8D95-4C3C-9D9A-8F8CE351902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9345-F49E-4EBA-87CF-83840E8C989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1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2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2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2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3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3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3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F0C8-4CA8-4B50-9663-A5C1BD419C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5.xml"/><Relationship Id="rId4" Type="http://schemas.openxmlformats.org/officeDocument/2006/relationships/slide" Target="slide2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1.xml"/><Relationship Id="rId8" Type="http://schemas.openxmlformats.org/officeDocument/2006/relationships/slide" Target="slide27.xml"/><Relationship Id="rId9" Type="http://schemas.openxmlformats.org/officeDocument/2006/relationships/slide" Target="slide15.xml"/><Relationship Id="rId10" Type="http://schemas.openxmlformats.org/officeDocument/2006/relationships/slide" Target="slide7.xml"/><Relationship Id="rId11" Type="http://schemas.openxmlformats.org/officeDocument/2006/relationships/slide" Target="slide19.xml"/><Relationship Id="rId12" Type="http://schemas.openxmlformats.org/officeDocument/2006/relationships/slide" Target="slide9.xml"/><Relationship Id="rId13" Type="http://schemas.openxmlformats.org/officeDocument/2006/relationships/slide" Target="slide11.xml"/><Relationship Id="rId14" Type="http://schemas.openxmlformats.org/officeDocument/2006/relationships/slide" Target="slide13.xml"/><Relationship Id="rId15" Type="http://schemas.openxmlformats.org/officeDocument/2006/relationships/slide" Target="slide17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33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848720" cy="716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К доске </a:t>
            </a: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тур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611280" y="3141360"/>
            <a:ext cx="8137440" cy="16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ктори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ественно – математическо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ик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642960" y="5462640"/>
            <a:ext cx="813744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ишкина Ксения Никола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математики, инфор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БОУ «Старочервовская ООШ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емеровского района Кемеровской обла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AutoShape 45"/>
          <p:cNvSpPr/>
          <p:nvPr/>
        </p:nvSpPr>
        <p:spPr>
          <a:xfrm rot="12117000">
            <a:off x="5333760" y="4680720"/>
            <a:ext cx="530280" cy="1562040"/>
          </a:xfrm>
          <a:prstGeom prst="can">
            <a:avLst>
              <a:gd name="adj" fmla="val 22430"/>
            </a:avLst>
          </a:prstGeom>
          <a:gradFill rotWithShape="0">
            <a:gsLst>
              <a:gs pos="0">
                <a:srgbClr val="ffb800">
                  <a:alpha val="40000"/>
                </a:srgbClr>
              </a:gs>
              <a:gs pos="100000">
                <a:srgbClr val="4b4a12"/>
              </a:gs>
            </a:gsLst>
            <a:lin ang="9486000"/>
          </a:gradFill>
          <a:ln w="9360">
            <a:solidFill>
              <a:srgbClr val="4b4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1332000" y="907920"/>
            <a:ext cx="568800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Архимед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Text Box 3">
            <a:hlinkClick r:id="rId1" action="ppaction://hlinksldjump"/>
          </p:cNvPr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Freeform 22"/>
          <p:cNvSpPr/>
          <p:nvPr/>
        </p:nvSpPr>
        <p:spPr>
          <a:xfrm>
            <a:off x="4068720" y="3510000"/>
            <a:ext cx="57240" cy="54000"/>
          </a:xfrm>
          <a:custGeom>
            <a:avLst/>
            <a:gdLst>
              <a:gd name="textAreaLeft" fmla="*/ 0 w 57240"/>
              <a:gd name="textAreaRight" fmla="*/ 57600 w 57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6" h="34">
                <a:moveTo>
                  <a:pt x="14" y="19"/>
                </a:moveTo>
                <a:lnTo>
                  <a:pt x="13" y="20"/>
                </a:lnTo>
                <a:lnTo>
                  <a:pt x="13" y="25"/>
                </a:lnTo>
                <a:lnTo>
                  <a:pt x="15" y="29"/>
                </a:lnTo>
                <a:lnTo>
                  <a:pt x="23" y="34"/>
                </a:lnTo>
                <a:lnTo>
                  <a:pt x="33" y="33"/>
                </a:lnTo>
                <a:lnTo>
                  <a:pt x="36" y="25"/>
                </a:lnTo>
                <a:lnTo>
                  <a:pt x="34" y="14"/>
                </a:lnTo>
                <a:lnTo>
                  <a:pt x="26" y="5"/>
                </a:lnTo>
                <a:lnTo>
                  <a:pt x="14" y="0"/>
                </a:lnTo>
                <a:lnTo>
                  <a:pt x="4" y="0"/>
                </a:lnTo>
                <a:lnTo>
                  <a:pt x="0" y="4"/>
                </a:lnTo>
                <a:lnTo>
                  <a:pt x="1" y="6"/>
                </a:lnTo>
                <a:lnTo>
                  <a:pt x="7" y="8"/>
                </a:lnTo>
                <a:lnTo>
                  <a:pt x="11" y="11"/>
                </a:lnTo>
                <a:lnTo>
                  <a:pt x="15" y="14"/>
                </a:lnTo>
                <a:lnTo>
                  <a:pt x="14" y="19"/>
                </a:lnTo>
                <a:close/>
              </a:path>
            </a:pathLst>
          </a:custGeom>
          <a:solidFill>
            <a:srgbClr val="8c6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Freeform 23"/>
          <p:cNvSpPr/>
          <p:nvPr/>
        </p:nvSpPr>
        <p:spPr>
          <a:xfrm>
            <a:off x="4017960" y="3500280"/>
            <a:ext cx="33480" cy="12960"/>
          </a:xfrm>
          <a:custGeom>
            <a:avLst/>
            <a:gdLst>
              <a:gd name="textAreaLeft" fmla="*/ 0 w 33480"/>
              <a:gd name="textAreaRight" fmla="*/ 33840 w 3348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21" h="8">
                <a:moveTo>
                  <a:pt x="19" y="4"/>
                </a:moveTo>
                <a:lnTo>
                  <a:pt x="17" y="2"/>
                </a:lnTo>
                <a:lnTo>
                  <a:pt x="13" y="1"/>
                </a:lnTo>
                <a:lnTo>
                  <a:pt x="7" y="0"/>
                </a:lnTo>
                <a:lnTo>
                  <a:pt x="1" y="1"/>
                </a:lnTo>
                <a:lnTo>
                  <a:pt x="0" y="2"/>
                </a:lnTo>
                <a:lnTo>
                  <a:pt x="2" y="5"/>
                </a:lnTo>
                <a:lnTo>
                  <a:pt x="7" y="6"/>
                </a:lnTo>
                <a:lnTo>
                  <a:pt x="12" y="7"/>
                </a:lnTo>
                <a:lnTo>
                  <a:pt x="16" y="8"/>
                </a:lnTo>
                <a:lnTo>
                  <a:pt x="20" y="8"/>
                </a:lnTo>
                <a:lnTo>
                  <a:pt x="21" y="7"/>
                </a:lnTo>
                <a:lnTo>
                  <a:pt x="19" y="4"/>
                </a:lnTo>
                <a:close/>
              </a:path>
            </a:pathLst>
          </a:custGeom>
          <a:solidFill>
            <a:srgbClr val="8c6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8" name="Group 43"/>
          <p:cNvGrpSpPr/>
          <p:nvPr/>
        </p:nvGrpSpPr>
        <p:grpSpPr>
          <a:xfrm>
            <a:off x="2627280" y="3500280"/>
            <a:ext cx="2302920" cy="2230200"/>
            <a:chOff x="2627280" y="3500280"/>
            <a:chExt cx="2302920" cy="2230200"/>
          </a:xfrm>
        </p:grpSpPr>
        <p:grpSp>
          <p:nvGrpSpPr>
            <p:cNvPr id="1269" name="Group 42"/>
            <p:cNvGrpSpPr/>
            <p:nvPr/>
          </p:nvGrpSpPr>
          <p:grpSpPr>
            <a:xfrm>
              <a:off x="2627280" y="3500280"/>
              <a:ext cx="2302920" cy="2230200"/>
              <a:chOff x="2627280" y="3500280"/>
              <a:chExt cx="2302920" cy="2230200"/>
            </a:xfrm>
          </p:grpSpPr>
          <p:grpSp>
            <p:nvGrpSpPr>
              <p:cNvPr id="1270" name="Group 41"/>
              <p:cNvGrpSpPr/>
              <p:nvPr/>
            </p:nvGrpSpPr>
            <p:grpSpPr>
              <a:xfrm>
                <a:off x="2627280" y="3500280"/>
                <a:ext cx="2302920" cy="2230200"/>
                <a:chOff x="2627280" y="3500280"/>
                <a:chExt cx="2302920" cy="2230200"/>
              </a:xfrm>
            </p:grpSpPr>
            <p:sp>
              <p:nvSpPr>
                <p:cNvPr id="1271" name="Freeform 18"/>
                <p:cNvSpPr/>
                <p:nvPr/>
              </p:nvSpPr>
              <p:spPr>
                <a:xfrm>
                  <a:off x="2627280" y="3500280"/>
                  <a:ext cx="2302920" cy="2230200"/>
                </a:xfrm>
                <a:custGeom>
                  <a:avLst/>
                  <a:gdLst>
                    <a:gd name="textAreaLeft" fmla="*/ 0 w 2302920"/>
                    <a:gd name="textAreaRight" fmla="*/ 2303280 w 2302920"/>
                    <a:gd name="textAreaTop" fmla="*/ 0 h 2230200"/>
                    <a:gd name="textAreaBottom" fmla="*/ 2230560 h 2230200"/>
                  </a:gdLst>
                  <a:ahLst/>
                  <a:rect l="textAreaLeft" t="textAreaTop" r="textAreaRight" b="textAreaBottom"/>
                  <a:pathLst>
                    <a:path w="566" h="565">
                      <a:moveTo>
                        <a:pt x="563" y="320"/>
                      </a:moveTo>
                      <a:lnTo>
                        <a:pt x="557" y="348"/>
                      </a:lnTo>
                      <a:lnTo>
                        <a:pt x="550" y="376"/>
                      </a:lnTo>
                      <a:lnTo>
                        <a:pt x="540" y="403"/>
                      </a:lnTo>
                      <a:lnTo>
                        <a:pt x="527" y="426"/>
                      </a:lnTo>
                      <a:lnTo>
                        <a:pt x="511" y="450"/>
                      </a:lnTo>
                      <a:lnTo>
                        <a:pt x="494" y="471"/>
                      </a:lnTo>
                      <a:lnTo>
                        <a:pt x="475" y="490"/>
                      </a:lnTo>
                      <a:lnTo>
                        <a:pt x="454" y="508"/>
                      </a:lnTo>
                      <a:lnTo>
                        <a:pt x="431" y="523"/>
                      </a:lnTo>
                      <a:lnTo>
                        <a:pt x="408" y="537"/>
                      </a:lnTo>
                      <a:lnTo>
                        <a:pt x="383" y="548"/>
                      </a:lnTo>
                      <a:lnTo>
                        <a:pt x="357" y="556"/>
                      </a:lnTo>
                      <a:lnTo>
                        <a:pt x="329" y="562"/>
                      </a:lnTo>
                      <a:lnTo>
                        <a:pt x="302" y="565"/>
                      </a:lnTo>
                      <a:lnTo>
                        <a:pt x="273" y="565"/>
                      </a:lnTo>
                      <a:lnTo>
                        <a:pt x="244" y="563"/>
                      </a:lnTo>
                      <a:lnTo>
                        <a:pt x="216" y="557"/>
                      </a:lnTo>
                      <a:lnTo>
                        <a:pt x="188" y="550"/>
                      </a:lnTo>
                      <a:lnTo>
                        <a:pt x="162" y="539"/>
                      </a:lnTo>
                      <a:lnTo>
                        <a:pt x="138" y="525"/>
                      </a:lnTo>
                      <a:lnTo>
                        <a:pt x="115" y="511"/>
                      </a:lnTo>
                      <a:lnTo>
                        <a:pt x="94" y="493"/>
                      </a:lnTo>
                      <a:lnTo>
                        <a:pt x="74" y="475"/>
                      </a:lnTo>
                      <a:lnTo>
                        <a:pt x="58" y="453"/>
                      </a:lnTo>
                      <a:lnTo>
                        <a:pt x="42" y="431"/>
                      </a:lnTo>
                      <a:lnTo>
                        <a:pt x="28" y="406"/>
                      </a:lnTo>
                      <a:lnTo>
                        <a:pt x="17" y="381"/>
                      </a:lnTo>
                      <a:lnTo>
                        <a:pt x="9" y="355"/>
                      </a:lnTo>
                      <a:lnTo>
                        <a:pt x="3" y="328"/>
                      </a:lnTo>
                      <a:lnTo>
                        <a:pt x="0" y="300"/>
                      </a:lnTo>
                      <a:lnTo>
                        <a:pt x="0" y="272"/>
                      </a:lnTo>
                      <a:lnTo>
                        <a:pt x="2" y="242"/>
                      </a:lnTo>
                      <a:lnTo>
                        <a:pt x="8" y="214"/>
                      </a:lnTo>
                      <a:lnTo>
                        <a:pt x="15" y="187"/>
                      </a:lnTo>
                      <a:lnTo>
                        <a:pt x="26" y="161"/>
                      </a:lnTo>
                      <a:lnTo>
                        <a:pt x="40" y="137"/>
                      </a:lnTo>
                      <a:lnTo>
                        <a:pt x="54" y="114"/>
                      </a:lnTo>
                      <a:lnTo>
                        <a:pt x="72" y="94"/>
                      </a:lnTo>
                      <a:lnTo>
                        <a:pt x="91" y="74"/>
                      </a:lnTo>
                      <a:lnTo>
                        <a:pt x="112" y="56"/>
                      </a:lnTo>
                      <a:lnTo>
                        <a:pt x="134" y="42"/>
                      </a:lnTo>
                      <a:lnTo>
                        <a:pt x="158" y="28"/>
                      </a:lnTo>
                      <a:lnTo>
                        <a:pt x="183" y="17"/>
                      </a:lnTo>
                      <a:lnTo>
                        <a:pt x="210" y="9"/>
                      </a:lnTo>
                      <a:lnTo>
                        <a:pt x="236" y="3"/>
                      </a:lnTo>
                      <a:lnTo>
                        <a:pt x="264" y="0"/>
                      </a:lnTo>
                      <a:lnTo>
                        <a:pt x="292" y="0"/>
                      </a:lnTo>
                      <a:lnTo>
                        <a:pt x="320" y="2"/>
                      </a:lnTo>
                      <a:lnTo>
                        <a:pt x="349" y="8"/>
                      </a:lnTo>
                      <a:lnTo>
                        <a:pt x="376" y="15"/>
                      </a:lnTo>
                      <a:lnTo>
                        <a:pt x="403" y="25"/>
                      </a:lnTo>
                      <a:lnTo>
                        <a:pt x="427" y="38"/>
                      </a:lnTo>
                      <a:lnTo>
                        <a:pt x="450" y="54"/>
                      </a:lnTo>
                      <a:lnTo>
                        <a:pt x="471" y="71"/>
                      </a:lnTo>
                      <a:lnTo>
                        <a:pt x="490" y="90"/>
                      </a:lnTo>
                      <a:lnTo>
                        <a:pt x="508" y="111"/>
                      </a:lnTo>
                      <a:lnTo>
                        <a:pt x="523" y="134"/>
                      </a:lnTo>
                      <a:lnTo>
                        <a:pt x="537" y="157"/>
                      </a:lnTo>
                      <a:lnTo>
                        <a:pt x="548" y="182"/>
                      </a:lnTo>
                      <a:lnTo>
                        <a:pt x="556" y="208"/>
                      </a:lnTo>
                      <a:lnTo>
                        <a:pt x="562" y="235"/>
                      </a:lnTo>
                      <a:lnTo>
                        <a:pt x="566" y="264"/>
                      </a:lnTo>
                      <a:lnTo>
                        <a:pt x="566" y="292"/>
                      </a:lnTo>
                      <a:lnTo>
                        <a:pt x="563" y="3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1272" name="Group 39"/>
                <p:cNvGrpSpPr/>
                <p:nvPr/>
              </p:nvGrpSpPr>
              <p:grpSpPr>
                <a:xfrm>
                  <a:off x="2765520" y="3634200"/>
                  <a:ext cx="2016720" cy="1830960"/>
                  <a:chOff x="2765520" y="3634200"/>
                  <a:chExt cx="2016720" cy="1830960"/>
                </a:xfrm>
              </p:grpSpPr>
              <p:sp>
                <p:nvSpPr>
                  <p:cNvPr id="1273" name="Freeform 20"/>
                  <p:cNvSpPr/>
                  <p:nvPr/>
                </p:nvSpPr>
                <p:spPr>
                  <a:xfrm>
                    <a:off x="2765520" y="3634200"/>
                    <a:ext cx="1733040" cy="1716840"/>
                  </a:xfrm>
                  <a:custGeom>
                    <a:avLst/>
                    <a:gdLst>
                      <a:gd name="textAreaLeft" fmla="*/ 0 w 1733040"/>
                      <a:gd name="textAreaRight" fmla="*/ 1733400 w 1733040"/>
                      <a:gd name="textAreaTop" fmla="*/ 0 h 1716840"/>
                      <a:gd name="textAreaBottom" fmla="*/ 1717200 h 1716840"/>
                    </a:gdLst>
                    <a:ahLst/>
                    <a:rect l="textAreaLeft" t="textAreaTop" r="textAreaRight" b="textAreaBottom"/>
                    <a:pathLst>
                      <a:path w="426" h="435">
                        <a:moveTo>
                          <a:pt x="144" y="432"/>
                        </a:moveTo>
                        <a:lnTo>
                          <a:pt x="169" y="435"/>
                        </a:lnTo>
                        <a:lnTo>
                          <a:pt x="194" y="433"/>
                        </a:lnTo>
                        <a:lnTo>
                          <a:pt x="218" y="431"/>
                        </a:lnTo>
                        <a:lnTo>
                          <a:pt x="242" y="425"/>
                        </a:lnTo>
                        <a:lnTo>
                          <a:pt x="265" y="418"/>
                        </a:lnTo>
                        <a:lnTo>
                          <a:pt x="288" y="409"/>
                        </a:lnTo>
                        <a:lnTo>
                          <a:pt x="308" y="397"/>
                        </a:lnTo>
                        <a:lnTo>
                          <a:pt x="328" y="383"/>
                        </a:lnTo>
                        <a:lnTo>
                          <a:pt x="347" y="367"/>
                        </a:lnTo>
                        <a:lnTo>
                          <a:pt x="363" y="351"/>
                        </a:lnTo>
                        <a:lnTo>
                          <a:pt x="378" y="332"/>
                        </a:lnTo>
                        <a:lnTo>
                          <a:pt x="391" y="312"/>
                        </a:lnTo>
                        <a:lnTo>
                          <a:pt x="402" y="291"/>
                        </a:lnTo>
                        <a:lnTo>
                          <a:pt x="411" y="267"/>
                        </a:lnTo>
                        <a:lnTo>
                          <a:pt x="418" y="244"/>
                        </a:lnTo>
                        <a:lnTo>
                          <a:pt x="423" y="219"/>
                        </a:lnTo>
                        <a:lnTo>
                          <a:pt x="426" y="193"/>
                        </a:lnTo>
                        <a:lnTo>
                          <a:pt x="426" y="168"/>
                        </a:lnTo>
                        <a:lnTo>
                          <a:pt x="423" y="143"/>
                        </a:lnTo>
                        <a:lnTo>
                          <a:pt x="417" y="120"/>
                        </a:lnTo>
                        <a:lnTo>
                          <a:pt x="410" y="96"/>
                        </a:lnTo>
                        <a:lnTo>
                          <a:pt x="400" y="74"/>
                        </a:lnTo>
                        <a:lnTo>
                          <a:pt x="388" y="53"/>
                        </a:lnTo>
                        <a:lnTo>
                          <a:pt x="374" y="33"/>
                        </a:lnTo>
                        <a:lnTo>
                          <a:pt x="363" y="27"/>
                        </a:lnTo>
                        <a:lnTo>
                          <a:pt x="352" y="22"/>
                        </a:lnTo>
                        <a:lnTo>
                          <a:pt x="342" y="17"/>
                        </a:lnTo>
                        <a:lnTo>
                          <a:pt x="330" y="13"/>
                        </a:lnTo>
                        <a:lnTo>
                          <a:pt x="318" y="9"/>
                        </a:lnTo>
                        <a:lnTo>
                          <a:pt x="306" y="6"/>
                        </a:lnTo>
                        <a:lnTo>
                          <a:pt x="295" y="3"/>
                        </a:lnTo>
                        <a:lnTo>
                          <a:pt x="282" y="2"/>
                        </a:lnTo>
                        <a:lnTo>
                          <a:pt x="257" y="0"/>
                        </a:lnTo>
                        <a:lnTo>
                          <a:pt x="232" y="0"/>
                        </a:lnTo>
                        <a:lnTo>
                          <a:pt x="207" y="3"/>
                        </a:lnTo>
                        <a:lnTo>
                          <a:pt x="184" y="8"/>
                        </a:lnTo>
                        <a:lnTo>
                          <a:pt x="161" y="15"/>
                        </a:lnTo>
                        <a:lnTo>
                          <a:pt x="139" y="26"/>
                        </a:lnTo>
                        <a:lnTo>
                          <a:pt x="118" y="36"/>
                        </a:lnTo>
                        <a:lnTo>
                          <a:pt x="99" y="50"/>
                        </a:lnTo>
                        <a:lnTo>
                          <a:pt x="80" y="66"/>
                        </a:lnTo>
                        <a:lnTo>
                          <a:pt x="64" y="82"/>
                        </a:lnTo>
                        <a:lnTo>
                          <a:pt x="48" y="101"/>
                        </a:lnTo>
                        <a:lnTo>
                          <a:pt x="35" y="121"/>
                        </a:lnTo>
                        <a:lnTo>
                          <a:pt x="24" y="142"/>
                        </a:lnTo>
                        <a:lnTo>
                          <a:pt x="14" y="165"/>
                        </a:lnTo>
                        <a:lnTo>
                          <a:pt x="7" y="188"/>
                        </a:lnTo>
                        <a:lnTo>
                          <a:pt x="2" y="213"/>
                        </a:lnTo>
                        <a:lnTo>
                          <a:pt x="0" y="239"/>
                        </a:lnTo>
                        <a:lnTo>
                          <a:pt x="1" y="265"/>
                        </a:lnTo>
                        <a:lnTo>
                          <a:pt x="4" y="290"/>
                        </a:lnTo>
                        <a:lnTo>
                          <a:pt x="9" y="313"/>
                        </a:lnTo>
                        <a:lnTo>
                          <a:pt x="16" y="337"/>
                        </a:lnTo>
                        <a:lnTo>
                          <a:pt x="27" y="359"/>
                        </a:lnTo>
                        <a:lnTo>
                          <a:pt x="39" y="380"/>
                        </a:lnTo>
                        <a:lnTo>
                          <a:pt x="53" y="400"/>
                        </a:lnTo>
                        <a:lnTo>
                          <a:pt x="64" y="406"/>
                        </a:lnTo>
                        <a:lnTo>
                          <a:pt x="74" y="411"/>
                        </a:lnTo>
                        <a:lnTo>
                          <a:pt x="85" y="416"/>
                        </a:lnTo>
                        <a:lnTo>
                          <a:pt x="97" y="421"/>
                        </a:lnTo>
                        <a:lnTo>
                          <a:pt x="107" y="424"/>
                        </a:lnTo>
                        <a:lnTo>
                          <a:pt x="119" y="428"/>
                        </a:lnTo>
                        <a:lnTo>
                          <a:pt x="132" y="430"/>
                        </a:lnTo>
                        <a:lnTo>
                          <a:pt x="144" y="432"/>
                        </a:lnTo>
                        <a:close/>
                      </a:path>
                    </a:pathLst>
                  </a:custGeom>
                  <a:solidFill>
                    <a:srgbClr val="9be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74" name="Freeform 24"/>
                  <p:cNvSpPr/>
                  <p:nvPr/>
                </p:nvSpPr>
                <p:spPr>
                  <a:xfrm>
                    <a:off x="3009600" y="3768120"/>
                    <a:ext cx="874080" cy="1697040"/>
                  </a:xfrm>
                  <a:custGeom>
                    <a:avLst/>
                    <a:gdLst>
                      <a:gd name="textAreaLeft" fmla="*/ 0 w 874080"/>
                      <a:gd name="textAreaRight" fmla="*/ 874440 w 874080"/>
                      <a:gd name="textAreaTop" fmla="*/ 0 h 1697040"/>
                      <a:gd name="textAreaBottom" fmla="*/ 1697400 h 1697040"/>
                    </a:gdLst>
                    <a:ahLst/>
                    <a:rect l="textAreaLeft" t="textAreaTop" r="textAreaRight" b="textAreaBottom"/>
                    <a:pathLst>
                      <a:path w="215" h="430">
                        <a:moveTo>
                          <a:pt x="13" y="79"/>
                        </a:moveTo>
                        <a:lnTo>
                          <a:pt x="0" y="99"/>
                        </a:lnTo>
                        <a:lnTo>
                          <a:pt x="2" y="117"/>
                        </a:lnTo>
                        <a:lnTo>
                          <a:pt x="8" y="128"/>
                        </a:lnTo>
                        <a:lnTo>
                          <a:pt x="13" y="133"/>
                        </a:lnTo>
                        <a:lnTo>
                          <a:pt x="13" y="143"/>
                        </a:lnTo>
                        <a:lnTo>
                          <a:pt x="13" y="151"/>
                        </a:lnTo>
                        <a:lnTo>
                          <a:pt x="14" y="159"/>
                        </a:lnTo>
                        <a:lnTo>
                          <a:pt x="18" y="166"/>
                        </a:lnTo>
                        <a:lnTo>
                          <a:pt x="22" y="173"/>
                        </a:lnTo>
                        <a:lnTo>
                          <a:pt x="28" y="179"/>
                        </a:lnTo>
                        <a:lnTo>
                          <a:pt x="37" y="184"/>
                        </a:lnTo>
                        <a:lnTo>
                          <a:pt x="47" y="187"/>
                        </a:lnTo>
                        <a:lnTo>
                          <a:pt x="61" y="197"/>
                        </a:lnTo>
                        <a:lnTo>
                          <a:pt x="66" y="205"/>
                        </a:lnTo>
                        <a:lnTo>
                          <a:pt x="70" y="213"/>
                        </a:lnTo>
                        <a:lnTo>
                          <a:pt x="78" y="217"/>
                        </a:lnTo>
                        <a:lnTo>
                          <a:pt x="89" y="218"/>
                        </a:lnTo>
                        <a:lnTo>
                          <a:pt x="93" y="220"/>
                        </a:lnTo>
                        <a:lnTo>
                          <a:pt x="91" y="226"/>
                        </a:lnTo>
                        <a:lnTo>
                          <a:pt x="80" y="234"/>
                        </a:lnTo>
                        <a:lnTo>
                          <a:pt x="74" y="240"/>
                        </a:lnTo>
                        <a:lnTo>
                          <a:pt x="72" y="250"/>
                        </a:lnTo>
                        <a:lnTo>
                          <a:pt x="72" y="259"/>
                        </a:lnTo>
                        <a:lnTo>
                          <a:pt x="74" y="269"/>
                        </a:lnTo>
                        <a:lnTo>
                          <a:pt x="78" y="278"/>
                        </a:lnTo>
                        <a:lnTo>
                          <a:pt x="83" y="287"/>
                        </a:lnTo>
                        <a:lnTo>
                          <a:pt x="90" y="296"/>
                        </a:lnTo>
                        <a:lnTo>
                          <a:pt x="97" y="300"/>
                        </a:lnTo>
                        <a:lnTo>
                          <a:pt x="105" y="316"/>
                        </a:lnTo>
                        <a:lnTo>
                          <a:pt x="105" y="341"/>
                        </a:lnTo>
                        <a:lnTo>
                          <a:pt x="103" y="371"/>
                        </a:lnTo>
                        <a:lnTo>
                          <a:pt x="104" y="401"/>
                        </a:lnTo>
                        <a:lnTo>
                          <a:pt x="110" y="421"/>
                        </a:lnTo>
                        <a:lnTo>
                          <a:pt x="120" y="429"/>
                        </a:lnTo>
                        <a:lnTo>
                          <a:pt x="129" y="430"/>
                        </a:lnTo>
                        <a:lnTo>
                          <a:pt x="132" y="430"/>
                        </a:lnTo>
                        <a:lnTo>
                          <a:pt x="130" y="422"/>
                        </a:lnTo>
                        <a:lnTo>
                          <a:pt x="125" y="408"/>
                        </a:lnTo>
                        <a:lnTo>
                          <a:pt x="126" y="392"/>
                        </a:lnTo>
                        <a:lnTo>
                          <a:pt x="138" y="383"/>
                        </a:lnTo>
                        <a:lnTo>
                          <a:pt x="146" y="379"/>
                        </a:lnTo>
                        <a:lnTo>
                          <a:pt x="151" y="374"/>
                        </a:lnTo>
                        <a:lnTo>
                          <a:pt x="155" y="366"/>
                        </a:lnTo>
                        <a:lnTo>
                          <a:pt x="158" y="361"/>
                        </a:lnTo>
                        <a:lnTo>
                          <a:pt x="162" y="353"/>
                        </a:lnTo>
                        <a:lnTo>
                          <a:pt x="165" y="346"/>
                        </a:lnTo>
                        <a:lnTo>
                          <a:pt x="170" y="342"/>
                        </a:lnTo>
                        <a:lnTo>
                          <a:pt x="178" y="338"/>
                        </a:lnTo>
                        <a:lnTo>
                          <a:pt x="190" y="331"/>
                        </a:lnTo>
                        <a:lnTo>
                          <a:pt x="195" y="320"/>
                        </a:lnTo>
                        <a:lnTo>
                          <a:pt x="199" y="308"/>
                        </a:lnTo>
                        <a:lnTo>
                          <a:pt x="210" y="293"/>
                        </a:lnTo>
                        <a:lnTo>
                          <a:pt x="215" y="286"/>
                        </a:lnTo>
                        <a:lnTo>
                          <a:pt x="215" y="280"/>
                        </a:lnTo>
                        <a:lnTo>
                          <a:pt x="211" y="276"/>
                        </a:lnTo>
                        <a:lnTo>
                          <a:pt x="205" y="270"/>
                        </a:lnTo>
                        <a:lnTo>
                          <a:pt x="197" y="265"/>
                        </a:lnTo>
                        <a:lnTo>
                          <a:pt x="190" y="260"/>
                        </a:lnTo>
                        <a:lnTo>
                          <a:pt x="183" y="256"/>
                        </a:lnTo>
                        <a:lnTo>
                          <a:pt x="179" y="250"/>
                        </a:lnTo>
                        <a:lnTo>
                          <a:pt x="172" y="239"/>
                        </a:lnTo>
                        <a:lnTo>
                          <a:pt x="164" y="231"/>
                        </a:lnTo>
                        <a:lnTo>
                          <a:pt x="155" y="224"/>
                        </a:lnTo>
                        <a:lnTo>
                          <a:pt x="147" y="217"/>
                        </a:lnTo>
                        <a:lnTo>
                          <a:pt x="144" y="213"/>
                        </a:lnTo>
                        <a:lnTo>
                          <a:pt x="138" y="211"/>
                        </a:lnTo>
                        <a:lnTo>
                          <a:pt x="130" y="210"/>
                        </a:lnTo>
                        <a:lnTo>
                          <a:pt x="122" y="209"/>
                        </a:lnTo>
                        <a:lnTo>
                          <a:pt x="113" y="209"/>
                        </a:lnTo>
                        <a:lnTo>
                          <a:pt x="105" y="209"/>
                        </a:lnTo>
                        <a:lnTo>
                          <a:pt x="99" y="209"/>
                        </a:lnTo>
                        <a:lnTo>
                          <a:pt x="96" y="210"/>
                        </a:lnTo>
                        <a:lnTo>
                          <a:pt x="90" y="210"/>
                        </a:lnTo>
                        <a:lnTo>
                          <a:pt x="84" y="209"/>
                        </a:lnTo>
                        <a:lnTo>
                          <a:pt x="79" y="205"/>
                        </a:lnTo>
                        <a:lnTo>
                          <a:pt x="79" y="200"/>
                        </a:lnTo>
                        <a:lnTo>
                          <a:pt x="81" y="196"/>
                        </a:lnTo>
                        <a:lnTo>
                          <a:pt x="85" y="191"/>
                        </a:lnTo>
                        <a:lnTo>
                          <a:pt x="86" y="187"/>
                        </a:lnTo>
                        <a:lnTo>
                          <a:pt x="81" y="185"/>
                        </a:lnTo>
                        <a:lnTo>
                          <a:pt x="76" y="184"/>
                        </a:lnTo>
                        <a:lnTo>
                          <a:pt x="74" y="184"/>
                        </a:lnTo>
                        <a:lnTo>
                          <a:pt x="76" y="180"/>
                        </a:lnTo>
                        <a:lnTo>
                          <a:pt x="78" y="172"/>
                        </a:lnTo>
                        <a:lnTo>
                          <a:pt x="78" y="167"/>
                        </a:lnTo>
                        <a:lnTo>
                          <a:pt x="74" y="168"/>
                        </a:lnTo>
                        <a:lnTo>
                          <a:pt x="68" y="173"/>
                        </a:lnTo>
                        <a:lnTo>
                          <a:pt x="59" y="174"/>
                        </a:lnTo>
                        <a:lnTo>
                          <a:pt x="52" y="171"/>
                        </a:lnTo>
                        <a:lnTo>
                          <a:pt x="48" y="164"/>
                        </a:lnTo>
                        <a:lnTo>
                          <a:pt x="51" y="157"/>
                        </a:lnTo>
                        <a:lnTo>
                          <a:pt x="55" y="147"/>
                        </a:lnTo>
                        <a:lnTo>
                          <a:pt x="60" y="144"/>
                        </a:lnTo>
                        <a:lnTo>
                          <a:pt x="65" y="141"/>
                        </a:lnTo>
                        <a:lnTo>
                          <a:pt x="72" y="140"/>
                        </a:lnTo>
                        <a:lnTo>
                          <a:pt x="78" y="140"/>
                        </a:lnTo>
                        <a:lnTo>
                          <a:pt x="84" y="141"/>
                        </a:lnTo>
                        <a:lnTo>
                          <a:pt x="90" y="143"/>
                        </a:lnTo>
                        <a:lnTo>
                          <a:pt x="93" y="145"/>
                        </a:lnTo>
                        <a:lnTo>
                          <a:pt x="96" y="148"/>
                        </a:lnTo>
                        <a:lnTo>
                          <a:pt x="98" y="154"/>
                        </a:lnTo>
                        <a:lnTo>
                          <a:pt x="100" y="159"/>
                        </a:lnTo>
                        <a:lnTo>
                          <a:pt x="104" y="160"/>
                        </a:lnTo>
                        <a:lnTo>
                          <a:pt x="105" y="158"/>
                        </a:lnTo>
                        <a:lnTo>
                          <a:pt x="105" y="152"/>
                        </a:lnTo>
                        <a:lnTo>
                          <a:pt x="106" y="147"/>
                        </a:lnTo>
                        <a:lnTo>
                          <a:pt x="109" y="141"/>
                        </a:lnTo>
                        <a:lnTo>
                          <a:pt x="116" y="137"/>
                        </a:lnTo>
                        <a:lnTo>
                          <a:pt x="124" y="131"/>
                        </a:lnTo>
                        <a:lnTo>
                          <a:pt x="131" y="122"/>
                        </a:lnTo>
                        <a:lnTo>
                          <a:pt x="137" y="115"/>
                        </a:lnTo>
                        <a:lnTo>
                          <a:pt x="146" y="108"/>
                        </a:lnTo>
                        <a:lnTo>
                          <a:pt x="156" y="105"/>
                        </a:lnTo>
                        <a:lnTo>
                          <a:pt x="166" y="104"/>
                        </a:lnTo>
                        <a:lnTo>
                          <a:pt x="173" y="102"/>
                        </a:lnTo>
                        <a:lnTo>
                          <a:pt x="178" y="99"/>
                        </a:lnTo>
                        <a:lnTo>
                          <a:pt x="177" y="93"/>
                        </a:lnTo>
                        <a:lnTo>
                          <a:pt x="176" y="89"/>
                        </a:lnTo>
                        <a:lnTo>
                          <a:pt x="177" y="87"/>
                        </a:lnTo>
                        <a:lnTo>
                          <a:pt x="190" y="87"/>
                        </a:lnTo>
                        <a:lnTo>
                          <a:pt x="203" y="85"/>
                        </a:lnTo>
                        <a:lnTo>
                          <a:pt x="204" y="78"/>
                        </a:lnTo>
                        <a:lnTo>
                          <a:pt x="197" y="67"/>
                        </a:lnTo>
                        <a:lnTo>
                          <a:pt x="189" y="58"/>
                        </a:lnTo>
                        <a:lnTo>
                          <a:pt x="180" y="52"/>
                        </a:lnTo>
                        <a:lnTo>
                          <a:pt x="173" y="51"/>
                        </a:lnTo>
                        <a:lnTo>
                          <a:pt x="165" y="55"/>
                        </a:lnTo>
                        <a:lnTo>
                          <a:pt x="158" y="65"/>
                        </a:lnTo>
                        <a:lnTo>
                          <a:pt x="151" y="73"/>
                        </a:lnTo>
                        <a:lnTo>
                          <a:pt x="146" y="75"/>
                        </a:lnTo>
                        <a:lnTo>
                          <a:pt x="143" y="73"/>
                        </a:lnTo>
                        <a:lnTo>
                          <a:pt x="142" y="65"/>
                        </a:lnTo>
                        <a:lnTo>
                          <a:pt x="138" y="59"/>
                        </a:lnTo>
                        <a:lnTo>
                          <a:pt x="131" y="58"/>
                        </a:lnTo>
                        <a:lnTo>
                          <a:pt x="124" y="58"/>
                        </a:lnTo>
                        <a:lnTo>
                          <a:pt x="120" y="52"/>
                        </a:lnTo>
                        <a:lnTo>
                          <a:pt x="123" y="47"/>
                        </a:lnTo>
                        <a:lnTo>
                          <a:pt x="126" y="43"/>
                        </a:lnTo>
                        <a:lnTo>
                          <a:pt x="133" y="40"/>
                        </a:lnTo>
                        <a:lnTo>
                          <a:pt x="142" y="38"/>
                        </a:lnTo>
                        <a:lnTo>
                          <a:pt x="149" y="36"/>
                        </a:lnTo>
                        <a:lnTo>
                          <a:pt x="156" y="35"/>
                        </a:lnTo>
                        <a:lnTo>
                          <a:pt x="159" y="35"/>
                        </a:lnTo>
                        <a:lnTo>
                          <a:pt x="162" y="35"/>
                        </a:lnTo>
                        <a:lnTo>
                          <a:pt x="167" y="33"/>
                        </a:lnTo>
                        <a:lnTo>
                          <a:pt x="164" y="28"/>
                        </a:lnTo>
                        <a:lnTo>
                          <a:pt x="159" y="23"/>
                        </a:lnTo>
                        <a:lnTo>
                          <a:pt x="158" y="19"/>
                        </a:lnTo>
                        <a:lnTo>
                          <a:pt x="158" y="15"/>
                        </a:lnTo>
                        <a:lnTo>
                          <a:pt x="155" y="13"/>
                        </a:lnTo>
                        <a:lnTo>
                          <a:pt x="150" y="13"/>
                        </a:lnTo>
                        <a:lnTo>
                          <a:pt x="147" y="18"/>
                        </a:lnTo>
                        <a:lnTo>
                          <a:pt x="145" y="22"/>
                        </a:lnTo>
                        <a:lnTo>
                          <a:pt x="140" y="23"/>
                        </a:lnTo>
                        <a:lnTo>
                          <a:pt x="136" y="21"/>
                        </a:lnTo>
                        <a:lnTo>
                          <a:pt x="137" y="16"/>
                        </a:lnTo>
                        <a:lnTo>
                          <a:pt x="138" y="13"/>
                        </a:lnTo>
                        <a:lnTo>
                          <a:pt x="132" y="13"/>
                        </a:lnTo>
                        <a:lnTo>
                          <a:pt x="125" y="12"/>
                        </a:lnTo>
                        <a:lnTo>
                          <a:pt x="119" y="9"/>
                        </a:lnTo>
                        <a:lnTo>
                          <a:pt x="117" y="5"/>
                        </a:lnTo>
                        <a:lnTo>
                          <a:pt x="117" y="2"/>
                        </a:lnTo>
                        <a:lnTo>
                          <a:pt x="113" y="0"/>
                        </a:lnTo>
                        <a:lnTo>
                          <a:pt x="105" y="0"/>
                        </a:lnTo>
                        <a:lnTo>
                          <a:pt x="99" y="2"/>
                        </a:lnTo>
                        <a:lnTo>
                          <a:pt x="98" y="6"/>
                        </a:lnTo>
                        <a:lnTo>
                          <a:pt x="96" y="9"/>
                        </a:lnTo>
                        <a:lnTo>
                          <a:pt x="90" y="12"/>
                        </a:lnTo>
                        <a:lnTo>
                          <a:pt x="86" y="12"/>
                        </a:lnTo>
                        <a:lnTo>
                          <a:pt x="83" y="12"/>
                        </a:lnTo>
                        <a:lnTo>
                          <a:pt x="78" y="12"/>
                        </a:lnTo>
                        <a:lnTo>
                          <a:pt x="73" y="10"/>
                        </a:lnTo>
                        <a:lnTo>
                          <a:pt x="67" y="10"/>
                        </a:lnTo>
                        <a:lnTo>
                          <a:pt x="63" y="9"/>
                        </a:lnTo>
                        <a:lnTo>
                          <a:pt x="57" y="8"/>
                        </a:lnTo>
                        <a:lnTo>
                          <a:pt x="51" y="7"/>
                        </a:lnTo>
                        <a:lnTo>
                          <a:pt x="46" y="10"/>
                        </a:lnTo>
                        <a:lnTo>
                          <a:pt x="41" y="14"/>
                        </a:lnTo>
                        <a:lnTo>
                          <a:pt x="37" y="18"/>
                        </a:lnTo>
                        <a:lnTo>
                          <a:pt x="32" y="21"/>
                        </a:lnTo>
                        <a:lnTo>
                          <a:pt x="28" y="25"/>
                        </a:lnTo>
                        <a:lnTo>
                          <a:pt x="24" y="28"/>
                        </a:lnTo>
                        <a:lnTo>
                          <a:pt x="19" y="33"/>
                        </a:lnTo>
                        <a:lnTo>
                          <a:pt x="15" y="36"/>
                        </a:lnTo>
                        <a:lnTo>
                          <a:pt x="22" y="45"/>
                        </a:lnTo>
                        <a:lnTo>
                          <a:pt x="25" y="55"/>
                        </a:lnTo>
                        <a:lnTo>
                          <a:pt x="22" y="67"/>
                        </a:lnTo>
                        <a:lnTo>
                          <a:pt x="13" y="79"/>
                        </a:lnTo>
                        <a:close/>
                      </a:path>
                    </a:pathLst>
                  </a:custGeom>
                  <a:solidFill>
                    <a:srgbClr val="8c6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75" name="Freeform 25"/>
                  <p:cNvSpPr/>
                  <p:nvPr/>
                </p:nvSpPr>
                <p:spPr>
                  <a:xfrm>
                    <a:off x="4051080" y="4340880"/>
                    <a:ext cx="731160" cy="993960"/>
                  </a:xfrm>
                  <a:custGeom>
                    <a:avLst/>
                    <a:gdLst>
                      <a:gd name="textAreaLeft" fmla="*/ 0 w 731160"/>
                      <a:gd name="textAreaRight" fmla="*/ 731520 w 731160"/>
                      <a:gd name="textAreaTop" fmla="*/ 0 h 993960"/>
                      <a:gd name="textAreaBottom" fmla="*/ 994320 h 993960"/>
                    </a:gdLst>
                    <a:ahLst/>
                    <a:rect l="textAreaLeft" t="textAreaTop" r="textAreaRight" b="textAreaBottom"/>
                    <a:pathLst>
                      <a:path w="180" h="252">
                        <a:moveTo>
                          <a:pt x="163" y="59"/>
                        </a:moveTo>
                        <a:lnTo>
                          <a:pt x="163" y="59"/>
                        </a:lnTo>
                        <a:lnTo>
                          <a:pt x="163" y="59"/>
                        </a:lnTo>
                        <a:lnTo>
                          <a:pt x="163" y="59"/>
                        </a:lnTo>
                        <a:lnTo>
                          <a:pt x="163" y="59"/>
                        </a:lnTo>
                        <a:lnTo>
                          <a:pt x="157" y="53"/>
                        </a:lnTo>
                        <a:lnTo>
                          <a:pt x="154" y="48"/>
                        </a:lnTo>
                        <a:lnTo>
                          <a:pt x="153" y="42"/>
                        </a:lnTo>
                        <a:lnTo>
                          <a:pt x="157" y="38"/>
                        </a:lnTo>
                        <a:lnTo>
                          <a:pt x="152" y="34"/>
                        </a:lnTo>
                        <a:lnTo>
                          <a:pt x="147" y="32"/>
                        </a:lnTo>
                        <a:lnTo>
                          <a:pt x="143" y="29"/>
                        </a:lnTo>
                        <a:lnTo>
                          <a:pt x="137" y="28"/>
                        </a:lnTo>
                        <a:lnTo>
                          <a:pt x="132" y="27"/>
                        </a:lnTo>
                        <a:lnTo>
                          <a:pt x="126" y="27"/>
                        </a:lnTo>
                        <a:lnTo>
                          <a:pt x="120" y="28"/>
                        </a:lnTo>
                        <a:lnTo>
                          <a:pt x="115" y="29"/>
                        </a:lnTo>
                        <a:lnTo>
                          <a:pt x="110" y="29"/>
                        </a:lnTo>
                        <a:lnTo>
                          <a:pt x="105" y="26"/>
                        </a:lnTo>
                        <a:lnTo>
                          <a:pt x="100" y="21"/>
                        </a:lnTo>
                        <a:lnTo>
                          <a:pt x="97" y="14"/>
                        </a:lnTo>
                        <a:lnTo>
                          <a:pt x="91" y="8"/>
                        </a:lnTo>
                        <a:lnTo>
                          <a:pt x="85" y="2"/>
                        </a:lnTo>
                        <a:lnTo>
                          <a:pt x="77" y="0"/>
                        </a:lnTo>
                        <a:lnTo>
                          <a:pt x="66" y="0"/>
                        </a:lnTo>
                        <a:lnTo>
                          <a:pt x="64" y="3"/>
                        </a:lnTo>
                        <a:lnTo>
                          <a:pt x="61" y="7"/>
                        </a:lnTo>
                        <a:lnTo>
                          <a:pt x="58" y="8"/>
                        </a:lnTo>
                        <a:lnTo>
                          <a:pt x="52" y="7"/>
                        </a:lnTo>
                        <a:lnTo>
                          <a:pt x="51" y="7"/>
                        </a:lnTo>
                        <a:lnTo>
                          <a:pt x="51" y="7"/>
                        </a:lnTo>
                        <a:lnTo>
                          <a:pt x="49" y="7"/>
                        </a:lnTo>
                        <a:lnTo>
                          <a:pt x="48" y="6"/>
                        </a:lnTo>
                        <a:lnTo>
                          <a:pt x="48" y="7"/>
                        </a:lnTo>
                        <a:lnTo>
                          <a:pt x="47" y="7"/>
                        </a:lnTo>
                        <a:lnTo>
                          <a:pt x="47" y="7"/>
                        </a:lnTo>
                        <a:lnTo>
                          <a:pt x="46" y="8"/>
                        </a:lnTo>
                        <a:lnTo>
                          <a:pt x="43" y="9"/>
                        </a:lnTo>
                        <a:lnTo>
                          <a:pt x="39" y="13"/>
                        </a:lnTo>
                        <a:lnTo>
                          <a:pt x="32" y="18"/>
                        </a:lnTo>
                        <a:lnTo>
                          <a:pt x="25" y="25"/>
                        </a:lnTo>
                        <a:lnTo>
                          <a:pt x="16" y="33"/>
                        </a:lnTo>
                        <a:lnTo>
                          <a:pt x="8" y="42"/>
                        </a:lnTo>
                        <a:lnTo>
                          <a:pt x="3" y="53"/>
                        </a:lnTo>
                        <a:lnTo>
                          <a:pt x="0" y="65"/>
                        </a:lnTo>
                        <a:lnTo>
                          <a:pt x="0" y="76"/>
                        </a:lnTo>
                        <a:lnTo>
                          <a:pt x="1" y="86"/>
                        </a:lnTo>
                        <a:lnTo>
                          <a:pt x="5" y="94"/>
                        </a:lnTo>
                        <a:lnTo>
                          <a:pt x="8" y="100"/>
                        </a:lnTo>
                        <a:lnTo>
                          <a:pt x="14" y="105"/>
                        </a:lnTo>
                        <a:lnTo>
                          <a:pt x="21" y="108"/>
                        </a:lnTo>
                        <a:lnTo>
                          <a:pt x="29" y="109"/>
                        </a:lnTo>
                        <a:lnTo>
                          <a:pt x="38" y="109"/>
                        </a:lnTo>
                        <a:lnTo>
                          <a:pt x="46" y="109"/>
                        </a:lnTo>
                        <a:lnTo>
                          <a:pt x="55" y="112"/>
                        </a:lnTo>
                        <a:lnTo>
                          <a:pt x="65" y="117"/>
                        </a:lnTo>
                        <a:lnTo>
                          <a:pt x="72" y="122"/>
                        </a:lnTo>
                        <a:lnTo>
                          <a:pt x="78" y="132"/>
                        </a:lnTo>
                        <a:lnTo>
                          <a:pt x="81" y="141"/>
                        </a:lnTo>
                        <a:lnTo>
                          <a:pt x="81" y="154"/>
                        </a:lnTo>
                        <a:lnTo>
                          <a:pt x="78" y="167"/>
                        </a:lnTo>
                        <a:lnTo>
                          <a:pt x="74" y="180"/>
                        </a:lnTo>
                        <a:lnTo>
                          <a:pt x="73" y="194"/>
                        </a:lnTo>
                        <a:lnTo>
                          <a:pt x="74" y="208"/>
                        </a:lnTo>
                        <a:lnTo>
                          <a:pt x="77" y="223"/>
                        </a:lnTo>
                        <a:lnTo>
                          <a:pt x="81" y="234"/>
                        </a:lnTo>
                        <a:lnTo>
                          <a:pt x="87" y="244"/>
                        </a:lnTo>
                        <a:lnTo>
                          <a:pt x="94" y="250"/>
                        </a:lnTo>
                        <a:lnTo>
                          <a:pt x="101" y="252"/>
                        </a:lnTo>
                        <a:lnTo>
                          <a:pt x="110" y="244"/>
                        </a:lnTo>
                        <a:lnTo>
                          <a:pt x="117" y="237"/>
                        </a:lnTo>
                        <a:lnTo>
                          <a:pt x="124" y="229"/>
                        </a:lnTo>
                        <a:lnTo>
                          <a:pt x="131" y="219"/>
                        </a:lnTo>
                        <a:lnTo>
                          <a:pt x="138" y="211"/>
                        </a:lnTo>
                        <a:lnTo>
                          <a:pt x="144" y="201"/>
                        </a:lnTo>
                        <a:lnTo>
                          <a:pt x="150" y="191"/>
                        </a:lnTo>
                        <a:lnTo>
                          <a:pt x="154" y="181"/>
                        </a:lnTo>
                        <a:lnTo>
                          <a:pt x="155" y="178"/>
                        </a:lnTo>
                        <a:lnTo>
                          <a:pt x="155" y="174"/>
                        </a:lnTo>
                        <a:lnTo>
                          <a:pt x="155" y="171"/>
                        </a:lnTo>
                        <a:lnTo>
                          <a:pt x="154" y="166"/>
                        </a:lnTo>
                        <a:lnTo>
                          <a:pt x="154" y="157"/>
                        </a:lnTo>
                        <a:lnTo>
                          <a:pt x="159" y="148"/>
                        </a:lnTo>
                        <a:lnTo>
                          <a:pt x="165" y="140"/>
                        </a:lnTo>
                        <a:lnTo>
                          <a:pt x="173" y="132"/>
                        </a:lnTo>
                        <a:lnTo>
                          <a:pt x="174" y="125"/>
                        </a:lnTo>
                        <a:lnTo>
                          <a:pt x="177" y="118"/>
                        </a:lnTo>
                        <a:lnTo>
                          <a:pt x="178" y="111"/>
                        </a:lnTo>
                        <a:lnTo>
                          <a:pt x="179" y="102"/>
                        </a:lnTo>
                        <a:lnTo>
                          <a:pt x="179" y="101"/>
                        </a:lnTo>
                        <a:lnTo>
                          <a:pt x="179" y="101"/>
                        </a:lnTo>
                        <a:lnTo>
                          <a:pt x="179" y="100"/>
                        </a:lnTo>
                        <a:lnTo>
                          <a:pt x="180" y="100"/>
                        </a:lnTo>
                        <a:lnTo>
                          <a:pt x="173" y="92"/>
                        </a:lnTo>
                        <a:lnTo>
                          <a:pt x="167" y="81"/>
                        </a:lnTo>
                        <a:lnTo>
                          <a:pt x="164" y="71"/>
                        </a:lnTo>
                        <a:lnTo>
                          <a:pt x="163" y="59"/>
                        </a:lnTo>
                        <a:close/>
                      </a:path>
                    </a:pathLst>
                  </a:custGeom>
                  <a:solidFill>
                    <a:srgbClr val="8c60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276" name="Freeform 19"/>
              <p:cNvSpPr/>
              <p:nvPr/>
            </p:nvSpPr>
            <p:spPr>
              <a:xfrm>
                <a:off x="2981520" y="3765240"/>
                <a:ext cx="1807200" cy="1831680"/>
              </a:xfrm>
              <a:custGeom>
                <a:avLst/>
                <a:gdLst>
                  <a:gd name="textAreaLeft" fmla="*/ 0 w 1807200"/>
                  <a:gd name="textAreaRight" fmla="*/ 1807560 w 1807200"/>
                  <a:gd name="textAreaTop" fmla="*/ 0 h 1831680"/>
                  <a:gd name="textAreaBottom" fmla="*/ 1832040 h 1831680"/>
                </a:gdLst>
                <a:ahLst/>
                <a:rect l="textAreaLeft" t="textAreaTop" r="textAreaRight" b="textAreaBottom"/>
                <a:pathLst>
                  <a:path w="444" h="464">
                    <a:moveTo>
                      <a:pt x="442" y="248"/>
                    </a:moveTo>
                    <a:lnTo>
                      <a:pt x="444" y="211"/>
                    </a:lnTo>
                    <a:lnTo>
                      <a:pt x="441" y="173"/>
                    </a:lnTo>
                    <a:lnTo>
                      <a:pt x="433" y="138"/>
                    </a:lnTo>
                    <a:lnTo>
                      <a:pt x="418" y="105"/>
                    </a:lnTo>
                    <a:lnTo>
                      <a:pt x="400" y="73"/>
                    </a:lnTo>
                    <a:lnTo>
                      <a:pt x="377" y="44"/>
                    </a:lnTo>
                    <a:lnTo>
                      <a:pt x="351" y="21"/>
                    </a:lnTo>
                    <a:lnTo>
                      <a:pt x="321" y="0"/>
                    </a:lnTo>
                    <a:lnTo>
                      <a:pt x="335" y="20"/>
                    </a:lnTo>
                    <a:lnTo>
                      <a:pt x="347" y="41"/>
                    </a:lnTo>
                    <a:lnTo>
                      <a:pt x="357" y="63"/>
                    </a:lnTo>
                    <a:lnTo>
                      <a:pt x="364" y="87"/>
                    </a:lnTo>
                    <a:lnTo>
                      <a:pt x="370" y="110"/>
                    </a:lnTo>
                    <a:lnTo>
                      <a:pt x="373" y="135"/>
                    </a:lnTo>
                    <a:lnTo>
                      <a:pt x="373" y="160"/>
                    </a:lnTo>
                    <a:lnTo>
                      <a:pt x="370" y="186"/>
                    </a:lnTo>
                    <a:lnTo>
                      <a:pt x="365" y="211"/>
                    </a:lnTo>
                    <a:lnTo>
                      <a:pt x="358" y="234"/>
                    </a:lnTo>
                    <a:lnTo>
                      <a:pt x="349" y="258"/>
                    </a:lnTo>
                    <a:lnTo>
                      <a:pt x="338" y="279"/>
                    </a:lnTo>
                    <a:lnTo>
                      <a:pt x="325" y="299"/>
                    </a:lnTo>
                    <a:lnTo>
                      <a:pt x="310" y="318"/>
                    </a:lnTo>
                    <a:lnTo>
                      <a:pt x="294" y="334"/>
                    </a:lnTo>
                    <a:lnTo>
                      <a:pt x="275" y="350"/>
                    </a:lnTo>
                    <a:lnTo>
                      <a:pt x="255" y="364"/>
                    </a:lnTo>
                    <a:lnTo>
                      <a:pt x="235" y="376"/>
                    </a:lnTo>
                    <a:lnTo>
                      <a:pt x="212" y="385"/>
                    </a:lnTo>
                    <a:lnTo>
                      <a:pt x="189" y="392"/>
                    </a:lnTo>
                    <a:lnTo>
                      <a:pt x="165" y="398"/>
                    </a:lnTo>
                    <a:lnTo>
                      <a:pt x="141" y="400"/>
                    </a:lnTo>
                    <a:lnTo>
                      <a:pt x="116" y="402"/>
                    </a:lnTo>
                    <a:lnTo>
                      <a:pt x="91" y="399"/>
                    </a:lnTo>
                    <a:lnTo>
                      <a:pt x="79" y="397"/>
                    </a:lnTo>
                    <a:lnTo>
                      <a:pt x="66" y="395"/>
                    </a:lnTo>
                    <a:lnTo>
                      <a:pt x="54" y="391"/>
                    </a:lnTo>
                    <a:lnTo>
                      <a:pt x="44" y="388"/>
                    </a:lnTo>
                    <a:lnTo>
                      <a:pt x="32" y="383"/>
                    </a:lnTo>
                    <a:lnTo>
                      <a:pt x="21" y="378"/>
                    </a:lnTo>
                    <a:lnTo>
                      <a:pt x="11" y="373"/>
                    </a:lnTo>
                    <a:lnTo>
                      <a:pt x="0" y="367"/>
                    </a:lnTo>
                    <a:lnTo>
                      <a:pt x="15" y="385"/>
                    </a:lnTo>
                    <a:lnTo>
                      <a:pt x="32" y="402"/>
                    </a:lnTo>
                    <a:lnTo>
                      <a:pt x="51" y="417"/>
                    </a:lnTo>
                    <a:lnTo>
                      <a:pt x="71" y="430"/>
                    </a:lnTo>
                    <a:lnTo>
                      <a:pt x="91" y="441"/>
                    </a:lnTo>
                    <a:lnTo>
                      <a:pt x="113" y="450"/>
                    </a:lnTo>
                    <a:lnTo>
                      <a:pt x="137" y="457"/>
                    </a:lnTo>
                    <a:lnTo>
                      <a:pt x="162" y="462"/>
                    </a:lnTo>
                    <a:lnTo>
                      <a:pt x="187" y="464"/>
                    </a:lnTo>
                    <a:lnTo>
                      <a:pt x="212" y="464"/>
                    </a:lnTo>
                    <a:lnTo>
                      <a:pt x="237" y="461"/>
                    </a:lnTo>
                    <a:lnTo>
                      <a:pt x="261" y="456"/>
                    </a:lnTo>
                    <a:lnTo>
                      <a:pt x="283" y="448"/>
                    </a:lnTo>
                    <a:lnTo>
                      <a:pt x="305" y="438"/>
                    </a:lnTo>
                    <a:lnTo>
                      <a:pt x="327" y="426"/>
                    </a:lnTo>
                    <a:lnTo>
                      <a:pt x="347" y="413"/>
                    </a:lnTo>
                    <a:lnTo>
                      <a:pt x="364" y="398"/>
                    </a:lnTo>
                    <a:lnTo>
                      <a:pt x="381" y="380"/>
                    </a:lnTo>
                    <a:lnTo>
                      <a:pt x="396" y="363"/>
                    </a:lnTo>
                    <a:lnTo>
                      <a:pt x="409" y="342"/>
                    </a:lnTo>
                    <a:lnTo>
                      <a:pt x="421" y="320"/>
                    </a:lnTo>
                    <a:lnTo>
                      <a:pt x="430" y="298"/>
                    </a:lnTo>
                    <a:lnTo>
                      <a:pt x="437" y="273"/>
                    </a:lnTo>
                    <a:lnTo>
                      <a:pt x="442" y="248"/>
                    </a:lnTo>
                    <a:close/>
                  </a:path>
                </a:pathLst>
              </a:custGeom>
              <a:solidFill>
                <a:srgbClr val="60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77" name="Freeform 21"/>
            <p:cNvSpPr/>
            <p:nvPr/>
          </p:nvSpPr>
          <p:spPr>
            <a:xfrm>
              <a:off x="3868920" y="3701520"/>
              <a:ext cx="256320" cy="32760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63" h="83">
                  <a:moveTo>
                    <a:pt x="32" y="3"/>
                  </a:moveTo>
                  <a:lnTo>
                    <a:pt x="34" y="4"/>
                  </a:lnTo>
                  <a:lnTo>
                    <a:pt x="39" y="7"/>
                  </a:lnTo>
                  <a:lnTo>
                    <a:pt x="46" y="12"/>
                  </a:lnTo>
                  <a:lnTo>
                    <a:pt x="53" y="18"/>
                  </a:lnTo>
                  <a:lnTo>
                    <a:pt x="59" y="26"/>
                  </a:lnTo>
                  <a:lnTo>
                    <a:pt x="63" y="33"/>
                  </a:lnTo>
                  <a:lnTo>
                    <a:pt x="61" y="42"/>
                  </a:lnTo>
                  <a:lnTo>
                    <a:pt x="55" y="49"/>
                  </a:lnTo>
                  <a:lnTo>
                    <a:pt x="47" y="56"/>
                  </a:lnTo>
                  <a:lnTo>
                    <a:pt x="45" y="63"/>
                  </a:lnTo>
                  <a:lnTo>
                    <a:pt x="44" y="70"/>
                  </a:lnTo>
                  <a:lnTo>
                    <a:pt x="40" y="78"/>
                  </a:lnTo>
                  <a:lnTo>
                    <a:pt x="33" y="83"/>
                  </a:lnTo>
                  <a:lnTo>
                    <a:pt x="25" y="81"/>
                  </a:lnTo>
                  <a:lnTo>
                    <a:pt x="19" y="72"/>
                  </a:lnTo>
                  <a:lnTo>
                    <a:pt x="21" y="62"/>
                  </a:lnTo>
                  <a:lnTo>
                    <a:pt x="26" y="51"/>
                  </a:lnTo>
                  <a:lnTo>
                    <a:pt x="27" y="42"/>
                  </a:lnTo>
                  <a:lnTo>
                    <a:pt x="22" y="36"/>
                  </a:lnTo>
                  <a:lnTo>
                    <a:pt x="10" y="33"/>
                  </a:lnTo>
                  <a:lnTo>
                    <a:pt x="4" y="32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8" name="Freeform 27"/>
            <p:cNvSpPr/>
            <p:nvPr/>
          </p:nvSpPr>
          <p:spPr>
            <a:xfrm>
              <a:off x="4198680" y="3958560"/>
              <a:ext cx="545400" cy="41076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134" h="104">
                  <a:moveTo>
                    <a:pt x="75" y="6"/>
                  </a:moveTo>
                  <a:lnTo>
                    <a:pt x="66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50" y="33"/>
                  </a:lnTo>
                  <a:lnTo>
                    <a:pt x="56" y="41"/>
                  </a:lnTo>
                  <a:lnTo>
                    <a:pt x="64" y="41"/>
                  </a:lnTo>
                  <a:lnTo>
                    <a:pt x="71" y="38"/>
                  </a:lnTo>
                  <a:lnTo>
                    <a:pt x="75" y="32"/>
                  </a:lnTo>
                  <a:lnTo>
                    <a:pt x="78" y="27"/>
                  </a:lnTo>
                  <a:lnTo>
                    <a:pt x="84" y="26"/>
                  </a:lnTo>
                  <a:lnTo>
                    <a:pt x="90" y="28"/>
                  </a:lnTo>
                  <a:lnTo>
                    <a:pt x="91" y="34"/>
                  </a:lnTo>
                  <a:lnTo>
                    <a:pt x="89" y="41"/>
                  </a:lnTo>
                  <a:lnTo>
                    <a:pt x="83" y="47"/>
                  </a:lnTo>
                  <a:lnTo>
                    <a:pt x="74" y="51"/>
                  </a:lnTo>
                  <a:lnTo>
                    <a:pt x="61" y="50"/>
                  </a:lnTo>
                  <a:lnTo>
                    <a:pt x="50" y="47"/>
                  </a:lnTo>
                  <a:lnTo>
                    <a:pt x="42" y="49"/>
                  </a:lnTo>
                  <a:lnTo>
                    <a:pt x="38" y="50"/>
                  </a:lnTo>
                  <a:lnTo>
                    <a:pt x="37" y="51"/>
                  </a:lnTo>
                  <a:lnTo>
                    <a:pt x="35" y="52"/>
                  </a:lnTo>
                  <a:lnTo>
                    <a:pt x="29" y="54"/>
                  </a:lnTo>
                  <a:lnTo>
                    <a:pt x="23" y="59"/>
                  </a:lnTo>
                  <a:lnTo>
                    <a:pt x="22" y="66"/>
                  </a:lnTo>
                  <a:lnTo>
                    <a:pt x="22" y="72"/>
                  </a:lnTo>
                  <a:lnTo>
                    <a:pt x="20" y="76"/>
                  </a:lnTo>
                  <a:lnTo>
                    <a:pt x="17" y="76"/>
                  </a:lnTo>
                  <a:lnTo>
                    <a:pt x="9" y="74"/>
                  </a:lnTo>
                  <a:lnTo>
                    <a:pt x="2" y="77"/>
                  </a:lnTo>
                  <a:lnTo>
                    <a:pt x="0" y="85"/>
                  </a:lnTo>
                  <a:lnTo>
                    <a:pt x="4" y="96"/>
                  </a:lnTo>
                  <a:lnTo>
                    <a:pt x="12" y="103"/>
                  </a:lnTo>
                  <a:lnTo>
                    <a:pt x="17" y="100"/>
                  </a:lnTo>
                  <a:lnTo>
                    <a:pt x="22" y="99"/>
                  </a:lnTo>
                  <a:lnTo>
                    <a:pt x="26" y="98"/>
                  </a:lnTo>
                  <a:lnTo>
                    <a:pt x="30" y="97"/>
                  </a:lnTo>
                  <a:lnTo>
                    <a:pt x="31" y="93"/>
                  </a:lnTo>
                  <a:lnTo>
                    <a:pt x="33" y="90"/>
                  </a:lnTo>
                  <a:lnTo>
                    <a:pt x="36" y="86"/>
                  </a:lnTo>
                  <a:lnTo>
                    <a:pt x="39" y="84"/>
                  </a:lnTo>
                  <a:lnTo>
                    <a:pt x="49" y="83"/>
                  </a:lnTo>
                  <a:lnTo>
                    <a:pt x="58" y="85"/>
                  </a:lnTo>
                  <a:lnTo>
                    <a:pt x="65" y="90"/>
                  </a:lnTo>
                  <a:lnTo>
                    <a:pt x="71" y="96"/>
                  </a:lnTo>
                  <a:lnTo>
                    <a:pt x="78" y="102"/>
                  </a:lnTo>
                  <a:lnTo>
                    <a:pt x="89" y="104"/>
                  </a:lnTo>
                  <a:lnTo>
                    <a:pt x="98" y="102"/>
                  </a:lnTo>
                  <a:lnTo>
                    <a:pt x="105" y="95"/>
                  </a:lnTo>
                  <a:lnTo>
                    <a:pt x="111" y="89"/>
                  </a:lnTo>
                  <a:lnTo>
                    <a:pt x="119" y="86"/>
                  </a:lnTo>
                  <a:lnTo>
                    <a:pt x="128" y="86"/>
                  </a:lnTo>
                  <a:lnTo>
                    <a:pt x="134" y="89"/>
                  </a:lnTo>
                  <a:lnTo>
                    <a:pt x="129" y="77"/>
                  </a:lnTo>
                  <a:lnTo>
                    <a:pt x="124" y="65"/>
                  </a:lnTo>
                  <a:lnTo>
                    <a:pt x="118" y="53"/>
                  </a:lnTo>
                  <a:lnTo>
                    <a:pt x="112" y="41"/>
                  </a:lnTo>
                  <a:lnTo>
                    <a:pt x="105" y="31"/>
                  </a:lnTo>
                  <a:lnTo>
                    <a:pt x="98" y="20"/>
                  </a:lnTo>
                  <a:lnTo>
                    <a:pt x="90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7" y="3"/>
                  </a:lnTo>
                  <a:lnTo>
                    <a:pt x="76" y="4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79" name="Freeform 28"/>
          <p:cNvSpPr/>
          <p:nvPr/>
        </p:nvSpPr>
        <p:spPr>
          <a:xfrm>
            <a:off x="4460760" y="3809880"/>
            <a:ext cx="15840" cy="33480"/>
          </a:xfrm>
          <a:custGeom>
            <a:avLst/>
            <a:gdLst>
              <a:gd name="textAreaLeft" fmla="*/ 0 w 15840"/>
              <a:gd name="textAreaRight" fmla="*/ 16200 w 158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" h="21">
                <a:moveTo>
                  <a:pt x="4" y="0"/>
                </a:moveTo>
                <a:lnTo>
                  <a:pt x="0" y="4"/>
                </a:lnTo>
                <a:lnTo>
                  <a:pt x="1" y="10"/>
                </a:lnTo>
                <a:lnTo>
                  <a:pt x="4" y="15"/>
                </a:lnTo>
                <a:lnTo>
                  <a:pt x="10" y="21"/>
                </a:lnTo>
                <a:lnTo>
                  <a:pt x="10" y="21"/>
                </a:lnTo>
                <a:lnTo>
                  <a:pt x="10" y="21"/>
                </a:lnTo>
                <a:lnTo>
                  <a:pt x="10" y="21"/>
                </a:lnTo>
                <a:lnTo>
                  <a:pt x="10" y="21"/>
                </a:lnTo>
                <a:lnTo>
                  <a:pt x="10" y="18"/>
                </a:lnTo>
                <a:lnTo>
                  <a:pt x="10" y="17"/>
                </a:lnTo>
                <a:lnTo>
                  <a:pt x="10" y="15"/>
                </a:lnTo>
                <a:lnTo>
                  <a:pt x="10" y="14"/>
                </a:lnTo>
                <a:lnTo>
                  <a:pt x="10" y="9"/>
                </a:lnTo>
                <a:lnTo>
                  <a:pt x="8" y="5"/>
                </a:lnTo>
                <a:lnTo>
                  <a:pt x="6" y="2"/>
                </a:lnTo>
                <a:lnTo>
                  <a:pt x="4" y="0"/>
                </a:lnTo>
                <a:close/>
              </a:path>
            </a:pathLst>
          </a:custGeom>
          <a:solidFill>
            <a:srgbClr val="8c6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Freeform 29"/>
          <p:cNvSpPr/>
          <p:nvPr/>
        </p:nvSpPr>
        <p:spPr>
          <a:xfrm>
            <a:off x="4294080" y="3749760"/>
            <a:ext cx="28800" cy="12600"/>
          </a:xfrm>
          <a:custGeom>
            <a:avLst/>
            <a:gdLst>
              <a:gd name="textAreaLeft" fmla="*/ 0 w 28800"/>
              <a:gd name="textAreaRight" fmla="*/ 29160 w 28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" h="8">
                <a:moveTo>
                  <a:pt x="4" y="7"/>
                </a:moveTo>
                <a:lnTo>
                  <a:pt x="10" y="8"/>
                </a:lnTo>
                <a:lnTo>
                  <a:pt x="13" y="7"/>
                </a:lnTo>
                <a:lnTo>
                  <a:pt x="16" y="3"/>
                </a:lnTo>
                <a:lnTo>
                  <a:pt x="18" y="0"/>
                </a:lnTo>
                <a:lnTo>
                  <a:pt x="14" y="1"/>
                </a:lnTo>
                <a:lnTo>
                  <a:pt x="10" y="2"/>
                </a:lnTo>
                <a:lnTo>
                  <a:pt x="5" y="3"/>
                </a:lnTo>
                <a:lnTo>
                  <a:pt x="0" y="6"/>
                </a:lnTo>
                <a:lnTo>
                  <a:pt x="1" y="7"/>
                </a:lnTo>
                <a:lnTo>
                  <a:pt x="3" y="7"/>
                </a:lnTo>
                <a:lnTo>
                  <a:pt x="3" y="7"/>
                </a:lnTo>
                <a:lnTo>
                  <a:pt x="4" y="7"/>
                </a:lnTo>
                <a:close/>
              </a:path>
            </a:pathLst>
          </a:custGeom>
          <a:solidFill>
            <a:srgbClr val="8c6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Freeform 30"/>
          <p:cNvSpPr/>
          <p:nvPr/>
        </p:nvSpPr>
        <p:spPr>
          <a:xfrm>
            <a:off x="4294080" y="3648240"/>
            <a:ext cx="25560" cy="36360"/>
          </a:xfrm>
          <a:custGeom>
            <a:avLst/>
            <a:gdLst>
              <a:gd name="textAreaLeft" fmla="*/ 0 w 25560"/>
              <a:gd name="textAreaRight" fmla="*/ 25920 w 255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6" h="23">
                <a:moveTo>
                  <a:pt x="16" y="3"/>
                </a:moveTo>
                <a:lnTo>
                  <a:pt x="16" y="5"/>
                </a:lnTo>
                <a:lnTo>
                  <a:pt x="14" y="11"/>
                </a:lnTo>
                <a:lnTo>
                  <a:pt x="13" y="18"/>
                </a:lnTo>
                <a:lnTo>
                  <a:pt x="10" y="21"/>
                </a:lnTo>
                <a:lnTo>
                  <a:pt x="5" y="23"/>
                </a:lnTo>
                <a:lnTo>
                  <a:pt x="1" y="21"/>
                </a:lnTo>
                <a:lnTo>
                  <a:pt x="0" y="19"/>
                </a:lnTo>
                <a:lnTo>
                  <a:pt x="3" y="14"/>
                </a:lnTo>
                <a:lnTo>
                  <a:pt x="7" y="8"/>
                </a:lnTo>
                <a:lnTo>
                  <a:pt x="11" y="3"/>
                </a:lnTo>
                <a:lnTo>
                  <a:pt x="14" y="0"/>
                </a:lnTo>
                <a:lnTo>
                  <a:pt x="16" y="3"/>
                </a:lnTo>
                <a:close/>
              </a:path>
            </a:pathLst>
          </a:custGeom>
          <a:solidFill>
            <a:srgbClr val="8c6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44"/>
          <p:cNvSpPr/>
          <p:nvPr/>
        </p:nvSpPr>
        <p:spPr>
          <a:xfrm flipV="1">
            <a:off x="3276720" y="4797000"/>
            <a:ext cx="4895640" cy="1079640"/>
          </a:xfrm>
          <a:prstGeom prst="line">
            <a:avLst/>
          </a:prstGeom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604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252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В наполненном до краев ведре с водой объемом 10 л плавает кусок льда массой 500 г. Сколько воды выльется когда лед растает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468360" y="0"/>
            <a:ext cx="7345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Физика на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Text Box 4">
            <a:hlinkClick r:id="rId1" action="ppaction://hlinksldjump"/>
          </p:cNvPr>
          <p:cNvSpPr/>
          <p:nvPr/>
        </p:nvSpPr>
        <p:spPr>
          <a:xfrm>
            <a:off x="6588000" y="602136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c2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Нисколько. 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Уровень воды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понизится.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Text Box 3">
            <a:hlinkClick r:id="rId1" action="ppaction://hlinksldjump"/>
          </p:cNvPr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6de4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1402920" y="2420640"/>
            <a:ext cx="6264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702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Какой расплавленный металл может заморозить воду?</a:t>
            </a:r>
            <a:r>
              <a:rPr b="0" lang="ru-RU" sz="4000" spc="-1" strike="noStrike">
                <a:solidFill>
                  <a:srgbClr val="2b12be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Rectangle 3"/>
          <p:cNvSpPr/>
          <p:nvPr/>
        </p:nvSpPr>
        <p:spPr>
          <a:xfrm>
            <a:off x="539640" y="476280"/>
            <a:ext cx="734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Физика на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Text Box 4">
            <a:hlinkClick r:id="rId1" action="ppaction://hlinksldjump"/>
          </p:cNvPr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c2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/>
          </p:nvPr>
        </p:nvSpPr>
        <p:spPr>
          <a:xfrm>
            <a:off x="3838320" y="-360"/>
            <a:ext cx="5305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Verdana"/>
              </a:rPr>
              <a:t>Ртуть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2" name="Text Box 3">
            <a:hlinkClick r:id="rId1" action="ppaction://hlinksldjump"/>
          </p:cNvPr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6de4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/>
          </p:nvPr>
        </p:nvSpPr>
        <p:spPr>
          <a:xfrm>
            <a:off x="1115640" y="2636640"/>
            <a:ext cx="7201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Назовите три агрегатных состояния вод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Rectangle 3"/>
          <p:cNvSpPr/>
          <p:nvPr/>
        </p:nvSpPr>
        <p:spPr>
          <a:xfrm>
            <a:off x="539640" y="476280"/>
            <a:ext cx="734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Химия на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4">
            <a:hlinkClick r:id="rId1" action="ppaction://hlinksldjump"/>
          </p:cNvPr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Жидкая, твердая, парообразная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Text Box 3">
            <a:hlinkClick r:id="rId1" action="ppaction://hlinksldjump"/>
          </p:cNvPr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/>
          </p:nvPr>
        </p:nvSpPr>
        <p:spPr>
          <a:xfrm>
            <a:off x="324000" y="2276280"/>
            <a:ext cx="8208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Так называют химический элемент, и планету, и реку, и бога неба в греческой мифологии.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Rectangle 3"/>
          <p:cNvSpPr/>
          <p:nvPr/>
        </p:nvSpPr>
        <p:spPr>
          <a:xfrm>
            <a:off x="468360" y="47628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Химия на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Text Box 4">
            <a:hlinkClick r:id="rId1" action="ppaction://hlinksldjump"/>
          </p:cNvPr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/>
          </p:nvPr>
        </p:nvSpPr>
        <p:spPr>
          <a:xfrm>
            <a:off x="3059280" y="1628640"/>
            <a:ext cx="496224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Ура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 Box 3">
            <a:hlinkClick r:id="rId1" action="ppaction://hlinksldjump"/>
          </p:cNvPr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/>
          </p:nvPr>
        </p:nvSpPr>
        <p:spPr>
          <a:xfrm>
            <a:off x="539280" y="2060280"/>
            <a:ext cx="7201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Какого газа в атмосфере земли больш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Rectangle 3"/>
          <p:cNvSpPr/>
          <p:nvPr/>
        </p:nvSpPr>
        <p:spPr>
          <a:xfrm>
            <a:off x="539640" y="476280"/>
            <a:ext cx="7488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Химия на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Text Box 4">
            <a:hlinkClick r:id="rId1" action="ppaction://hlinksldjump"/>
          </p:cNvPr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e7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ервый ур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665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Rectangle 4"/>
          <p:cNvSpPr/>
          <p:nvPr/>
        </p:nvSpPr>
        <p:spPr>
          <a:xfrm>
            <a:off x="250920" y="2133720"/>
            <a:ext cx="244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физ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Rectangle 5"/>
          <p:cNvSpPr/>
          <p:nvPr/>
        </p:nvSpPr>
        <p:spPr>
          <a:xfrm>
            <a:off x="324000" y="3213000"/>
            <a:ext cx="244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хим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Rectangle 6"/>
          <p:cNvSpPr/>
          <p:nvPr/>
        </p:nvSpPr>
        <p:spPr>
          <a:xfrm>
            <a:off x="250920" y="4076640"/>
            <a:ext cx="244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Rectangle 7"/>
          <p:cNvSpPr/>
          <p:nvPr/>
        </p:nvSpPr>
        <p:spPr>
          <a:xfrm>
            <a:off x="179280" y="5013360"/>
            <a:ext cx="244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географ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8">
            <a:hlinkClick r:id="rId1" action="ppaction://hlinksldjump"/>
          </p:cNvPr>
          <p:cNvSpPr/>
          <p:nvPr/>
        </p:nvSpPr>
        <p:spPr>
          <a:xfrm>
            <a:off x="3348000" y="1052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Text Box 9"/>
          <p:cNvSpPr/>
          <p:nvPr/>
        </p:nvSpPr>
        <p:spPr>
          <a:xfrm>
            <a:off x="6659640" y="4076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10"/>
          <p:cNvSpPr/>
          <p:nvPr/>
        </p:nvSpPr>
        <p:spPr>
          <a:xfrm>
            <a:off x="5003640" y="4076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11"/>
          <p:cNvSpPr/>
          <p:nvPr/>
        </p:nvSpPr>
        <p:spPr>
          <a:xfrm>
            <a:off x="6659640" y="5084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12"/>
          <p:cNvSpPr/>
          <p:nvPr/>
        </p:nvSpPr>
        <p:spPr>
          <a:xfrm>
            <a:off x="5003640" y="5084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13"/>
          <p:cNvSpPr/>
          <p:nvPr/>
        </p:nvSpPr>
        <p:spPr>
          <a:xfrm>
            <a:off x="3348000" y="4076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Text Box 14"/>
          <p:cNvSpPr/>
          <p:nvPr/>
        </p:nvSpPr>
        <p:spPr>
          <a:xfrm>
            <a:off x="3348000" y="5084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15"/>
          <p:cNvSpPr/>
          <p:nvPr/>
        </p:nvSpPr>
        <p:spPr>
          <a:xfrm>
            <a:off x="3348000" y="3068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Text Box 16"/>
          <p:cNvSpPr/>
          <p:nvPr/>
        </p:nvSpPr>
        <p:spPr>
          <a:xfrm>
            <a:off x="6659640" y="1052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17"/>
          <p:cNvSpPr/>
          <p:nvPr/>
        </p:nvSpPr>
        <p:spPr>
          <a:xfrm>
            <a:off x="6659640" y="3068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11" action="ppaction://hlinksldjump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Text Box 18"/>
          <p:cNvSpPr/>
          <p:nvPr/>
        </p:nvSpPr>
        <p:spPr>
          <a:xfrm>
            <a:off x="3348000" y="2060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12" action="ppaction://hlinksldjump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Text Box 19"/>
          <p:cNvSpPr/>
          <p:nvPr/>
        </p:nvSpPr>
        <p:spPr>
          <a:xfrm>
            <a:off x="5003640" y="2060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13" action="ppaction://hlinksldjump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Text Box 20"/>
          <p:cNvSpPr/>
          <p:nvPr/>
        </p:nvSpPr>
        <p:spPr>
          <a:xfrm>
            <a:off x="6659640" y="2060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14" action="ppaction://hlinksldjump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Text Box 21"/>
          <p:cNvSpPr/>
          <p:nvPr/>
        </p:nvSpPr>
        <p:spPr>
          <a:xfrm>
            <a:off x="5003640" y="3068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15" action="ppaction://hlinksldjump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Text Box 22">
            <a:hlinkClick r:id="rId16" action="ppaction://hlinksldjump"/>
          </p:cNvPr>
          <p:cNvSpPr/>
          <p:nvPr/>
        </p:nvSpPr>
        <p:spPr>
          <a:xfrm>
            <a:off x="5003640" y="1052640"/>
            <a:ext cx="863640" cy="9244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b200"/>
                </a:solidFill>
                <a:uFillTx/>
                <a:latin typeface="Comic Sans MS"/>
                <a:hlinkClick r:id="rId17" action="ppaction://hlinksldjump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Rectangle 23">
            <a:hlinkClick r:id="rId18" action="ppaction://hlinksldjump"/>
          </p:cNvPr>
          <p:cNvSpPr/>
          <p:nvPr/>
        </p:nvSpPr>
        <p:spPr>
          <a:xfrm>
            <a:off x="1403280" y="6316560"/>
            <a:ext cx="55450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ЕРЕМЕ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2123640" y="2852640"/>
            <a:ext cx="496260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Азота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Text Box 3"/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684360" y="2781000"/>
            <a:ext cx="7200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Сколько ног у пауков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Rectangle 3"/>
          <p:cNvSpPr/>
          <p:nvPr/>
        </p:nvSpPr>
        <p:spPr>
          <a:xfrm>
            <a:off x="395280" y="476280"/>
            <a:ext cx="748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Биология на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/>
          </p:nvPr>
        </p:nvSpPr>
        <p:spPr>
          <a:xfrm>
            <a:off x="1995120" y="2868120"/>
            <a:ext cx="5305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e5fc00"/>
                </a:solidFill>
                <a:latin typeface="Times New Roman"/>
              </a:rPr>
              <a:t>Восемь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7740720" y="64008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/>
          </p:nvPr>
        </p:nvSpPr>
        <p:spPr>
          <a:xfrm>
            <a:off x="755280" y="2565000"/>
            <a:ext cx="72010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Сколько крыльев у блох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Rectangle 3"/>
          <p:cNvSpPr/>
          <p:nvPr/>
        </p:nvSpPr>
        <p:spPr>
          <a:xfrm>
            <a:off x="395280" y="476280"/>
            <a:ext cx="748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Биология на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Text Box 4"/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755280" y="2276280"/>
            <a:ext cx="689148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3399"/>
                </a:solidFill>
                <a:latin typeface="Tahoma"/>
              </a:rPr>
              <a:t>У блохи нет крыльев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3"/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99640" y="2276280"/>
            <a:ext cx="7201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Сколько резцов во рту обязан иметь каждый здоровый человек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Rectangle 3"/>
          <p:cNvSpPr/>
          <p:nvPr/>
        </p:nvSpPr>
        <p:spPr>
          <a:xfrm>
            <a:off x="539640" y="476280"/>
            <a:ext cx="734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Биология на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Text Box 4"/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/>
          </p:nvPr>
        </p:nvSpPr>
        <p:spPr>
          <a:xfrm>
            <a:off x="1995120" y="2868120"/>
            <a:ext cx="5305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99"/>
                </a:solidFill>
                <a:latin typeface="Verdana"/>
              </a:rPr>
              <a:t>Восемь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/>
          </p:nvPr>
        </p:nvSpPr>
        <p:spPr>
          <a:xfrm>
            <a:off x="539280" y="2060280"/>
            <a:ext cx="7201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Что на карте указывает направление на север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Rectangle 3"/>
          <p:cNvSpPr/>
          <p:nvPr/>
        </p:nvSpPr>
        <p:spPr>
          <a:xfrm>
            <a:off x="395280" y="476280"/>
            <a:ext cx="748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География на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Text Box 4"/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1619280" y="2565000"/>
            <a:ext cx="6105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Verdana"/>
              </a:rPr>
              <a:t>МЕРЕДИАН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7" name="Text Box 3"/>
          <p:cNvSpPr/>
          <p:nvPr/>
        </p:nvSpPr>
        <p:spPr>
          <a:xfrm>
            <a:off x="6948360" y="57340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дале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8" name="Picture 6" descr="j0335112"/>
          <p:cNvPicPr/>
          <p:nvPr/>
        </p:nvPicPr>
        <p:blipFill>
          <a:blip r:embed="rId1"/>
          <a:stretch/>
        </p:blipFill>
        <p:spPr>
          <a:xfrm>
            <a:off x="324000" y="33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/>
          </p:nvPr>
        </p:nvSpPr>
        <p:spPr>
          <a:xfrm>
            <a:off x="684360" y="2492280"/>
            <a:ext cx="7200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1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Плоскогорье относится к горам или равнинам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Rectangle 3"/>
          <p:cNvSpPr/>
          <p:nvPr/>
        </p:nvSpPr>
        <p:spPr>
          <a:xfrm>
            <a:off x="539640" y="476280"/>
            <a:ext cx="7345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География на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Text Box 4"/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720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Какая геометрическ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фигура нужн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для наказания детей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Rectangle 4"/>
          <p:cNvSpPr/>
          <p:nvPr/>
        </p:nvSpPr>
        <p:spPr>
          <a:xfrm>
            <a:off x="539640" y="476280"/>
            <a:ext cx="73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Математика на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Text Box 5">
            <a:hlinkClick r:id="rId1" action="ppaction://hlinksldjump"/>
          </p:cNvPr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0" name="м3.wav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80" fill="hold"/>
                                        <p:tgtEl>
                                          <p:spTgt spid="1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56944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ecff"/>
                </a:solidFill>
                <a:latin typeface="Verdana"/>
              </a:rPr>
              <a:t>К РАВНИНАМ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3" name="Text Box 3"/>
          <p:cNvSpPr/>
          <p:nvPr/>
        </p:nvSpPr>
        <p:spPr>
          <a:xfrm>
            <a:off x="6877080" y="57340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Comic Sans MS"/>
              </a:rPr>
              <a:t>дале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4" name="Picture 5" descr="j0335112"/>
          <p:cNvPicPr/>
          <p:nvPr/>
        </p:nvPicPr>
        <p:blipFill>
          <a:blip r:embed="rId1"/>
          <a:stretch/>
        </p:blipFill>
        <p:spPr>
          <a:xfrm>
            <a:off x="324000" y="33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539640" y="227628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Перечислите три отличительных свойства циклона и антициклона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Rectangle 3"/>
          <p:cNvSpPr/>
          <p:nvPr/>
        </p:nvSpPr>
        <p:spPr>
          <a:xfrm>
            <a:off x="324000" y="476280"/>
            <a:ext cx="7561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География на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Text Box 4"/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7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9072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Verdana"/>
              </a:rPr>
              <a:t>1. Давление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99072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Verdana"/>
              </a:rPr>
              <a:t>2. Температур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990720"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Verdana"/>
              </a:rPr>
              <a:t>3. Направление вращения воздушных масс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Text Box 3"/>
          <p:cNvSpPr/>
          <p:nvPr/>
        </p:nvSpPr>
        <p:spPr>
          <a:xfrm>
            <a:off x="6948360" y="6021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Comic Sans MS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O-ZONE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1" name="Rectangle 4"/>
          <p:cNvSpPr/>
          <p:nvPr/>
        </p:nvSpPr>
        <p:spPr>
          <a:xfrm>
            <a:off x="609480" y="41148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7200" spc="-1" strike="noStrike">
                <a:solidFill>
                  <a:srgbClr val="ffffb7"/>
                </a:solidFill>
                <a:latin typeface="Arial Black"/>
              </a:rPr>
              <a:t>PRINTE NORI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Rectangle 5"/>
          <p:cNvSpPr/>
          <p:nvPr/>
        </p:nvSpPr>
        <p:spPr>
          <a:xfrm>
            <a:off x="3124080" y="304920"/>
            <a:ext cx="3353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 Black"/>
              </a:rPr>
              <a:t>звоно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3" name="O-ZONE - PRINTE NORI.mp3" descr=""/>
          <p:cNvPicPr/>
          <p:nvPr/>
        </p:nvPicPr>
        <p:blipFill>
          <a:blip r:embed="rId1"/>
          <a:stretch/>
        </p:blipFill>
        <p:spPr>
          <a:xfrm>
            <a:off x="838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3467" fill="hold"/>
                                        <p:tgtEl>
                                          <p:spTgt spid="1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1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" dur="2000" fill="hold"/>
                                        <p:tgtEl>
                                          <p:spTgt spid="1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19">
                                  <p:stCondLst>
                                    <p:cond delay="20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/>
          </p:nvPr>
        </p:nvSpPr>
        <p:spPr>
          <a:xfrm>
            <a:off x="3779640" y="2060280"/>
            <a:ext cx="380988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Угол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2" name="Group 6"/>
          <p:cNvGrpSpPr/>
          <p:nvPr/>
        </p:nvGrpSpPr>
        <p:grpSpPr>
          <a:xfrm>
            <a:off x="1077840" y="467640"/>
            <a:ext cx="4620960" cy="4091040"/>
            <a:chOff x="1077840" y="467640"/>
            <a:chExt cx="4620960" cy="4091040"/>
          </a:xfrm>
        </p:grpSpPr>
        <p:sp>
          <p:nvSpPr>
            <p:cNvPr id="1243" name="Line 4"/>
            <p:cNvSpPr/>
            <p:nvPr/>
          </p:nvSpPr>
          <p:spPr>
            <a:xfrm flipH="1">
              <a:off x="1077840" y="467640"/>
              <a:ext cx="1759680" cy="4025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4" name="Line 5"/>
            <p:cNvSpPr/>
            <p:nvPr/>
          </p:nvSpPr>
          <p:spPr>
            <a:xfrm>
              <a:off x="1077840" y="4493520"/>
              <a:ext cx="4620960" cy="65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5" name="Text Box 7">
            <a:hlinkClick r:id="rId1" action="ppaction://hlinksldjump"/>
          </p:cNvPr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4"/>
          <p:cNvSpPr/>
          <p:nvPr/>
        </p:nvSpPr>
        <p:spPr>
          <a:xfrm>
            <a:off x="539640" y="476280"/>
            <a:ext cx="73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Математика на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Rectangle 5"/>
          <p:cNvSpPr/>
          <p:nvPr/>
        </p:nvSpPr>
        <p:spPr>
          <a:xfrm>
            <a:off x="826920" y="2205000"/>
            <a:ext cx="7490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Какие математические знаки бывают круглыми, квадратными и фигурным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Rectangle 6">
            <a:hlinkClick r:id="rId1" action="ppaction://hlinksldjump"/>
          </p:cNvPr>
          <p:cNvSpPr/>
          <p:nvPr/>
        </p:nvSpPr>
        <p:spPr>
          <a:xfrm>
            <a:off x="6998040" y="542124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2123640" y="2852640"/>
            <a:ext cx="496260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Скобки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Text Box 6">
            <a:hlinkClick r:id="rId1" action="ppaction://hlinksldjump"/>
          </p:cNvPr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Rectangle 11"/>
          <p:cNvSpPr/>
          <p:nvPr/>
        </p:nvSpPr>
        <p:spPr>
          <a:xfrm>
            <a:off x="3851280" y="4653000"/>
            <a:ext cx="2050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[  ]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Rectangle 12"/>
          <p:cNvSpPr/>
          <p:nvPr/>
        </p:nvSpPr>
        <p:spPr>
          <a:xfrm rot="19396800">
            <a:off x="1085400" y="388440"/>
            <a:ext cx="20512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{  }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Rectangle 13"/>
          <p:cNvSpPr/>
          <p:nvPr/>
        </p:nvSpPr>
        <p:spPr>
          <a:xfrm>
            <a:off x="5003640" y="620640"/>
            <a:ext cx="205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(  )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539280" y="2276280"/>
            <a:ext cx="7201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Сколько ступенек у лестницы, где средняя ступенька восьмая?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Rectangle 3"/>
          <p:cNvSpPr/>
          <p:nvPr/>
        </p:nvSpPr>
        <p:spPr>
          <a:xfrm>
            <a:off x="539640" y="476280"/>
            <a:ext cx="73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Математика на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Text Box 4">
            <a:hlinkClick r:id="rId1" action="ppaction://hlinksldjump"/>
          </p:cNvPr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5610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omic Sans MS"/>
              </a:rPr>
              <a:t>15 ступеней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Text Box 3">
            <a:hlinkClick r:id="rId1" action="ppaction://hlinksldjump"/>
          </p:cNvPr>
          <p:cNvSpPr/>
          <p:nvPr/>
        </p:nvSpPr>
        <p:spPr>
          <a:xfrm>
            <a:off x="7667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Freeform 8"/>
          <p:cNvSpPr/>
          <p:nvPr/>
        </p:nvSpPr>
        <p:spPr>
          <a:xfrm>
            <a:off x="2844720" y="4149720"/>
            <a:ext cx="3672000" cy="230364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2313" h="1451">
                <a:moveTo>
                  <a:pt x="0" y="0"/>
                </a:moveTo>
                <a:lnTo>
                  <a:pt x="635" y="0"/>
                </a:lnTo>
                <a:lnTo>
                  <a:pt x="635" y="453"/>
                </a:lnTo>
                <a:lnTo>
                  <a:pt x="1133" y="453"/>
                </a:lnTo>
                <a:lnTo>
                  <a:pt x="1133" y="861"/>
                </a:lnTo>
                <a:lnTo>
                  <a:pt x="1678" y="861"/>
                </a:lnTo>
                <a:lnTo>
                  <a:pt x="1678" y="1360"/>
                </a:lnTo>
                <a:lnTo>
                  <a:pt x="2267" y="1360"/>
                </a:lnTo>
                <a:lnTo>
                  <a:pt x="2313" y="1451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200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b12be"/>
                </a:solidFill>
                <a:latin typeface="Comic Sans MS"/>
              </a:rPr>
              <a:t>Какой учёный обещал перевернуть мир, если ему дать точку опоры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Rectangle 3"/>
          <p:cNvSpPr/>
          <p:nvPr/>
        </p:nvSpPr>
        <p:spPr>
          <a:xfrm>
            <a:off x="611280" y="476280"/>
            <a:ext cx="72738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Вопрос: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Физика на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Text Box 4">
            <a:hlinkClick r:id="rId1" action="ppaction://hlinksldjump"/>
          </p:cNvPr>
          <p:cNvSpPr/>
          <p:nvPr/>
        </p:nvSpPr>
        <p:spPr>
          <a:xfrm>
            <a:off x="5724360" y="537372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7:50:47Z</dcterms:created>
  <dc:creator>1</dc:creator>
  <dc:description/>
  <dc:language>en-US</dc:language>
  <cp:lastModifiedBy>Admin</cp:lastModifiedBy>
  <dcterms:modified xsi:type="dcterms:W3CDTF">2012-08-29T21:10:30Z</dcterms:modified>
  <cp:revision>14</cp:revision>
  <dc:subject/>
  <dc:title>К доске</dc:title>
</cp:coreProperties>
</file>