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41.png" ContentType="image/pn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3CF0-F4FC-45B9-AFDB-7BA442148E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2EDF-C591-49C2-B17C-766D66B42F0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684-2DA9-449B-B1E0-CFD5AB633A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C83E-FC10-4F64-97E7-E4CB6FD8FD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E09-F768-43EF-91EC-1D41CAF1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533-D461-4518-846C-C335C19D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1DE2E-2D1F-4A25-B846-B5FD28B1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96C7C-4723-46E0-9064-3464213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AA546-B30F-4563-837B-41FEA6F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11F62-FC27-4239-AE11-26F4C5B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60C9E-A6B3-43EB-B228-005C9E0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92911-EE89-44A0-81A9-B0ED086D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5E045-4478-4488-8D61-03202041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19526-4F92-43FA-AD6B-B9488265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76F8-1E28-45CE-8166-CC5B9B81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B2290-C8FC-4C84-948D-2D2CA883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E43-2286-435C-BF8F-5493F346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D6E73-10CB-42A4-844B-72750A9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62426-8986-426D-8EE5-4E128FD6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BE958-C518-4CE7-B53C-59B431C9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BF1AD-8114-45BF-96C3-5C08AAE9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30ADA-ACB6-4651-83AE-901B9501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ABAE0-213E-41FC-9590-DCBD80E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C68CF-65FA-41D0-948B-76E908C7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53BED-DCC7-4EED-BC5F-5FE1B49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51144-B399-4828-A6DF-EA06739A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D3FF4-BDA8-4EC4-ADE5-20A8A8BA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1E2-754E-42FD-AD6F-B0DB124F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5B2F9-B32A-4057-BE85-B5534A47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78B9C-2785-495D-BE7F-2E064C57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F4226-F1AA-4DF9-91D6-6FC17F0D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E41DD-4A6B-4964-9692-F0CC030E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6F5F9-DD1E-4FDD-B0B5-273B5A5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2A4C2-80C8-4677-8426-4B3660F7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C6485-64AC-4FA6-AEAB-7CD06E2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8600B-71B2-4CC8-B3CB-04B4E09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174A0-BFA9-4B61-8C3E-882AF90B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4B90D-7421-427C-B0D7-2B2D14D0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5AF7-AC24-4084-8C7D-ACED2CC6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EE732-5C60-4C91-8CCE-01DE055D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1CC9C-B372-4E3C-828A-C0476622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EB84A-F1D3-4C1F-9210-CB51E881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0C1CD-A066-44CC-8662-FAEEA41C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A52EF-87B4-4580-ACDA-3C8EB9B7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63FA4-E204-4503-B314-492F73BE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51DF4-A511-4C11-A466-80460A65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D0872-4988-4060-A441-66F11D3E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D9BE5-51E7-43A4-B65D-56534FA3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26A9B-8478-488E-A57B-F4A2769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0119-D727-4E8B-B5D8-D52B8AF7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72563-8552-41B3-BC6B-0188A54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19DBD-1FD3-4DD9-A5CB-962E7D3B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6ABC-DDBD-4334-8BF5-CF55154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422B8-507D-4CDC-9AB9-7BF49639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C4AD5-9D09-425F-98E8-E7B3081A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89371-3AAD-4A8F-891D-82E078B4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337DD-742B-4562-A6BB-3FCD6782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33F73-E9E3-449A-B2CA-F42F1737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79152-84A5-4AED-99FA-2BF32406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D3826-B1CF-45AD-8CAB-2D628FB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AF8C-2FF1-4F37-879A-88067614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03114-DDCB-4A47-957B-7EB83EDA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B76A1-A203-483A-843D-EB8B75E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71EB6-7E6F-4169-8935-DF566D89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227DB-8831-414F-AA6A-622F3F8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9F1E3-A96A-4C9C-BD47-40E70102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00E87-6B4D-4901-8644-5DB02DA5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FB63F-9D89-45A1-8935-599414D6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29A7-6AE4-46F8-ACA9-C5B0708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1233-58AF-4A73-8778-7C3CA16B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7B4A-5EB3-44B3-AA3C-AB44D3C2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8C8C-D05F-4B0D-8141-161049CC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9C4-294B-4E59-A2F9-69BC370F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8F29-00FC-4DF2-909F-98CC98E2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D763-4F2E-4D06-8C79-BE8045AE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C7C5-DA93-4F21-A33C-9DF60FDD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6EFD-E1C2-404F-A945-81903AA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A42E-1F66-4933-8B29-9957DC52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2BE3-BF2F-482F-800A-9587BFD1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7961-7808-47A1-8B1A-14EAC75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13D2-9963-40F9-93F1-6A529B1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9F211-5C23-45A3-B2B3-EF3F8586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FD2E-7454-4146-94AD-238CB8B2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D0B-79B2-445B-B933-0594C8F7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4CA2-5B06-4179-870F-03C7C2C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53E6-0EC3-4CD2-9C2C-66DA5A9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9183-0205-4279-99B6-F3178304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E7BA-2804-4FF0-ABE9-BD009525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3B7D-231D-42EE-AC0E-CA9ED29E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E91D-E5EF-4055-B120-8CA109CF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7674-D4B5-4874-8AC6-EAA48D01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2456-F32B-48A3-BED4-FA0BE957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EC25-BC9D-4A4B-B8A5-9F2792BE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79E1-278A-474F-9313-79BF5264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CBE-91F6-4C80-B6EF-671C5BD2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B39A8-A986-4A9B-B51B-74D93C1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562B-BC58-47D8-A3EE-3ECCE8A1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35A9-5993-4A68-8B5D-7CCB862F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AFA72-2FBE-420E-B06B-6A2CC8C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60F9-37DF-4890-8D01-440E11C0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6F365-E4B6-4B86-95B9-1170B48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82B6-B321-465D-9E8E-23CE895C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9D62-860F-4078-9B69-607C9D6A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1569-A7AF-4D97-B4C8-4222915D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34A2B-7217-4325-BE56-3275134B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F26-2ECA-498A-A633-6865EB10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A275-DD1D-4236-B316-D775DF36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9B9E-1E15-49F9-A4AF-A1AC9F9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7FA8A-15CB-41FC-AAC4-491872A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35FA1-8109-441C-BD1E-F991C03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5A03C-FAEC-4879-B4E9-5C5BBFC1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704E3-6DA7-44E5-821B-3B57D5A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9467-2D8F-40C2-B9CC-5FF4097E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E54E-43C5-4B7A-ABB4-AFE0756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9642-8E1B-48EF-83F9-B50A3B3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EFA7-2CC6-4E61-89D3-31202126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65D-1F6A-4CF6-8F49-58A0015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07F06-13A8-4AD3-83DF-2DABFC06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42213-F41D-49C8-91BA-ECBDA7B3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B10D0-04A2-4155-BE33-9048E212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8FF2B-42A3-4BCD-883D-6EB24093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7080-1D60-43E3-9377-6985A176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3B568-F457-4C01-B1A5-17D03FA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E8A45-2F19-462E-8BF7-DB4F7255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0CB75-C153-4153-B4AA-4E024420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3C38E-90E0-4A39-B2C4-6B11550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85BAA-60EB-4CB7-921D-E21D637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E16-6D6B-4E37-8456-62457BF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DF3B-602C-4C16-BE5C-C672409C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A3EE-0A91-420D-B821-998B5A95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0AC39-EE92-4B35-8E61-76A38E11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17800-3583-46D2-92DD-6BE56F0A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22559-3F51-4B16-AB7E-3BE82EF4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A9903-975E-4C2E-AFE3-D3D8C9F0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22DE3-4657-4D40-9ADD-B5D1DDAC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B0B1C-2784-44D9-910E-4F9399E2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8EF0B-A841-4BE3-914D-7E26EC62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603AA-E05E-4E69-AEAD-15DABFC4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45A-629E-4421-A805-7E16708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FC55B-5188-4D6B-9631-2D928B36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CD6A-94C5-414B-B5D0-E4E6071B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9C8FB-F139-40D8-83A8-6526103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C7339-FAF1-4199-B5F1-2B10B544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F862-5EA8-4B89-9EEA-0873CA22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0F465-0EE9-4C28-BDCE-E365CC8C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091A-D939-4D75-B9E9-E7626470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016E-5D5C-4E57-8CD0-761E18D4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88A8D-1944-42B2-AD87-6E47A313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7C654-EC08-4175-BED3-04AC340D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F50C-1678-445E-B508-51734270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BF41A-D0CB-4D09-89D7-F36529AA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0B556-F539-4235-A54B-174BE02D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E7F1E-C068-4018-9971-407CFC39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235C4-FB6F-4B6E-A21E-182FAD5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B0219-DE72-48E3-844F-3FF3C2F7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AA62F-BC19-4F92-BF2B-114C6561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104AE-B1CE-4FBE-A710-B1A0AE27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C85F8-D8FB-4094-9458-848DE445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73C7A-10A2-43DB-ABB5-BF4F4A8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19C90-C246-418C-A560-2B661BCE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9BF1-A068-4C85-AE56-84FBC6FABAF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081A-0242-493B-BB03-C07D0F2B156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560C-3FAF-47F0-8839-8F8238774EB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64EE-10AD-40FB-B707-1BE7256A6B9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6C83-FB5F-40D8-AA80-D18881E9A13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CEDC-E765-444A-B6F2-6D292C207A4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B3CA-E51F-4E82-A63C-662D0F3AD37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9CE-CBA7-4B8B-ACDD-98B0718EB42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26B1-DF4A-4F93-ABDB-5578DFEA7E0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BD0D-A23A-4B60-8CC7-58CEEC15F52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FA56-F941-4FD7-80CD-CB93A63B3AB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27D1-B335-4094-8B7B-309D92EB2C4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DC8-2F69-4008-9BA0-FC0F3CD60CF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russkoe-slovo.ru/catalog2005/images/Gogol_b.jpg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www.russkoe-slovo.ru/catalog2005/images/tolstojl_b.jpg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www.russkoe-slovo.ru/catalog2005/images/nabokov_b.jpg" TargetMode="External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353880" y="396720"/>
            <a:ext cx="8972640" cy="19083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Logotip_Rs3"/>
          <p:cNvPicPr/>
          <p:nvPr/>
        </p:nvPicPr>
        <p:blipFill>
          <a:blip r:embed="rId2"/>
          <a:stretch/>
        </p:blipFill>
        <p:spPr>
          <a:xfrm>
            <a:off x="3419640" y="2637000"/>
            <a:ext cx="2089080" cy="295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e5b6f"/>
            </a:outerShdw>
          </a:effectLst>
        </p:spPr>
      </p:pic>
      <p:sp>
        <p:nvSpPr>
          <p:cNvPr id="677" name="Скругленный прямоугольник 3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3"/>
          <p:cNvSpPr/>
          <p:nvPr/>
        </p:nvSpPr>
        <p:spPr>
          <a:xfrm rot="16200000">
            <a:off x="-1909800" y="2855880"/>
            <a:ext cx="55454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Элективные к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6516720" y="1844640"/>
            <a:ext cx="19429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6588000" y="1773360"/>
            <a:ext cx="19447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6" descr="drevrus copy"/>
          <p:cNvPicPr/>
          <p:nvPr/>
        </p:nvPicPr>
        <p:blipFill>
          <a:blip r:embed="rId1"/>
          <a:stretch/>
        </p:blipFill>
        <p:spPr>
          <a:xfrm>
            <a:off x="1692360" y="907920"/>
            <a:ext cx="3100320" cy="4608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  <p:pic>
        <p:nvPicPr>
          <p:cNvPr id="736" name="Picture 8" descr="10-2"/>
          <p:cNvPicPr/>
          <p:nvPr/>
        </p:nvPicPr>
        <p:blipFill>
          <a:blip r:embed="rId2"/>
          <a:stretch/>
        </p:blipFill>
        <p:spPr>
          <a:xfrm>
            <a:off x="5219640" y="836640"/>
            <a:ext cx="29084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66"/>
                </a:solidFill>
                <a:latin typeface="Times New Roman Cyr"/>
              </a:rPr>
              <a:t>Литература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38" name="Picture 3" descr="Obern_XIX"/>
          <p:cNvPicPr/>
          <p:nvPr/>
        </p:nvPicPr>
        <p:blipFill>
          <a:blip r:embed="rId1"/>
          <a:stretch/>
        </p:blipFill>
        <p:spPr>
          <a:xfrm>
            <a:off x="961920" y="1770120"/>
            <a:ext cx="3044880" cy="4525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  <p:pic>
        <p:nvPicPr>
          <p:cNvPr id="739" name="Picture 8" descr="Obern_XX"/>
          <p:cNvPicPr/>
          <p:nvPr/>
        </p:nvPicPr>
        <p:blipFill>
          <a:blip r:embed="rId2"/>
          <a:stretch/>
        </p:blipFill>
        <p:spPr>
          <a:xfrm>
            <a:off x="5148360" y="1197000"/>
            <a:ext cx="2144520" cy="3240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  <p:sp>
        <p:nvSpPr>
          <p:cNvPr id="740" name="Text Box 4"/>
          <p:cNvSpPr/>
          <p:nvPr/>
        </p:nvSpPr>
        <p:spPr>
          <a:xfrm rot="16200000">
            <a:off x="-1909800" y="2855880"/>
            <a:ext cx="55454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Элективные к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4859280" y="465300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 Cyr"/>
              </a:rPr>
              <a:t>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 Cyr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6516720" y="1844640"/>
            <a:ext cx="19429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6588000" y="1773360"/>
            <a:ext cx="19447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 rot="16200000">
            <a:off x="-1909800" y="2855880"/>
            <a:ext cx="55454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Элективные к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6516720" y="1844640"/>
            <a:ext cx="19429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6588000" y="1773360"/>
            <a:ext cx="19447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ови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48" name="Picture 9" descr="12-2"/>
          <p:cNvPicPr/>
          <p:nvPr/>
        </p:nvPicPr>
        <p:blipFill>
          <a:blip r:embed="rId1"/>
          <a:stretch/>
        </p:blipFill>
        <p:spPr>
          <a:xfrm>
            <a:off x="5435640" y="1557360"/>
            <a:ext cx="2962080" cy="42670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12-1"/>
          <p:cNvPicPr/>
          <p:nvPr/>
        </p:nvPicPr>
        <p:blipFill>
          <a:blip r:embed="rId2"/>
          <a:stretch/>
        </p:blipFill>
        <p:spPr>
          <a:xfrm>
            <a:off x="1857240" y="1557360"/>
            <a:ext cx="27147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«Кладезь знаний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51" name="Picture 6" descr="13-1"/>
          <p:cNvPicPr/>
          <p:nvPr/>
        </p:nvPicPr>
        <p:blipFill>
          <a:blip r:embed="rId1"/>
          <a:stretch/>
        </p:blipFill>
        <p:spPr>
          <a:xfrm>
            <a:off x="1042920" y="1773360"/>
            <a:ext cx="2800440" cy="42670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" descr="13-2"/>
          <p:cNvPicPr/>
          <p:nvPr/>
        </p:nvPicPr>
        <p:blipFill>
          <a:blip r:embed="rId2"/>
          <a:stretch/>
        </p:blipFill>
        <p:spPr>
          <a:xfrm>
            <a:off x="5292720" y="1700280"/>
            <a:ext cx="2733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8803"/>
                </a:solidFill>
                <a:latin typeface="Consolas"/>
              </a:rPr>
              <a:t>Путешествие в историю…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508428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b8803"/>
                </a:solidFill>
                <a:latin typeface="Corbel"/>
              </a:rPr>
              <a:t>Иеромонох Тихон (Полянский). Путешествие в историю русских монастырей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b8803"/>
                </a:solidFill>
                <a:latin typeface="Corbel"/>
              </a:rPr>
              <a:t>Зарин А.Е. Любимые местопребывания русских государей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eb8803"/>
                </a:solidFill>
                <a:latin typeface="Corbel"/>
              </a:rPr>
              <a:t>Рябцев Ю.С. Путешествие в историю старой русской жизн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55" name="Picture 8" descr="Obl"/>
          <p:cNvPicPr/>
          <p:nvPr/>
        </p:nvPicPr>
        <p:blipFill>
          <a:blip r:embed="rId1"/>
          <a:stretch/>
        </p:blipFill>
        <p:spPr>
          <a:xfrm>
            <a:off x="684360" y="1268280"/>
            <a:ext cx="2649240" cy="331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Obl_Zarin_Proba"/>
          <p:cNvPicPr/>
          <p:nvPr/>
        </p:nvPicPr>
        <p:blipFill>
          <a:blip r:embed="rId2"/>
          <a:stretch/>
        </p:blipFill>
        <p:spPr>
          <a:xfrm>
            <a:off x="3203640" y="1484280"/>
            <a:ext cx="2808360" cy="34560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0" descr="OBL_RYABCEV"/>
          <p:cNvPicPr/>
          <p:nvPr/>
        </p:nvPicPr>
        <p:blipFill>
          <a:blip r:embed="rId3"/>
          <a:stretch/>
        </p:blipFill>
        <p:spPr>
          <a:xfrm>
            <a:off x="5867280" y="1197000"/>
            <a:ext cx="2608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8803"/>
                </a:solidFill>
                <a:latin typeface="Consolas"/>
              </a:rPr>
              <a:t>Путешествие в историю…</a:t>
            </a:r>
            <a:br>
              <a:rPr sz="3600"/>
            </a:br>
            <a:r>
              <a:rPr b="1" lang="ru-RU" sz="3600" spc="-1" strike="noStrike">
                <a:solidFill>
                  <a:srgbClr val="eb8803"/>
                </a:solidFill>
                <a:latin typeface="Consolas"/>
              </a:rPr>
              <a:t>(Готовятся к выходу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2636640"/>
            <a:ext cx="403848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8803"/>
                </a:solidFill>
                <a:latin typeface="Corbel"/>
              </a:rPr>
              <a:t>Вартаньян Э.А. Путешествие в мир крылатых слов и выражений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8803"/>
                </a:solidFill>
                <a:latin typeface="Corbel"/>
              </a:rPr>
              <a:t>Новиков В.И. Путешествие в историю старых русских усадеб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468360" y="1125360"/>
            <a:ext cx="8229600" cy="23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Издательство подготовило к выпуску и выпустило плакаты по литературе «Выставка в школе»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539640" y="3284640"/>
            <a:ext cx="8229600" cy="20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- писатели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-й половины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XIX 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века;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- писатели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-й половины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XIX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 века; </a:t>
            </a:r>
            <a:br>
              <a:rPr sz="3600"/>
            </a:b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- писатели 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XX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 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Pushk"/>
          <p:cNvPicPr/>
          <p:nvPr/>
        </p:nvPicPr>
        <p:blipFill>
          <a:blip r:embed="rId1"/>
          <a:stretch/>
        </p:blipFill>
        <p:spPr>
          <a:xfrm>
            <a:off x="246240" y="542880"/>
            <a:ext cx="8650080" cy="57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Sholoh"/>
          <p:cNvPicPr/>
          <p:nvPr/>
        </p:nvPicPr>
        <p:blipFill>
          <a:blip r:embed="rId1"/>
          <a:stretch/>
        </p:blipFill>
        <p:spPr>
          <a:xfrm>
            <a:off x="250920" y="54756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28600" y="714240"/>
            <a:ext cx="3384360" cy="1500480"/>
          </a:xfrm>
          <a:prstGeom prst="rect">
            <a:avLst/>
          </a:prstGeom>
          <a:noFill/>
          <a:ln w="9360">
            <a:solidFill>
              <a:srgbClr val="fed46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ed46c"/>
                </a:solidFill>
                <a:latin typeface="Consolas"/>
              </a:rPr>
              <a:t>Наглядные пособия </a:t>
            </a:r>
            <a:br>
              <a:rPr sz="2900"/>
            </a:br>
            <a:r>
              <a:rPr b="1" lang="ru-RU" sz="2900" spc="-1" strike="noStrike">
                <a:solidFill>
                  <a:srgbClr val="fed46c"/>
                </a:solidFill>
                <a:latin typeface="Consolas"/>
              </a:rPr>
              <a:t>по литературе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928520" y="2357280"/>
            <a:ext cx="514332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Виноградова Е.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Учебно-наглядное пособие по литературе  (5-9 классы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Corbel"/>
              </a:rPr>
              <a:t>      </a:t>
            </a:r>
            <a:r>
              <a:rPr b="1" lang="ru-RU" sz="2400" spc="-1" strike="noStrike">
                <a:solidFill>
                  <a:srgbClr val="ccff33"/>
                </a:solidFill>
                <a:latin typeface="Corbel"/>
              </a:rPr>
              <a:t>12</a:t>
            </a: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 таблиц ,  формат </a:t>
            </a:r>
            <a:r>
              <a:rPr b="1" lang="ru-RU" sz="2400" spc="-1" strike="noStrike">
                <a:solidFill>
                  <a:srgbClr val="ccff33"/>
                </a:solidFill>
                <a:latin typeface="Corbel"/>
              </a:rPr>
              <a:t>70</a:t>
            </a: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х</a:t>
            </a:r>
            <a:r>
              <a:rPr b="1" lang="ru-RU" sz="2400" spc="-1" strike="noStrike">
                <a:solidFill>
                  <a:srgbClr val="ccff33"/>
                </a:solidFill>
                <a:latin typeface="Corbel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Методическое пособие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67" name="Picture 4" descr="picture"/>
          <p:cNvPicPr/>
          <p:nvPr/>
        </p:nvPicPr>
        <p:blipFill>
          <a:blip r:embed="rId1"/>
          <a:stretch/>
        </p:blipFill>
        <p:spPr>
          <a:xfrm>
            <a:off x="3708360" y="189000"/>
            <a:ext cx="4967280" cy="6524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15" descr="2-5"/>
          <p:cNvPicPr/>
          <p:nvPr/>
        </p:nvPicPr>
        <p:blipFill>
          <a:blip r:embed="rId1"/>
          <a:stretch/>
        </p:blipFill>
        <p:spPr>
          <a:xfrm>
            <a:off x="6443640" y="1989000"/>
            <a:ext cx="1633680" cy="21891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2" descr="2-2"/>
          <p:cNvPicPr/>
          <p:nvPr/>
        </p:nvPicPr>
        <p:blipFill>
          <a:blip r:embed="rId2"/>
          <a:stretch/>
        </p:blipFill>
        <p:spPr>
          <a:xfrm>
            <a:off x="1908000" y="1773360"/>
            <a:ext cx="1652760" cy="21891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2"/>
          <p:cNvSpPr/>
          <p:nvPr/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imes New Roman"/>
              </a:rPr>
              <a:t>Русский язы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0" y="76500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учебники для  5 - 9 классов  под. ред. М.В. Пан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997200" y="1341360"/>
            <a:ext cx="71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Corbel"/>
              </a:rPr>
              <a:t>Рекомендовано Министерством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Picture 11" descr="2-1"/>
          <p:cNvPicPr/>
          <p:nvPr/>
        </p:nvPicPr>
        <p:blipFill>
          <a:blip r:embed="rId3"/>
          <a:stretch/>
        </p:blipFill>
        <p:spPr>
          <a:xfrm>
            <a:off x="611280" y="3716280"/>
            <a:ext cx="1530360" cy="2230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3" descr="2-3"/>
          <p:cNvPicPr/>
          <p:nvPr/>
        </p:nvPicPr>
        <p:blipFill>
          <a:blip r:embed="rId4"/>
          <a:stretch/>
        </p:blipFill>
        <p:spPr>
          <a:xfrm>
            <a:off x="3743280" y="2852640"/>
            <a:ext cx="1657440" cy="21891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4" descr="2-4"/>
          <p:cNvPicPr/>
          <p:nvPr/>
        </p:nvPicPr>
        <p:blipFill>
          <a:blip r:embed="rId5"/>
          <a:stretch/>
        </p:blipFill>
        <p:spPr>
          <a:xfrm>
            <a:off x="5435640" y="4076640"/>
            <a:ext cx="16635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ff33"/>
                </a:solidFill>
                <a:latin typeface="Consolas"/>
              </a:rPr>
              <a:t>Виноградова Е.А. Учебно-наглядное пособие по литературе. 5-9 классы. </a:t>
            </a:r>
            <a:br>
              <a:rPr sz="2500"/>
            </a:br>
            <a:r>
              <a:rPr b="1" lang="ru-RU" sz="2500" spc="-1" strike="noStrike">
                <a:solidFill>
                  <a:srgbClr val="ccff33"/>
                </a:solidFill>
                <a:latin typeface="Consolas"/>
              </a:rPr>
              <a:t>12 таблиц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1186920" y="191628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Художественная литература как искусство слов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Мифы и сказочный эпос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Устное народное творчество ( фольклор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Литературные роды и жанры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Проза и поэзия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Стихосложение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Форма художественного произведения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Язык художественного произведения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Портрет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Интерьер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Пейзаж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Литературные направления </a:t>
            </a:r>
            <a:r>
              <a:rPr b="1" lang="en-US" sz="2000" spc="-1" strike="noStrike">
                <a:solidFill>
                  <a:srgbClr val="ccff33"/>
                </a:solidFill>
                <a:latin typeface="Corbel"/>
              </a:rPr>
              <a:t>XVII-XX</a:t>
            </a:r>
            <a:r>
              <a:rPr b="1" lang="ru-RU" sz="2000" spc="-1" strike="noStrike">
                <a:solidFill>
                  <a:srgbClr val="ccff33"/>
                </a:solidFill>
                <a:latin typeface="Corbel"/>
              </a:rPr>
              <a:t>вв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611280" y="5475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33"/>
                </a:solidFill>
                <a:latin typeface="Arial"/>
              </a:rPr>
              <a:t>Наглядные пособия </a:t>
            </a:r>
            <a:br>
              <a:rPr sz="2400"/>
            </a:br>
            <a:r>
              <a:rPr b="1" lang="ru-RU" sz="2400" spc="-1" strike="noStrike">
                <a:solidFill>
                  <a:srgbClr val="ccff33"/>
                </a:solidFill>
                <a:latin typeface="Arial"/>
              </a:rPr>
              <a:t>по литерату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684360" y="2205000"/>
            <a:ext cx="28080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иноградо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Учебно-наглядное пособие по литературе. 10-11 классы. 10 таб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Формат 70х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Методическое пособ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eb880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2" name="Picture 4" descr="4ф"/>
          <p:cNvPicPr/>
          <p:nvPr/>
        </p:nvPicPr>
        <p:blipFill>
          <a:blip r:embed="rId1"/>
          <a:stretch/>
        </p:blipFill>
        <p:spPr>
          <a:xfrm>
            <a:off x="3635280" y="189000"/>
            <a:ext cx="5184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ff33"/>
                </a:solidFill>
                <a:latin typeface="Consolas"/>
              </a:rPr>
              <a:t>Виноградова Е.А. Учебно-наглядное пособие по литературе. 10-11 классы. </a:t>
            </a:r>
            <a:br>
              <a:rPr sz="2500"/>
            </a:br>
            <a:r>
              <a:rPr b="1" lang="ru-RU" sz="2500" spc="-1" strike="noStrike">
                <a:solidFill>
                  <a:srgbClr val="ccff33"/>
                </a:solidFill>
                <a:latin typeface="Consolas"/>
              </a:rPr>
              <a:t>10 таблиц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468360" y="191628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Художественное произведение как целое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Система образов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Образ автора и авторская позиция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Художественное произведение: содержание и форм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Пафос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Трагическое и комическое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Анализ лирического произведения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Художественное пространство и время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Литературные направления конца </a:t>
            </a:r>
            <a:r>
              <a:rPr b="1" lang="en-US" sz="2200" spc="-1" strike="noStrike">
                <a:solidFill>
                  <a:srgbClr val="ccff33"/>
                </a:solidFill>
                <a:latin typeface="Corbel"/>
              </a:rPr>
              <a:t>XIX-</a:t>
            </a: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 начала </a:t>
            </a:r>
            <a:r>
              <a:rPr b="1" lang="en-US" sz="2200" spc="-1" strike="noStrike">
                <a:solidFill>
                  <a:srgbClr val="ccff33"/>
                </a:solidFill>
                <a:latin typeface="Corbel"/>
              </a:rPr>
              <a:t>XXI </a:t>
            </a: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в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ff33"/>
                </a:solidFill>
                <a:latin typeface="Corbel"/>
              </a:rPr>
              <a:t>Историко- литературный процесс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578880" indent="-578880">
              <a:lnSpc>
                <a:spcPct val="6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b8803"/>
                </a:solidFill>
                <a:latin typeface="Consolas"/>
              </a:rPr>
              <a:t>В помощь школе</a:t>
            </a:r>
            <a:r>
              <a:rPr b="1" lang="en-US" sz="3600" spc="-1" strike="noStrike">
                <a:solidFill>
                  <a:srgbClr val="eb8803"/>
                </a:solidFill>
                <a:latin typeface="Consolas"/>
              </a:rPr>
              <a:t> </a:t>
            </a:r>
            <a:r>
              <a:rPr b="1" lang="ru-RU" sz="3600" spc="-1" strike="noStrike">
                <a:solidFill>
                  <a:srgbClr val="eb8803"/>
                </a:solidFill>
                <a:latin typeface="Consolas"/>
              </a:rPr>
              <a:t>(Писатель в жизни и творчестве)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39704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Коровин В.И. «А.С. Пушкин в жизни и творчестве». К 210-летию со дня рождения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Капитанова Л.А. </a:t>
            </a:r>
            <a:br>
              <a:rPr sz="1600"/>
            </a:b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Н.В. Гоголь в жизни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    </a:t>
            </a: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и творчестве. К 200-летию со дня рождени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Капитанова Л.А. </a:t>
            </a:r>
            <a:br>
              <a:rPr sz="1600"/>
            </a:b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Л.Н. Толстой в жизни и творчестве. К 180-летию со дня рождения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Целкова Л.Н. </a:t>
            </a:r>
            <a:br>
              <a:rPr sz="1600"/>
            </a:b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В.В. Набоков в жизни и творчестве. К 110-летию со дня ро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77" name="Picture 4" descr="Просмотреть обложку книг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205000"/>
            <a:ext cx="1577880" cy="1976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5" descr="Просмотреть обложку книг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3716280"/>
            <a:ext cx="1501920" cy="21211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" descr="Просмотреть обложку книг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87640" y="2781360"/>
            <a:ext cx="1584360" cy="20890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pushinl"/>
          <p:cNvPicPr/>
          <p:nvPr/>
        </p:nvPicPr>
        <p:blipFill>
          <a:blip r:embed="rId7"/>
          <a:stretch/>
        </p:blipFill>
        <p:spPr>
          <a:xfrm>
            <a:off x="2124000" y="1486080"/>
            <a:ext cx="1386000" cy="1942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b8803"/>
                </a:solidFill>
                <a:latin typeface="Consolas"/>
              </a:rPr>
              <a:t>В помощь школе</a:t>
            </a:r>
            <a:r>
              <a:rPr b="1" lang="en-US" sz="2900" spc="-1" strike="noStrike">
                <a:solidFill>
                  <a:srgbClr val="eb8803"/>
                </a:solidFill>
                <a:latin typeface="Consolas"/>
              </a:rPr>
              <a:t> </a:t>
            </a:r>
            <a:br>
              <a:rPr sz="2900"/>
            </a:br>
            <a:r>
              <a:rPr b="1" lang="ru-RU" sz="2900" spc="-1" strike="noStrike">
                <a:solidFill>
                  <a:srgbClr val="eb8803"/>
                </a:solidFill>
                <a:latin typeface="Consolas"/>
              </a:rPr>
              <a:t>(Писатель в жизни и творчестве)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68360" y="134100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Кузина Л.Н. «Ф.И. Тютчев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Якушин Н.И. «Ф.М. Достоевский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Якушин Н.И «И.С. Тургенев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Капитанова Л.Н. «Н.С. Лесков в жизни и творчестве»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Спиридонова Л.А. «М.Горький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3" name="Picture 7" descr="dostoev"/>
          <p:cNvPicPr/>
          <p:nvPr/>
        </p:nvPicPr>
        <p:blipFill>
          <a:blip r:embed="rId1"/>
          <a:stretch/>
        </p:blipFill>
        <p:spPr>
          <a:xfrm>
            <a:off x="5148360" y="1557360"/>
            <a:ext cx="3057480" cy="4495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eb8803"/>
                </a:solidFill>
                <a:latin typeface="Consolas"/>
              </a:rPr>
              <a:t>В помощь школе</a:t>
            </a:r>
            <a:r>
              <a:rPr b="1" lang="en-US" sz="2900" spc="-1" strike="noStrike">
                <a:solidFill>
                  <a:srgbClr val="eb8803"/>
                </a:solidFill>
                <a:latin typeface="Consolas"/>
              </a:rPr>
              <a:t> </a:t>
            </a:r>
            <a:br>
              <a:rPr sz="2900"/>
            </a:br>
            <a:r>
              <a:rPr b="1" lang="ru-RU" sz="2900" spc="-1" strike="noStrike">
                <a:solidFill>
                  <a:srgbClr val="eb8803"/>
                </a:solidFill>
                <a:latin typeface="Consolas"/>
              </a:rPr>
              <a:t>(Писатель в жизни и творчестве)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68360" y="134100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642920" y="12679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Капитанова Л.Н. «А.П. Чехов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Шубникова-Гусева Н.И. «С.А.Есенин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Чалмаев В.А. «М.А. Шолохов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Сахаров В.И. «М.А. Булгаков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Целкова Л.Н. «В.В. Набоков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b8803"/>
                </a:solidFill>
                <a:latin typeface="Corbel"/>
              </a:rPr>
              <a:t>Стрелкова И.И. «В.Астафьев, В. Белов, В.Распутин, В. Шукшин в жизни и творчестве»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7" name="Picture 5" descr="derev"/>
          <p:cNvPicPr/>
          <p:nvPr/>
        </p:nvPicPr>
        <p:blipFill>
          <a:blip r:embed="rId1"/>
          <a:stretch/>
        </p:blipFill>
        <p:spPr>
          <a:xfrm>
            <a:off x="1116000" y="1628640"/>
            <a:ext cx="2951280" cy="388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eb8803"/>
                </a:solidFill>
                <a:latin typeface="Consolas"/>
              </a:rPr>
              <a:t>В помощь школе</a:t>
            </a:r>
            <a:r>
              <a:rPr b="1" lang="en-US" sz="2900" spc="-1" strike="noStrike">
                <a:solidFill>
                  <a:srgbClr val="eb8803"/>
                </a:solidFill>
                <a:latin typeface="Consolas"/>
              </a:rPr>
              <a:t> </a:t>
            </a:r>
            <a:br>
              <a:rPr sz="2900"/>
            </a:br>
            <a:r>
              <a:rPr b="1" lang="ru-RU" sz="2900" spc="-1" strike="noStrike">
                <a:solidFill>
                  <a:srgbClr val="eb8803"/>
                </a:solidFill>
                <a:latin typeface="Consolas"/>
              </a:rPr>
              <a:t>(Писатель в жизни и творчестве)</a:t>
            </a:r>
            <a:br>
              <a:rPr sz="2900"/>
            </a:br>
            <a:r>
              <a:rPr b="1" lang="ru-RU" sz="3600" spc="-1" strike="noStrike">
                <a:solidFill>
                  <a:srgbClr val="eb8803"/>
                </a:solidFill>
                <a:latin typeface="Consolas"/>
              </a:rPr>
              <a:t>Новин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89" name="Picture 7" descr="28-1"/>
          <p:cNvPicPr/>
          <p:nvPr/>
        </p:nvPicPr>
        <p:blipFill>
          <a:blip r:embed="rId1"/>
          <a:stretch/>
        </p:blipFill>
        <p:spPr>
          <a:xfrm>
            <a:off x="250920" y="2060640"/>
            <a:ext cx="2838240" cy="42670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8" descr="28-2"/>
          <p:cNvPicPr/>
          <p:nvPr/>
        </p:nvPicPr>
        <p:blipFill>
          <a:blip r:embed="rId2"/>
          <a:stretch/>
        </p:blipFill>
        <p:spPr>
          <a:xfrm>
            <a:off x="3564000" y="2133720"/>
            <a:ext cx="3019320" cy="42670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9" descr="28-3"/>
          <p:cNvPicPr/>
          <p:nvPr/>
        </p:nvPicPr>
        <p:blipFill>
          <a:blip r:embed="rId3"/>
          <a:stretch/>
        </p:blipFill>
        <p:spPr>
          <a:xfrm>
            <a:off x="7020000" y="189000"/>
            <a:ext cx="1530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8803"/>
                </a:solidFill>
                <a:latin typeface="Consolas"/>
              </a:rPr>
              <a:t>Н.В.Гоголь. Портрет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В соответствии с указом  Президента Российской Федерации В.В. Путина «О праздновании 200-летия со дня рождения Н.В. Гоголя» (Москва, Кремль. 16 апреля 2007 года № 491) издательство «Русское слово» подготовило подарочное издание повести Н.В. Гоголя «Портрет», с цветными иллюстрациями, выполненными известным художником-иллюстратором С. Гонковым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95" name="Picture 7" descr="Портрет"/>
          <p:cNvPicPr/>
          <p:nvPr/>
        </p:nvPicPr>
        <p:blipFill>
          <a:blip r:embed="rId1"/>
          <a:stretch/>
        </p:blipFill>
        <p:spPr>
          <a:xfrm>
            <a:off x="468360" y="1557360"/>
            <a:ext cx="403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8803"/>
                </a:solidFill>
                <a:latin typeface="Consolas"/>
              </a:rPr>
              <a:t>Иллюстрац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97" name="Picture 7" descr="Portret_55"/>
          <p:cNvPicPr/>
          <p:nvPr/>
        </p:nvPicPr>
        <p:blipFill>
          <a:blip r:embed="rId1"/>
          <a:stretch/>
        </p:blipFill>
        <p:spPr>
          <a:xfrm>
            <a:off x="611280" y="1628640"/>
            <a:ext cx="3527280" cy="46818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8" descr="Portret_49"/>
          <p:cNvPicPr/>
          <p:nvPr/>
        </p:nvPicPr>
        <p:blipFill>
          <a:blip r:embed="rId2"/>
          <a:stretch/>
        </p:blipFill>
        <p:spPr>
          <a:xfrm>
            <a:off x="4788000" y="1628640"/>
            <a:ext cx="36669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8803"/>
                </a:solidFill>
                <a:latin typeface="Consolas"/>
              </a:rPr>
              <a:t>Готовятся к выход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Ужанков А.Н. «Слово о полку Игореве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Михайлов О.Н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   </a:t>
            </a: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«И.А. Бунин в жизни и творчестве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Комлик Н.Н. «Е.А.Замятин в жизни и творчестве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211640" y="1412640"/>
            <a:ext cx="5184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Дядичев В.Н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   </a:t>
            </a: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«М.И. Цветаева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   </a:t>
            </a: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в жизни и творчестве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8803"/>
                </a:solidFill>
                <a:latin typeface="Corbel"/>
              </a:rPr>
              <a:t>Ермолаева Н.Л. «А.Т.Твардовский в жизни и творчестве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5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ольцова Н.Г., Шамшин И.В.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Русский язык 10-11 кл.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687" name="Group 3"/>
          <p:cNvGrpSpPr/>
          <p:nvPr/>
        </p:nvGrpSpPr>
        <p:grpSpPr>
          <a:xfrm>
            <a:off x="684360" y="1557360"/>
            <a:ext cx="7488000" cy="4968720"/>
            <a:chOff x="684360" y="1557360"/>
            <a:chExt cx="7488000" cy="4968720"/>
          </a:xfrm>
        </p:grpSpPr>
        <p:sp>
          <p:nvSpPr>
            <p:cNvPr id="688" name="AutoShape 4"/>
            <p:cNvSpPr/>
            <p:nvPr/>
          </p:nvSpPr>
          <p:spPr>
            <a:xfrm>
              <a:off x="684360" y="1557360"/>
              <a:ext cx="7416720" cy="49687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761800"/>
                </a:gs>
                <a:gs pos="50000">
                  <a:srgbClr val="ff3300"/>
                </a:gs>
                <a:gs pos="100000">
                  <a:srgbClr val="761800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5"/>
            <p:cNvSpPr/>
            <p:nvPr/>
          </p:nvSpPr>
          <p:spPr>
            <a:xfrm>
              <a:off x="1116000" y="2492280"/>
              <a:ext cx="7056360" cy="31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66"/>
                  </a:solidFill>
                  <a:latin typeface="Times New Roman"/>
                </a:rPr>
                <a:t>стал лауреатом преми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66"/>
                  </a:solidFill>
                  <a:latin typeface="Times New Roman"/>
                </a:rPr>
                <a:t>Правительства Российской Федерации</a:t>
              </a:r>
              <a:br>
                <a:rPr sz="3600"/>
              </a:br>
              <a:r>
                <a:rPr b="0" lang="ru-RU" sz="3600" spc="-1" strike="noStrike">
                  <a:solidFill>
                    <a:srgbClr val="ffff66"/>
                  </a:solidFill>
                  <a:latin typeface="Times New Roman"/>
                </a:rPr>
                <a:t> в области образования</a:t>
              </a:r>
              <a:br>
                <a:rPr sz="3600"/>
              </a:b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8803"/>
                </a:solidFill>
                <a:latin typeface="Times New Roman"/>
              </a:rPr>
              <a:t>За дополнительной информацией, с вопросами и предложениями вы можете обращаться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125009, Москва,</a:t>
            </a:r>
            <a:br>
              <a:rPr sz="2000"/>
            </a:b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 ул. Тверская, д. 9/17, стр. 5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Редакция: (495) </a:t>
            </a:r>
            <a:r>
              <a:rPr b="1" lang="en-US" sz="2000" spc="-1" strike="noStrike">
                <a:solidFill>
                  <a:srgbClr val="eb8803"/>
                </a:solidFill>
                <a:latin typeface="Corbel"/>
              </a:rPr>
              <a:t>969-24-54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Информационно-методический и коммерческий отделы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(495) 650-30-12, 650-31-63, 650-29-27, 694-60-2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Отдел реализации и склад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eb8803"/>
                </a:solidFill>
                <a:latin typeface="Corbel"/>
              </a:rPr>
              <a:t>(495) 345-76-70, 358-80-74, 661-54-8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rbel"/>
              </a:rPr>
              <a:t>E-mail:</a:t>
            </a:r>
            <a:r>
              <a:rPr b="0" lang="en-US" sz="2000" spc="-1" strike="noStrike">
                <a:solidFill>
                  <a:srgbClr val="eb8803"/>
                </a:solidFill>
                <a:latin typeface="Corbel"/>
              </a:rPr>
              <a:t> </a:t>
            </a:r>
            <a:r>
              <a:rPr b="1" lang="en-US" sz="2000" spc="-1" strike="noStrike" u="sng">
                <a:solidFill>
                  <a:srgbClr val="eb8803"/>
                </a:solidFill>
                <a:uFillTx/>
                <a:latin typeface="Corbel"/>
              </a:rPr>
              <a:t>russlo@mail.ru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rbel"/>
              </a:rPr>
              <a:t>http://www.russkoe-slovo.ru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AutoShape 2"/>
          <p:cNvSpPr/>
          <p:nvPr/>
        </p:nvSpPr>
        <p:spPr>
          <a:xfrm>
            <a:off x="971640" y="189000"/>
            <a:ext cx="7272360" cy="1008000"/>
          </a:xfrm>
          <a:prstGeom prst="flowChartTerminator">
            <a:avLst/>
          </a:prstGeom>
          <a:solidFill>
            <a:srgbClr val="33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3" descr="GOLSHA REK copy"/>
          <p:cNvPicPr/>
          <p:nvPr/>
        </p:nvPicPr>
        <p:blipFill>
          <a:blip r:embed="rId1"/>
          <a:stretch/>
        </p:blipFill>
        <p:spPr>
          <a:xfrm>
            <a:off x="5508720" y="1773360"/>
            <a:ext cx="1635120" cy="2305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93" name="Picture 8" descr="gol10tes"/>
          <p:cNvPicPr/>
          <p:nvPr/>
        </p:nvPicPr>
        <p:blipFill>
          <a:blip r:embed="rId2"/>
          <a:stretch/>
        </p:blipFill>
        <p:spPr>
          <a:xfrm>
            <a:off x="6500880" y="4429080"/>
            <a:ext cx="1533600" cy="2189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4" name="Picture 6" descr="golc1011"/>
          <p:cNvPicPr/>
          <p:nvPr/>
        </p:nvPicPr>
        <p:blipFill>
          <a:blip r:embed="rId3"/>
          <a:stretch/>
        </p:blipFill>
        <p:spPr>
          <a:xfrm>
            <a:off x="7358040" y="1857240"/>
            <a:ext cx="1503360" cy="2376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95" name="Rectangle 5"/>
          <p:cNvSpPr/>
          <p:nvPr/>
        </p:nvSpPr>
        <p:spPr>
          <a:xfrm>
            <a:off x="521964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Picture 7" descr="golcpr"/>
          <p:cNvPicPr/>
          <p:nvPr/>
        </p:nvPicPr>
        <p:blipFill>
          <a:blip r:embed="rId4"/>
          <a:stretch/>
        </p:blipFill>
        <p:spPr>
          <a:xfrm>
            <a:off x="3492360" y="2060640"/>
            <a:ext cx="1739880" cy="2590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7" name="Picture 9" descr="rjz1011"/>
          <p:cNvPicPr/>
          <p:nvPr/>
        </p:nvPicPr>
        <p:blipFill>
          <a:blip r:embed="rId5"/>
          <a:stretch/>
        </p:blipFill>
        <p:spPr>
          <a:xfrm>
            <a:off x="684360" y="2133720"/>
            <a:ext cx="2454120" cy="3744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98" name="Rectangle 10"/>
          <p:cNvSpPr/>
          <p:nvPr/>
        </p:nvSpPr>
        <p:spPr>
          <a:xfrm>
            <a:off x="468360" y="18900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Русский язык 10-11 клас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11" descr="rusgmpp"/>
          <p:cNvPicPr/>
          <p:nvPr/>
        </p:nvPicPr>
        <p:blipFill>
          <a:blip r:embed="rId6"/>
          <a:stretch/>
        </p:blipFill>
        <p:spPr>
          <a:xfrm>
            <a:off x="4500720" y="4270320"/>
            <a:ext cx="1765080" cy="2587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0" name="Rectangle 12"/>
          <p:cNvSpPr/>
          <p:nvPr/>
        </p:nvSpPr>
        <p:spPr>
          <a:xfrm>
            <a:off x="1213200" y="1268280"/>
            <a:ext cx="71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Corbel"/>
              </a:rPr>
              <a:t>Рекомендовано Министерством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1" descr="5-8"/>
          <p:cNvPicPr/>
          <p:nvPr/>
        </p:nvPicPr>
        <p:blipFill>
          <a:blip r:embed="rId1"/>
          <a:stretch/>
        </p:blipFill>
        <p:spPr>
          <a:xfrm>
            <a:off x="6659640" y="4005360"/>
            <a:ext cx="1298520" cy="20174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9" descr="5-6"/>
          <p:cNvPicPr/>
          <p:nvPr/>
        </p:nvPicPr>
        <p:blipFill>
          <a:blip r:embed="rId2"/>
          <a:stretch/>
        </p:blipFill>
        <p:spPr>
          <a:xfrm>
            <a:off x="4427640" y="4221000"/>
            <a:ext cx="1305000" cy="2084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7" descr="5-4"/>
          <p:cNvPicPr/>
          <p:nvPr/>
        </p:nvPicPr>
        <p:blipFill>
          <a:blip r:embed="rId3"/>
          <a:stretch/>
        </p:blipFill>
        <p:spPr>
          <a:xfrm>
            <a:off x="2411280" y="3284640"/>
            <a:ext cx="1305000" cy="21891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5" descr="5-2"/>
          <p:cNvPicPr/>
          <p:nvPr/>
        </p:nvPicPr>
        <p:blipFill>
          <a:blip r:embed="rId4"/>
          <a:stretch/>
        </p:blipFill>
        <p:spPr>
          <a:xfrm>
            <a:off x="684360" y="4005360"/>
            <a:ext cx="1427040" cy="218916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11"/>
          <p:cNvSpPr/>
          <p:nvPr/>
        </p:nvSpPr>
        <p:spPr>
          <a:xfrm>
            <a:off x="395280" y="115920"/>
            <a:ext cx="8229600" cy="144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33"/>
                </a:solidFill>
                <a:latin typeface="Times New Roman"/>
              </a:rPr>
              <a:t>Литература. 5-8 клас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971640" y="1341360"/>
            <a:ext cx="67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Рекомендовано Министерством образования и науки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14" descr="5-1"/>
          <p:cNvPicPr/>
          <p:nvPr/>
        </p:nvPicPr>
        <p:blipFill>
          <a:blip r:embed="rId5"/>
          <a:stretch/>
        </p:blipFill>
        <p:spPr>
          <a:xfrm>
            <a:off x="324000" y="2333520"/>
            <a:ext cx="1395360" cy="2189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" descr="5-3"/>
          <p:cNvPicPr/>
          <p:nvPr/>
        </p:nvPicPr>
        <p:blipFill>
          <a:blip r:embed="rId6"/>
          <a:stretch/>
        </p:blipFill>
        <p:spPr>
          <a:xfrm>
            <a:off x="2916360" y="2333520"/>
            <a:ext cx="1304640" cy="21891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8" descr="5-5"/>
          <p:cNvPicPr/>
          <p:nvPr/>
        </p:nvPicPr>
        <p:blipFill>
          <a:blip r:embed="rId7"/>
          <a:stretch/>
        </p:blipFill>
        <p:spPr>
          <a:xfrm>
            <a:off x="4859280" y="2565360"/>
            <a:ext cx="1292400" cy="2084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0" descr="5-7"/>
          <p:cNvPicPr/>
          <p:nvPr/>
        </p:nvPicPr>
        <p:blipFill>
          <a:blip r:embed="rId8"/>
          <a:stretch/>
        </p:blipFill>
        <p:spPr>
          <a:xfrm>
            <a:off x="6372360" y="2133720"/>
            <a:ext cx="1292040" cy="20174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2" descr="5-9"/>
          <p:cNvPicPr/>
          <p:nvPr/>
        </p:nvPicPr>
        <p:blipFill>
          <a:blip r:embed="rId9"/>
          <a:stretch/>
        </p:blipFill>
        <p:spPr>
          <a:xfrm>
            <a:off x="7596360" y="2852640"/>
            <a:ext cx="136512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e5b6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Учебники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В.И. Сахарова, В.А. Чалмаева и С.А. Зинина по литературе для 10, 11 классов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AutoShape 3"/>
          <p:cNvSpPr/>
          <p:nvPr/>
        </p:nvSpPr>
        <p:spPr>
          <a:xfrm>
            <a:off x="684360" y="1341360"/>
            <a:ext cx="7416720" cy="4969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1116000" y="2276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стали лауреатом премии</a:t>
            </a:r>
            <a:br>
              <a:rPr sz="3600"/>
            </a:b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«Лучшие книги и издательства»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в номинации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«учебники год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2771640" y="580536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Национальная премия Русского биографического института и Российской Государственной библиотеки (РГБ – бывшей им. Ленина в Москв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42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2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33"/>
                </a:solidFill>
                <a:latin typeface="Times New Roman"/>
              </a:rPr>
              <a:t>Литература. 9-11 классы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ccff33"/>
                </a:solidFill>
                <a:latin typeface="Consolas"/>
              </a:rPr>
              <a:t>Рекомендовано Министерством </a:t>
            </a:r>
            <a:br>
              <a:rPr sz="2200"/>
            </a:br>
            <a:r>
              <a:rPr b="1" lang="ru-RU" sz="2200" spc="-1" strike="noStrike">
                <a:solidFill>
                  <a:srgbClr val="ccff33"/>
                </a:solidFill>
                <a:latin typeface="Consolas"/>
              </a:rPr>
              <a:t>образования и науки РФ</a:t>
            </a:r>
            <a:r>
              <a:rPr b="1" lang="ru-RU" sz="4300" spc="-1" strike="noStrike">
                <a:solidFill>
                  <a:srgbClr val="ccff33"/>
                </a:solidFill>
                <a:latin typeface="Consolas"/>
              </a:rPr>
              <a:t> 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17" name="Picture 3" descr="shzin101"/>
          <p:cNvPicPr/>
          <p:nvPr/>
        </p:nvPicPr>
        <p:blipFill>
          <a:blip r:embed="rId1"/>
          <a:stretch/>
        </p:blipFill>
        <p:spPr>
          <a:xfrm>
            <a:off x="2987640" y="3429000"/>
            <a:ext cx="177660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5b6f">
                <a:alpha val="50000"/>
              </a:srgbClr>
            </a:outerShdw>
          </a:effectLst>
        </p:spPr>
      </p:pic>
      <p:pic>
        <p:nvPicPr>
          <p:cNvPr id="718" name="Picture 4" descr="shzin102"/>
          <p:cNvPicPr/>
          <p:nvPr/>
        </p:nvPicPr>
        <p:blipFill>
          <a:blip r:embed="rId2"/>
          <a:stretch/>
        </p:blipFill>
        <p:spPr>
          <a:xfrm>
            <a:off x="3995640" y="2637000"/>
            <a:ext cx="1800360" cy="252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5b6f">
                <a:alpha val="50000"/>
              </a:srgbClr>
            </a:outerShdw>
          </a:effectLst>
        </p:spPr>
      </p:pic>
      <p:pic>
        <p:nvPicPr>
          <p:cNvPr id="719" name="Picture 5" descr="Lit_11_1 copy"/>
          <p:cNvPicPr/>
          <p:nvPr/>
        </p:nvPicPr>
        <p:blipFill>
          <a:blip r:embed="rId3"/>
          <a:stretch/>
        </p:blipFill>
        <p:spPr>
          <a:xfrm>
            <a:off x="5796000" y="3284640"/>
            <a:ext cx="180036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5b6f">
                <a:alpha val="50000"/>
              </a:srgbClr>
            </a:outerShdw>
          </a:effectLst>
        </p:spPr>
      </p:pic>
      <p:pic>
        <p:nvPicPr>
          <p:cNvPr id="720" name="Picture 6" descr="Lit_11_2 copy"/>
          <p:cNvPicPr/>
          <p:nvPr/>
        </p:nvPicPr>
        <p:blipFill>
          <a:blip r:embed="rId4"/>
          <a:stretch/>
        </p:blipFill>
        <p:spPr>
          <a:xfrm>
            <a:off x="6877080" y="2708280"/>
            <a:ext cx="1922400" cy="2592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5b6f">
                <a:alpha val="50000"/>
              </a:srgbClr>
            </a:outerShdw>
          </a:effectLst>
        </p:spPr>
      </p:pic>
      <p:pic>
        <p:nvPicPr>
          <p:cNvPr id="721" name="Picture 7" descr="lit9uch copy"/>
          <p:cNvPicPr/>
          <p:nvPr/>
        </p:nvPicPr>
        <p:blipFill>
          <a:blip r:embed="rId5"/>
          <a:stretch/>
        </p:blipFill>
        <p:spPr>
          <a:xfrm>
            <a:off x="684360" y="2349360"/>
            <a:ext cx="1514160" cy="2230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  <p:pic>
        <p:nvPicPr>
          <p:cNvPr id="722" name="Picture 8" descr="lit9uch2 copy"/>
          <p:cNvPicPr/>
          <p:nvPr/>
        </p:nvPicPr>
        <p:blipFill>
          <a:blip r:embed="rId6"/>
          <a:stretch/>
        </p:blipFill>
        <p:spPr>
          <a:xfrm>
            <a:off x="1476360" y="2924280"/>
            <a:ext cx="1539720" cy="223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db3ff">
                <a:alpha val="50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2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33"/>
                </a:solidFill>
                <a:latin typeface="Times New Roman"/>
              </a:rPr>
              <a:t>Мультимедиа учебники </a:t>
            </a:r>
            <a:br>
              <a:rPr sz="3200"/>
            </a:br>
            <a:r>
              <a:rPr b="1" lang="ru-RU" sz="3200" spc="-1" strike="noStrike">
                <a:solidFill>
                  <a:srgbClr val="ccff33"/>
                </a:solidFill>
                <a:latin typeface="Times New Roman"/>
              </a:rPr>
              <a:t>Литература. 10-11 классы</a:t>
            </a: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724" name="Picture 4" descr="shzin102"/>
          <p:cNvPicPr/>
          <p:nvPr/>
        </p:nvPicPr>
        <p:blipFill>
          <a:blip r:embed="rId1"/>
          <a:stretch/>
        </p:blipFill>
        <p:spPr>
          <a:xfrm>
            <a:off x="1547640" y="2492280"/>
            <a:ext cx="2737080" cy="360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5b6f">
                <a:alpha val="50000"/>
              </a:srgbClr>
            </a:outerShdw>
          </a:effectLst>
        </p:spPr>
      </p:pic>
      <p:pic>
        <p:nvPicPr>
          <p:cNvPr id="725" name="Picture 5" descr="Lit_11_1 copy"/>
          <p:cNvPicPr/>
          <p:nvPr/>
        </p:nvPicPr>
        <p:blipFill>
          <a:blip r:embed="rId2"/>
          <a:stretch/>
        </p:blipFill>
        <p:spPr>
          <a:xfrm>
            <a:off x="5003640" y="2421000"/>
            <a:ext cx="2664000" cy="367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4e5b6f">
                <a:alpha val="5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 rot="16200000">
            <a:off x="-1909800" y="2855880"/>
            <a:ext cx="55454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aramond"/>
              </a:rPr>
              <a:t>3. Элективный кур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1332000" y="620640"/>
            <a:ext cx="431784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 Cyr"/>
              </a:rPr>
              <a:t>Лазебникова А.Ю. и др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 Cyr"/>
              </a:rPr>
              <a:t>Современная массовая культу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 Cyr"/>
              </a:rPr>
              <a:t>Учебное пособи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 Cyr"/>
              </a:rPr>
              <a:t>Программа и тематическое планиро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cc"/>
                </a:solidFill>
                <a:latin typeface="Times New Roman Cyr"/>
              </a:rPr>
              <a:t>Допущено Министерством образования Р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 Cyr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8803"/>
                </a:solidFill>
                <a:latin typeface="Times New Roman Cyr"/>
              </a:rPr>
              <a:t>В пособии рассматривается такие вопросы, как эра телевидения, массовая литература как общественное явление, популярная музыка, реклама в жизни современного общества, капризы моды, дизайн, а также очень актуальный сегодня вопрос – культура потребления и потребление культуры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6516720" y="1484280"/>
            <a:ext cx="19429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6588000" y="1773360"/>
            <a:ext cx="19447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Picture 6" descr="Lazebn_Kult_Prog copy"/>
          <p:cNvPicPr/>
          <p:nvPr/>
        </p:nvPicPr>
        <p:blipFill>
          <a:blip r:embed="rId1"/>
          <a:stretch/>
        </p:blipFill>
        <p:spPr>
          <a:xfrm>
            <a:off x="6372360" y="404640"/>
            <a:ext cx="2525400" cy="3816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1" name="Picture 7" descr="Lazeb_Kult"/>
          <p:cNvPicPr/>
          <p:nvPr/>
        </p:nvPicPr>
        <p:blipFill>
          <a:blip r:embed="rId2"/>
          <a:stretch/>
        </p:blipFill>
        <p:spPr>
          <a:xfrm>
            <a:off x="5643720" y="3048120"/>
            <a:ext cx="2628720" cy="3809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5:22:03Z</dcterms:created>
  <dc:creator>админ</dc:creator>
  <dc:description/>
  <dc:language>en-US</dc:language>
  <cp:lastModifiedBy>Owner</cp:lastModifiedBy>
  <dcterms:modified xsi:type="dcterms:W3CDTF">2011-03-24T23:32:05Z</dcterms:modified>
  <cp:revision>19</cp:revision>
  <dc:subject/>
  <dc:title>Книжные серии издательства «Русское слово»</dc:title>
</cp:coreProperties>
</file>