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20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0DF-0AD2-4649-AFE7-900BC4CB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139-44A8-446D-BF1F-82FD1237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BC5B-1AAD-43D0-9296-57384CFB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F23-388F-4745-8354-838FB8FF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1F1E-710D-4C6A-A50C-F87E40D5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9AA0-6487-42D8-A243-35BF1CE3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DA99-3274-477E-BD60-BA0C9ADB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C875-76F3-4F5B-8F27-121FE309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9CDD-9976-420D-A97E-F61E18F8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CB22-0BF5-4EB4-83B7-0465B812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A168-6230-4D01-93F0-DEFC4020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B92-5C31-47EF-B8C9-D631B9EE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2551-4A9A-41E0-B489-A5FFFD73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9C21-9141-4E5B-864A-1AFCC7D7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07BA-E2F5-40D6-9913-E178E4AB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DE24-0BD6-43D6-9B6C-E90BFE15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3826-75D8-47A7-AEC1-EAC322D8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432-851D-4222-A209-BDBD255B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271B-5027-41EA-820F-864C15E8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E73A-D071-4225-9D16-89D868F1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41F-D05B-4E36-A161-07C600B8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631-FDA1-4378-BB1D-6876EEAE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DFD4-5B59-4501-B6C7-54F50C78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4D00-D7D3-4EA0-B787-1AE89A52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E2CC-398A-4F40-B922-52BD0E4BE01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7890-126E-4D1D-AF54-40397A5D28F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5.jpeg"/><Relationship Id="rId3" Type="http://schemas.openxmlformats.org/officeDocument/2006/relationships/image" Target="../media/image20.jpeg"/><Relationship Id="rId4" Type="http://schemas.openxmlformats.org/officeDocument/2006/relationships/image" Target="../media/image17.jpeg"/><Relationship Id="rId5" Type="http://schemas.openxmlformats.org/officeDocument/2006/relationships/image" Target="../media/image15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-1099440" y="2205000"/>
            <a:ext cx="1140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c0000"/>
                </a:solidFill>
                <a:latin typeface="Monotype Corsiva"/>
              </a:rPr>
              <a:t>“</a:t>
            </a:r>
            <a:r>
              <a:rPr b="1" i="1" lang="ru-RU" sz="3600" spc="-1" strike="noStrike">
                <a:solidFill>
                  <a:srgbClr val="8c0000"/>
                </a:solidFill>
                <a:latin typeface="Monotype Corsiva"/>
              </a:rPr>
              <a:t>О светло светлая и украсно украшена земл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c0000"/>
                </a:solidFill>
                <a:latin typeface="Monotype Corsiva"/>
              </a:rPr>
              <a:t>Русская!  Многими красотами  ты удивлена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c0000"/>
                </a:solidFill>
                <a:latin typeface="Monotype Corsiva"/>
              </a:rPr>
              <a:t>озёрами, реками и кладязьми, горами крутым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c0000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8c0000"/>
                </a:solidFill>
                <a:latin typeface="Monotype Corsiva"/>
              </a:rPr>
              <a:t>дубравами чистыми, городами великими...”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2592360" cy="2173320"/>
          </a:xfrm>
          <a:prstGeom prst="rect">
            <a:avLst/>
          </a:prstGeom>
          <a:ln w="22320">
            <a:solidFill>
              <a:srgbClr val="8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4051440" cy="61722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612880" y="189000"/>
            <a:ext cx="65311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Кадр из фильма С. Эйзенштейна «Александр Невский», 1938"/>
          <p:cNvPicPr/>
          <p:nvPr/>
        </p:nvPicPr>
        <p:blipFill>
          <a:blip r:embed="rId1"/>
          <a:stretch/>
        </p:blipFill>
        <p:spPr>
          <a:xfrm>
            <a:off x="3924360" y="3213000"/>
            <a:ext cx="4959360" cy="33847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2430720" y="549360"/>
            <a:ext cx="6709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С.Прокофье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антат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«Александр Невский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90880" cy="2808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1840680" y="364500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ahoma"/>
              </a:rPr>
              <a:t>СУРО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407664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ahoma"/>
              </a:rPr>
              <a:t>ВЗВОЛНОВАН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25760" y="450864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ahoma"/>
              </a:rPr>
              <a:t>ПРИЗЫВ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52560" y="50133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ahoma"/>
              </a:rPr>
              <a:t>СВЕТ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544500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ahoma"/>
              </a:rPr>
              <a:t>ТОРЖЕСТВЕН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8360" y="594828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ahoma"/>
              </a:rPr>
              <a:t>ГОРД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440" y="306864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.Прокофь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69000" y="238428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Кадр из фильма"/>
          <p:cNvPicPr/>
          <p:nvPr/>
        </p:nvPicPr>
        <p:blipFill>
          <a:blip r:embed="rId1"/>
          <a:stretch/>
        </p:blipFill>
        <p:spPr>
          <a:xfrm>
            <a:off x="250920" y="3789360"/>
            <a:ext cx="3348000" cy="24494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32" name="" descr="Кадр из фильма С. Эйзенштейна «Александр Невский», 1938"/>
          <p:cNvPicPr/>
          <p:nvPr/>
        </p:nvPicPr>
        <p:blipFill>
          <a:blip r:embed="rId2"/>
          <a:stretch/>
        </p:blipFill>
        <p:spPr>
          <a:xfrm>
            <a:off x="250920" y="549360"/>
            <a:ext cx="3311280" cy="25304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3115800" y="1268280"/>
            <a:ext cx="588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тавайте, люди русск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славный бой, на смертный бо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тавайте, люди вольны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 нашу землю честную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ивым бойцам — почёт и че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мёртвым — слава веч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 отчий дом, за русский кр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тавайте, люди русски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родной Руси, на родной Ру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бывать врагу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нимайся, встан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ать родная, Рус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1342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0000"/>
                </a:solidFill>
                <a:latin typeface="Tahoma"/>
              </a:rPr>
              <a:t>Великая Отечественная война </a:t>
            </a:r>
            <a:br>
              <a:rPr sz="8500"/>
            </a:br>
            <a:r>
              <a:rPr b="0" lang="en-US" sz="8500" spc="-1" strike="noStrike">
                <a:solidFill>
                  <a:srgbClr val="ff0000"/>
                </a:solidFill>
                <a:latin typeface="Tahoma"/>
              </a:rPr>
              <a:t>(1941-1945 гг.)</a:t>
            </a:r>
            <a:endParaRPr b="0" lang="en-US" sz="8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БАЛЛАДА О СОЛДАТ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11280" y="980640"/>
            <a:ext cx="5832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лем, вдоль берега крутого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имо хат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серой шинели рядового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Шёл солдат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Шёл солдат, преград не зная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Шёл солдат, друзей теряя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сто, бывало, шёл без привала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Шёл вперёд солдат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Шёл он ночами грозовыми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дождь и град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сню с друзьями фронтовыми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л солдат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л солдат, глотая слёзы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л про русские берёзы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 кари очи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 дом свой отчий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л в пути солдат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168360" cy="24926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3203280" cy="2604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651640" y="5589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87040" y="333360"/>
            <a:ext cx="32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ahoma"/>
              </a:rPr>
              <a:t>Богатыр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1628640"/>
            <a:ext cx="468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ильные люди, герои народных сказаний, песен, были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Человек безмерной силы, стойкости, отваг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219640" y="260280"/>
            <a:ext cx="3672000" cy="27925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19640" y="3314880"/>
            <a:ext cx="3672000" cy="32828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3" descr="Богатыри 2.jpg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56944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519120" y="58802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91920" y="6021360"/>
            <a:ext cx="60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В.Васнецов. «Богатыр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340000" y="6338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43280" y="1890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А.П.Бородин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Симфония №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338200" cy="3024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1116000" y="3357720"/>
            <a:ext cx="244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Суров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Певуч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Мужествен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Велича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Реши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Светл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Настойчи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24360" y="2997360"/>
            <a:ext cx="4825800" cy="4968360"/>
          </a:xfrm>
          <a:prstGeom prst="rect">
            <a:avLst/>
          </a:prstGeom>
          <a:solidFill>
            <a:srgbClr val="ffffff">
              <a:alpha val="19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hruti"/>
              </a:rPr>
              <a:t>Симфония - оркестровое произведен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hruti"/>
              </a:rPr>
              <a:t>состоящее из нескольки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hruti"/>
              </a:rPr>
              <a:t>частей, которые контрастн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hruti"/>
              </a:rPr>
              <a:t>по характеру, но вместе образуют единое цело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27280" y="1773360"/>
            <a:ext cx="65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(«Богатырская»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3200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Рисунок 3" descr="Богатыри 2.jpg"/>
          <p:cNvPicPr/>
          <p:nvPr/>
        </p:nvPicPr>
        <p:blipFill>
          <a:blip r:embed="rId1"/>
          <a:stretch/>
        </p:blipFill>
        <p:spPr>
          <a:xfrm>
            <a:off x="6084720" y="4005360"/>
            <a:ext cx="2808360" cy="19447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2665440" cy="19447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370800" y="602136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Баллада о солдат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21720" y="602136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.Васнецов. «Богатыр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Кадр из фильма С. Эйзенштейна «Александр Невский», 1938"/>
          <p:cNvPicPr/>
          <p:nvPr/>
        </p:nvPicPr>
        <p:blipFill>
          <a:blip r:embed="rId3"/>
          <a:stretch/>
        </p:blipFill>
        <p:spPr>
          <a:xfrm>
            <a:off x="3276720" y="4005360"/>
            <a:ext cx="2446200" cy="19573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2769480" y="6093000"/>
            <a:ext cx="35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.Прокофье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нтата «Александр Невски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851280" y="260280"/>
            <a:ext cx="1635120" cy="2664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3363120" y="3068640"/>
            <a:ext cx="26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.Кор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Александр Невски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Чудо Георгия о змие"/>
          <p:cNvPicPr/>
          <p:nvPr/>
        </p:nvPicPr>
        <p:blipFill>
          <a:blip r:embed="rId5"/>
          <a:stretch/>
        </p:blipFill>
        <p:spPr>
          <a:xfrm>
            <a:off x="611280" y="260280"/>
            <a:ext cx="1942920" cy="264492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324000" y="3068640"/>
            <a:ext cx="243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удо Георгия о зм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кона. XV 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877080" y="260280"/>
            <a:ext cx="1387440" cy="2664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6454080" y="306864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нател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ятой Георг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26560" y="1096560"/>
            <a:ext cx="8137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i="1" lang="en-US" sz="48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1" i="1" lang="en-US" sz="4800" spc="-1" strike="noStrike">
                <a:solidFill>
                  <a:srgbClr val="ffffff"/>
                </a:solidFill>
                <a:latin typeface="Shruti"/>
              </a:rPr>
              <a:t>Никому зл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Shruti"/>
              </a:rPr>
              <a:t>не причинял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Shruti"/>
              </a:rPr>
              <a:t>ничего силой не отнимал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Shruti"/>
              </a:rPr>
              <a:t>не досаждал, не укорял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Shruti"/>
              </a:rPr>
              <a:t>не бесчинствовал, а всех любил и честь</a:t>
            </a:r>
            <a:r>
              <a:rPr b="1" i="1" lang="en-US" sz="4400" spc="-1" strike="noStrike">
                <a:solidFill>
                  <a:srgbClr val="ffffff"/>
                </a:solidFill>
                <a:latin typeface="Shruti"/>
              </a:rPr>
              <a:t>  </a:t>
            </a:r>
            <a:r>
              <a:rPr b="1" i="1" lang="en-US" sz="4800" spc="-1" strike="noStrike">
                <a:solidFill>
                  <a:srgbClr val="ffffff"/>
                </a:solidFill>
                <a:latin typeface="Shruti"/>
              </a:rPr>
              <a:t>держал...”      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Великий князь Дмитрий Донско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Дмитрий Донской"/>
          <p:cNvPicPr/>
          <p:nvPr/>
        </p:nvPicPr>
        <p:blipFill>
          <a:blip r:embed="rId1"/>
          <a:stretch/>
        </p:blipFill>
        <p:spPr>
          <a:xfrm>
            <a:off x="6227640" y="189000"/>
            <a:ext cx="2016360" cy="2376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084560" cy="3035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4151520" cy="3071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50920" y="3500280"/>
            <a:ext cx="4151160" cy="3144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716360" y="3500280"/>
            <a:ext cx="422460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42920" y="188640"/>
            <a:ext cx="3529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ОГОН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280" y="765000"/>
            <a:ext cx="3745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Усталость забыт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лышется чад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снова копыт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сердце, стуча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Припе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нет нам поко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ри, но живи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гоня, погон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гоня, погон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горячей кров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Есть пули в наган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надо успе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разиться с врага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песню допе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219640" y="907920"/>
            <a:ext cx="3089160" cy="40338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5003640" y="5157720"/>
            <a:ext cx="388944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В удачу поверьте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дело с конц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а здравствует ветер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торый в лиц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0920" y="2276640"/>
            <a:ext cx="79311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очинение на тему «Мой идеал защитника Отечества – каков он?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47880" y="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70632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Защитник  Отечества 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каков он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623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70640" y="2997360"/>
            <a:ext cx="4993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Нету счастья выше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нету чести выше,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Чем любимо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Родине служить!”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(А.С. Ерикее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2952720" cy="2371680"/>
          </a:xfrm>
          <a:prstGeom prst="rect">
            <a:avLst/>
          </a:prstGeom>
          <a:ln w="34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487044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Московский символ победы добра над злом. Герб Москвы"/>
          <p:cNvPicPr/>
          <p:nvPr/>
        </p:nvPicPr>
        <p:blipFill>
          <a:blip r:embed="rId1"/>
          <a:stretch/>
        </p:blipFill>
        <p:spPr>
          <a:xfrm>
            <a:off x="3780000" y="476280"/>
            <a:ext cx="2239920" cy="2808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Московский символ победы добра над злом. Герб Москвы"/>
          <p:cNvPicPr/>
          <p:nvPr/>
        </p:nvPicPr>
        <p:blipFill>
          <a:blip r:embed="rId2"/>
          <a:stretch/>
        </p:blipFill>
        <p:spPr>
          <a:xfrm>
            <a:off x="6084720" y="476280"/>
            <a:ext cx="3059280" cy="2887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24000" y="549360"/>
            <a:ext cx="3168360" cy="2536920"/>
          </a:xfrm>
          <a:prstGeom prst="rect">
            <a:avLst/>
          </a:prstGeom>
          <a:ln w="50760">
            <a:solidFill>
              <a:srgbClr val="ffcc66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39640" y="3716280"/>
            <a:ext cx="2576520" cy="2517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492360" y="3789360"/>
            <a:ext cx="2549520" cy="2525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6372360" y="3716280"/>
            <a:ext cx="26384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77164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Чудо Георгия о змие"/>
          <p:cNvPicPr/>
          <p:nvPr/>
        </p:nvPicPr>
        <p:blipFill>
          <a:blip r:embed="rId1"/>
          <a:stretch/>
        </p:blipFill>
        <p:spPr>
          <a:xfrm>
            <a:off x="395280" y="549360"/>
            <a:ext cx="4105440" cy="5688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4643280" y="5300640"/>
            <a:ext cx="418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удо Георгия о зм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кона. XV 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77164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51280" y="5589720"/>
            <a:ext cx="504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вятой Георгий.  Донателло. Статуя. XV 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24936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231240" y="40464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03640" y="333360"/>
            <a:ext cx="3443400" cy="61912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324972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3549600" cy="63817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4572000" y="5661000"/>
            <a:ext cx="42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ександр Невск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.Корин. 1942 г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07:46:04Z</dcterms:created>
  <dc:creator>Default</dc:creator>
  <dc:description/>
  <dc:language>en-US</dc:language>
  <cp:lastModifiedBy>Irina</cp:lastModifiedBy>
  <dcterms:modified xsi:type="dcterms:W3CDTF">2012-10-18T07:39:52Z</dcterms:modified>
  <cp:revision>15</cp:revision>
  <dc:subject/>
  <dc:title>Слайд 1</dc:title>
</cp:coreProperties>
</file>