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795-5FF7-4E07-A229-9B45A46F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2160" y="356544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99A-D051-4D8F-918D-5077C752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972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2B8-A1AD-4E47-9BEA-09537692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588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996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216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588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996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A40-8CE7-4F60-B7D3-E9B33313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80EA-730B-402E-ABF5-3DE5DFFB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C57F-C2A5-4D19-99E2-28E36FB9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4181-3109-44CA-A75F-FE8A5798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1858-FD72-4550-B158-E32DED51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80F4-56AE-4D0B-8296-1282324F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2160" y="115560"/>
            <a:ext cx="8972640" cy="23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D2E9-D376-42DE-AFC1-81761830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2880-6AC7-4BF7-A277-37449716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F12-729D-46E6-9509-5502470C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972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C0F9-63D7-4C11-AB4F-FDA88BC1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09E4-1846-4C99-AA68-0752307F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2160" y="356544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5FA5-D689-42D0-BFD8-14ED1006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972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0F9F-7196-460F-BDBE-782B3EC8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2588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996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216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2588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996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98A0-941C-4825-88B9-C032CD14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F14-D84B-462F-9E27-92CB450B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AB7-708D-422E-A7E7-629807FA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EDB-1360-4250-BB67-BF903F7C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2160" y="115560"/>
            <a:ext cx="8972640" cy="23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921-8AB6-4F39-A271-C7E1F7F3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FAB5-E31D-49F3-99C8-AC81A6BC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972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BA4-FA7D-45FB-A904-15C7DA83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A83-E679-4AAF-BD8C-D805463F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MUSIC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4360" y="6473880"/>
            <a:ext cx="1906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26920" y="6473880"/>
            <a:ext cx="5257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956720" y="647388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431a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E135-22EC-409A-9247-30E41412F940}" type="slidenum">
              <a:rPr b="0" lang="en-GB" sz="1400" spc="-1" strike="noStrike">
                <a:solidFill>
                  <a:srgbClr val="3431a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MUSIC 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4360" y="6473880"/>
            <a:ext cx="1906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26920" y="6473880"/>
            <a:ext cx="5257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56720" y="647388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431a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2720-8574-41BD-B0B7-D16C22FA71F1}" type="slidenum">
              <a:rPr b="0" lang="en-GB" sz="1400" spc="-1" strike="noStrike">
                <a:solidFill>
                  <a:srgbClr val="3431a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ion.pl/images-of-musical-instruments-of-india&amp;page=4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305781127_notyi_1024x768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4683240"/>
          </a:xfrm>
          <a:prstGeom prst="rect">
            <a:avLst/>
          </a:prstGeom>
          <a:ln w="0">
            <a:noFill/>
          </a:ln>
        </p:spPr>
      </p:pic>
      <p:pic>
        <p:nvPicPr>
          <p:cNvPr id="87" name="Paganini-Kapriz-5(muzofon.com).mp3" descr=""/>
          <p:cNvPicPr/>
          <p:nvPr/>
        </p:nvPicPr>
        <p:blipFill>
          <a:blip r:embed="rId2"/>
          <a:stretch/>
        </p:blipFill>
        <p:spPr>
          <a:xfrm>
            <a:off x="788508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6829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410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1a57"/>
                </a:solidFill>
                <a:latin typeface="Arial"/>
              </a:rPr>
              <a:t>Caprice</a:t>
            </a:r>
            <a:r>
              <a:rPr b="1" lang="ru-RU" sz="2800" spc="-1" strike="noStrike">
                <a:solidFill>
                  <a:srgbClr val="1a1a5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a1a57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a1a57"/>
                </a:solidFill>
                <a:latin typeface="Arial"/>
              </a:rPr>
              <a:t>в переводе с</a:t>
            </a:r>
            <a:r>
              <a:rPr b="0" i="1" lang="ru-RU" sz="2400" spc="-1" strike="noStrike">
                <a:solidFill>
                  <a:srgbClr val="1a1a5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a1a57"/>
                </a:solidFill>
                <a:latin typeface="Arial"/>
              </a:rPr>
              <a:t>французского</a:t>
            </a:r>
            <a:r>
              <a:rPr b="0" i="1" lang="ru-RU" sz="2400" spc="-1" strike="noStrike">
                <a:solidFill>
                  <a:srgbClr val="1a1a57"/>
                </a:solidFill>
                <a:latin typeface="Arial"/>
              </a:rPr>
              <a:t> – прихоть, капр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paganini_caprice24"/>
          <p:cNvPicPr/>
          <p:nvPr/>
        </p:nvPicPr>
        <p:blipFill>
          <a:blip r:embed="rId1"/>
          <a:stretch/>
        </p:blipFill>
        <p:spPr>
          <a:xfrm>
            <a:off x="4500720" y="333360"/>
            <a:ext cx="3676320" cy="536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410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1a1a57"/>
                </a:solidFill>
                <a:latin typeface="Arial"/>
              </a:rPr>
              <a:t>Интерпретация – индивидуальная трактовка композитором (музыкантом) исполняемого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0_7e933_30d4d99_XL"/>
          <p:cNvPicPr/>
          <p:nvPr/>
        </p:nvPicPr>
        <p:blipFill>
          <a:blip r:embed="rId1"/>
          <a:stretch/>
        </p:blipFill>
        <p:spPr>
          <a:xfrm>
            <a:off x="5003640" y="115920"/>
            <a:ext cx="3622680" cy="5113440"/>
          </a:xfrm>
          <a:prstGeom prst="rect">
            <a:avLst/>
          </a:prstGeom>
          <a:ln w="0">
            <a:noFill/>
          </a:ln>
        </p:spPr>
      </p:pic>
      <p:pic>
        <p:nvPicPr>
          <p:cNvPr id="120" name="Viktor-Zinchuk-NPaganini-Kapriz-24(muzofon.com).mp3" descr=""/>
          <p:cNvPicPr/>
          <p:nvPr/>
        </p:nvPicPr>
        <p:blipFill>
          <a:blip r:embed="rId2"/>
          <a:stretch/>
        </p:blipFill>
        <p:spPr>
          <a:xfrm>
            <a:off x="845964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43046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1187280" y="907920"/>
            <a:ext cx="6913800" cy="331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боту на урок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1a1a57"/>
                </a:solidFill>
                <a:latin typeface="Arial"/>
              </a:rPr>
              <a:t>Использованные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1a57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008800" y="2422440"/>
            <a:ext cx="5126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91c6"/>
                </a:solidFill>
                <a:uFillTx/>
                <a:latin typeface="Arial"/>
                <a:hlinkClick r:id="rId1"/>
              </a:rPr>
              <a:t>http://www.pion.pl/images-of-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papers.ru/wallpapers/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91c6"/>
                </a:solidFill>
                <a:latin typeface="Arial"/>
              </a:rPr>
              <a:t>www.litprichal.ru%2Fupload%2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uzofon.com/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liveinternet.ru/u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luppi.ru/gdefon/sdfd/download/241780-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onua.com.ua/11179-znat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1a57"/>
                </a:solidFill>
                <a:latin typeface="Arial"/>
              </a:rPr>
              <a:t>Презентацию к уроку подгото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1a57"/>
                </a:solidFill>
                <a:latin typeface="Arial"/>
              </a:rPr>
              <a:t>учитель 1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1a57"/>
                </a:solidFill>
                <a:latin typeface="Arial"/>
              </a:rPr>
              <a:t>МБОУ СОШ №1 р.п.Екатерин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1a57"/>
                </a:solidFill>
                <a:latin typeface="Arial"/>
              </a:rPr>
              <a:t>Сарат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1a57"/>
                </a:solidFill>
                <a:latin typeface="Arial"/>
              </a:rPr>
              <a:t>Лапшина Татья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2"/>
          <p:cNvGraphicFramePr/>
          <p:nvPr/>
        </p:nvGraphicFramePr>
        <p:xfrm>
          <a:off x="2898720" y="1397160"/>
          <a:ext cx="334656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8720" y="1397160"/>
                    <a:ext cx="33465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MUSIC TB"/>
          <p:cNvPicPr/>
          <p:nvPr/>
        </p:nvPicPr>
        <p:blipFill>
          <a:blip r:embed="rId1"/>
          <a:srcRect l="0" t="0" r="0" b="88845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431a5"/>
                </a:solidFill>
                <a:latin typeface="Bickham Script One"/>
              </a:rPr>
              <a:t>Звуки пели, дрожали так звон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431a5"/>
                </a:solidFill>
                <a:latin typeface="Bickham Script One"/>
              </a:rPr>
              <a:t>Замирали и пели сначала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431a5"/>
                </a:solidFill>
                <a:latin typeface="Bickham Script One"/>
              </a:rPr>
              <a:t>Звуки скрипки так дивно звуч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431a5"/>
                </a:solidFill>
                <a:latin typeface="Bickham Script One"/>
              </a:rPr>
              <a:t>Разливаясь в безмолвии ноч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431a5"/>
                </a:solidFill>
                <a:latin typeface="Bickham Script One"/>
              </a:rPr>
              <a:t>                                 </a:t>
            </a:r>
            <a:r>
              <a:rPr b="1" i="1" lang="ru-RU" sz="2400" spc="-1" strike="noStrike">
                <a:solidFill>
                  <a:srgbClr val="3431a5"/>
                </a:solidFill>
                <a:latin typeface="Bickham Script One"/>
              </a:rPr>
              <a:t>А.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11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600" spc="-1" strike="noStrike">
              <a:solidFill>
                <a:srgbClr val="1a1a57"/>
              </a:solidFill>
              <a:latin typeface="Ceremonious Tw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755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324000" y="1700280"/>
            <a:ext cx="8351640" cy="21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ookman Old Style"/>
              </a:rPr>
              <a:t>Звуки скрипки так дивно звучали…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410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1a57"/>
                </a:solidFill>
                <a:latin typeface="Arial"/>
              </a:rPr>
              <a:t>Не соловей – то скрипка п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1a57"/>
                </a:solidFill>
                <a:latin typeface="Arial"/>
              </a:rPr>
              <a:t>Когда ж оборвалась стру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1a57"/>
                </a:solidFill>
                <a:latin typeface="Arial"/>
              </a:rPr>
              <a:t>Кругом рыдала и звене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1a57"/>
                </a:solidFill>
                <a:latin typeface="Arial"/>
              </a:rPr>
              <a:t>Как в вешней роще, тишин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1a57"/>
                </a:solidFill>
                <a:latin typeface="Arial"/>
              </a:rPr>
              <a:t>                           </a:t>
            </a:r>
            <a:r>
              <a:rPr b="1" i="1" lang="ru-RU" sz="2000" spc="-1" strike="noStrike">
                <a:solidFill>
                  <a:srgbClr val="1a1a57"/>
                </a:solidFill>
                <a:latin typeface="Arial"/>
              </a:rPr>
              <a:t>А.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x_6433afbc"/>
          <p:cNvPicPr/>
          <p:nvPr/>
        </p:nvPicPr>
        <p:blipFill>
          <a:blip r:embed="rId1"/>
          <a:stretch/>
        </p:blipFill>
        <p:spPr>
          <a:xfrm>
            <a:off x="4211640" y="692280"/>
            <a:ext cx="4410000" cy="439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ло Паган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410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1a1a57"/>
                </a:solidFill>
                <a:latin typeface="Arial"/>
              </a:rPr>
              <a:t>Никколо Паганини (1782-1840) – итальянский композитор и скрипач-виртуоз 19 века. Начал заниматься музыкой в раннем возрасте под руководством своего от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paganini_niccolo"/>
          <p:cNvPicPr/>
          <p:nvPr/>
        </p:nvPicPr>
        <p:blipFill>
          <a:blip r:embed="rId1"/>
          <a:stretch/>
        </p:blipFill>
        <p:spPr>
          <a:xfrm>
            <a:off x="5148360" y="765000"/>
            <a:ext cx="3105000" cy="40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54080" y="765000"/>
            <a:ext cx="441036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40092540066689"/>
          <p:cNvPicPr/>
          <p:nvPr/>
        </p:nvPicPr>
        <p:blipFill>
          <a:blip r:embed="rId1"/>
          <a:stretch/>
        </p:blipFill>
        <p:spPr>
          <a:xfrm>
            <a:off x="2700360" y="404640"/>
            <a:ext cx="4103640" cy="518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_x750"/>
          <p:cNvPicPr/>
          <p:nvPr/>
        </p:nvPicPr>
        <p:blipFill>
          <a:blip r:embed="rId1"/>
          <a:stretch/>
        </p:blipFill>
        <p:spPr>
          <a:xfrm>
            <a:off x="2195640" y="189000"/>
            <a:ext cx="4752720" cy="5400720"/>
          </a:xfrm>
          <a:prstGeom prst="rect">
            <a:avLst/>
          </a:prstGeom>
          <a:ln w="0">
            <a:noFill/>
          </a:ln>
        </p:spPr>
      </p:pic>
      <p:pic>
        <p:nvPicPr>
          <p:cNvPr id="106" name="eremeev_-_n.paganini__kampanella_.mp3" descr=""/>
          <p:cNvPicPr/>
          <p:nvPr/>
        </p:nvPicPr>
        <p:blipFill>
          <a:blip r:embed="rId2"/>
          <a:stretch/>
        </p:blipFill>
        <p:spPr>
          <a:xfrm>
            <a:off x="8244000" y="45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96016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54080" y="765000"/>
            <a:ext cx="44103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a1a57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1a1a57"/>
                </a:solidFill>
                <a:latin typeface="Arial"/>
              </a:rPr>
              <a:t>«Мертвенно-бледное лицо, как-будто вылепленное из воска, глубоко запавшие глаза, худоба, угловатые движения и самое главное – тонкие, сверхгибкие пальцы какой-то невероятной длины, как-будто вдвое длиннее, чем у обычных люд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a1a57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1a1a57"/>
                </a:solidFill>
                <a:latin typeface="Arial"/>
              </a:rPr>
              <a:t>В.Гёте, О.де Бальз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i_022"/>
          <p:cNvPicPr/>
          <p:nvPr/>
        </p:nvPicPr>
        <p:blipFill>
          <a:blip r:embed="rId1"/>
          <a:stretch/>
        </p:blipFill>
        <p:spPr>
          <a:xfrm>
            <a:off x="900000" y="1052640"/>
            <a:ext cx="2984760" cy="3958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299260560_11"/>
          <p:cNvPicPr/>
          <p:nvPr/>
        </p:nvPicPr>
        <p:blipFill>
          <a:blip r:embed="rId1"/>
          <a:stretch/>
        </p:blipFill>
        <p:spPr>
          <a:xfrm>
            <a:off x="1116000" y="620640"/>
            <a:ext cx="7143840" cy="4457880"/>
          </a:xfrm>
          <a:prstGeom prst="rect">
            <a:avLst/>
          </a:prstGeom>
          <a:ln w="0">
            <a:noFill/>
          </a:ln>
        </p:spPr>
      </p:pic>
      <p:pic>
        <p:nvPicPr>
          <p:cNvPr id="113" name="Paganini-kapriz-24(muzofon.com).mp3" descr=""/>
          <p:cNvPicPr/>
          <p:nvPr/>
        </p:nvPicPr>
        <p:blipFill>
          <a:blip r:embed="rId2"/>
          <a:stretch/>
        </p:blipFill>
        <p:spPr>
          <a:xfrm>
            <a:off x="8244000" y="443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77133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12:47:06Z</dcterms:created>
  <dc:creator>юля</dc:creator>
  <dc:description>freeppt.ru - Шаблоны для создания презентаций. Презентации по культуре и искусству</dc:description>
  <dc:language>en-US</dc:language>
  <cp:lastModifiedBy>Татьяна</cp:lastModifiedBy>
  <dcterms:modified xsi:type="dcterms:W3CDTF">2013-11-13T16:00:54Z</dcterms:modified>
  <cp:revision>7</cp:revision>
  <dc:subject>Шаблон PowerPoint</dc:subject>
  <dc:title>Слайд 1</dc:title>
</cp:coreProperties>
</file>