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19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B70-972F-4D1D-8DFE-EC1A147B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5C1C-1A7C-43FE-8BDB-F998FF96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FC8-EB22-44D8-B386-62B8B0A0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F6B-C4C7-45A6-8914-EAF3D342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D49-3A8F-4358-9334-C51F652E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461-B157-4954-BE6B-96A45EAC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621-9589-4A4F-BB4F-E0908B18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2F2-816E-4FAA-8A21-15A1462E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935-2B0E-4E34-ACBA-E66943C8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61D-5A39-46C9-A7AD-86B6FE2D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71F5-02F0-45A2-85BF-2E7BFB2A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4DF-58C8-4673-92DF-5A91D3E5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A5D4-0FE6-4F32-BC35-52AB73F04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4.pn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619280" y="665280"/>
            <a:ext cx="6192720" cy="619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  <a:ea typeface="Arial"/>
              </a:rPr>
              <a:t>§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  <a:ea typeface="Arial"/>
              </a:rPr>
              <a:t>5.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Человек и его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«Птицу узнают по полету, а человека – по работ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«Пчела мала, да и та работа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Жизнь человека многогран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omic Sans MS"/>
              </a:rPr>
              <a:t>Вспомни!</a:t>
            </a: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 Что такое труд? Чем простой труд отличается от сложног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omic Sans MS"/>
              </a:rPr>
              <a:t>Объясни пословицу:</a:t>
            </a: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6666"/>
                </a:solidFill>
                <a:latin typeface="Comic Sans MS"/>
              </a:rPr>
              <a:t>Смотри дерево в плодах, а человека в де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9900"/>
                </a:solidFill>
                <a:latin typeface="Comic Sans MS"/>
              </a:rPr>
              <a:t>Человек на протяжении всей жизни совершает определенные действия, поступки по отношению к окружающему миру, и прежде всего по отношению к людям. В поведении проявляются особенности его характера и темперамента, уровень его воспитанности. Слова, действия и поступки человека помогают его пон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92720" y="274320"/>
            <a:ext cx="38512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Потребност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РТ 6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5219640" cy="34686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98" name="AutoShape 5"/>
          <p:cNvSpPr/>
          <p:nvPr/>
        </p:nvSpPr>
        <p:spPr>
          <a:xfrm>
            <a:off x="3059280" y="1484280"/>
            <a:ext cx="6084720" cy="537372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Дух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позн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кружающего ми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получение зна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и уме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достижение гармо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и кра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бщение, тру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уважение признание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Биологические или матер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пища, вода, одежда, жилье, 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4067280" y="5084640"/>
            <a:ext cx="40338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3492360" y="6165720"/>
            <a:ext cx="52563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0" y="3645000"/>
            <a:ext cx="25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«В классе и дома»: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в-сы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Домашнее задание:</a:t>
            </a: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§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6, РТ 6/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«Не место красит человека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Социальная значимость личности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во многом определяется тем, какие потребности у нее преобладают. По-разному ценится человек, который стремится только к личному обогащению, человек, для которого самое важное в жизни – удовлетворение потребности в модной одежде или изысканных блюдах, и человек, для которого главная потребность – творческих труд.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Уч-к, стр.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Духовный мир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– это внутренний мир челов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мир его мыслей и чувств. Он формиру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процессе познания (приобретения знани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Духовный мир каждого человека уника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Духовно богатый человек стремится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новым зн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804000" y="4005360"/>
            <a:ext cx="2122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Мир мыслей</a:t>
            </a:r>
            <a:r>
              <a:rPr b="0" lang="ru-RU" sz="4000" spc="-1" strike="noStrike">
                <a:solidFill>
                  <a:srgbClr val="99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Уч-к, стр. 58-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Мысли</a:t>
            </a: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 – это процесс рассуждения, </a:t>
            </a: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мышления</a:t>
            </a: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, а также его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                            </a:t>
            </a: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Суждение</a:t>
            </a: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 –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высказывание, содержаще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определенную мыс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                            </a:t>
            </a: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Умозаключение</a:t>
            </a: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 – вывод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заключение из каких-либ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1687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724360" y="5338800"/>
            <a:ext cx="2303640" cy="1519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1619280" cy="1457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«Птицу узнают по полету, а человека – по работе» </a:t>
            </a: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Уч-к, стр.48-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58920" y="1628640"/>
            <a:ext cx="309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Что такое деятель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Какое значение в жизни человека имеет деятель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2050920" y="1700280"/>
            <a:ext cx="105588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4"/>
          <a:stretch/>
        </p:blipFill>
        <p:spPr>
          <a:xfrm>
            <a:off x="0" y="5229360"/>
            <a:ext cx="1979640" cy="133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5"/>
          <a:stretch/>
        </p:blipFill>
        <p:spPr>
          <a:xfrm>
            <a:off x="0" y="1484280"/>
            <a:ext cx="179244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tretch/>
        </p:blipFill>
        <p:spPr>
          <a:xfrm>
            <a:off x="2050920" y="2997360"/>
            <a:ext cx="1370160" cy="191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7"/>
          <a:stretch/>
        </p:blipFill>
        <p:spPr>
          <a:xfrm>
            <a:off x="7020000" y="4076640"/>
            <a:ext cx="1881000" cy="125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8"/>
          <a:stretch/>
        </p:blipFill>
        <p:spPr>
          <a:xfrm>
            <a:off x="2050920" y="5064120"/>
            <a:ext cx="1346400" cy="179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9"/>
          <a:stretch/>
        </p:blipFill>
        <p:spPr>
          <a:xfrm>
            <a:off x="7020000" y="1484280"/>
            <a:ext cx="1679400" cy="126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10"/>
          <a:stretch/>
        </p:blipFill>
        <p:spPr>
          <a:xfrm>
            <a:off x="5724360" y="2781360"/>
            <a:ext cx="1908360" cy="1271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11"/>
          <a:stretch/>
        </p:blipFill>
        <p:spPr>
          <a:xfrm>
            <a:off x="3564000" y="5184720"/>
            <a:ext cx="201600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omic Sans MS"/>
              </a:rPr>
              <a:t>Деятельность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– это занятия человека, его труд. Это то, что присуще только людям, отличает их от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349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9900"/>
                </a:solidFill>
                <a:latin typeface="Comic Sans MS"/>
              </a:rPr>
              <a:t>Деятельность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– это способ отношения к миру, характерный только для людей. Основное его содержание – изменение и преобразование мира в интересах человека, создание того, чего нет в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8000" y="160020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9900"/>
                </a:solidFill>
                <a:latin typeface="Comic Sans MS"/>
              </a:rPr>
              <a:t>В процессе деятельности человек не только создает все необходимое для жизни, но и меняется сам: учится преодолевать трудности и организовывать свою жизнь, воспитывает волю, целеустремленность, становится духовно бога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994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ff"/>
                </a:solidFill>
                <a:latin typeface="Mistral"/>
              </a:rPr>
              <a:t>Путешествие в прошл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7812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Знаменитый оратор Древней Греции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Демосфен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был от природы косноязычен. Это мешало его желанию стать оратором. Он стал произносить речи с камешками во рту под шум морских волн. Ему было нелегко, но он добился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Знаменитый русский полководец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лександр Суворов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родился настолько слабым, что, вопреки обычаю того времени, отец даже не решался записать мальчика в пол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Но Александр мечтал о военной карьере, поэтому много времени уделял закаливанию своего организма, физической подготовке, затем поступил на службу простым солдатом. Он был единственным в русской армии полководцем, который прошел путь от солдата до генералиссим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Герой Великой Отечественной войны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лександр Маресьев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 воздушном бою получил тяжелое ранение, оказался на территории противника. 11 дней он добирался до своих, испытывая голод и жуткие мучения (у него были разбиты ноги). Врачи ампутировали ему ноги, тем не менее он вернулся в строй, стал снова летать на боевых самоле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667640" y="404640"/>
            <a:ext cx="1285920" cy="1649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7655040" y="2492280"/>
            <a:ext cx="148896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7656480" y="4797360"/>
            <a:ext cx="148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«Пчела мала, да и та работает» </a:t>
            </a: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уч-к, стр.49-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24000" y="1599840"/>
            <a:ext cx="521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Челов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Цель              средства               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дост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Результат может отклон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от цели или не полностью 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оответ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(выдвижение заведомо недостижимых целей, недостаточный учет внешних условий деятельности, возможных препятствий, трудностей; неверный выбор средств достижения цели; неполнота действий на пути к цели или их неумелое осущест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2232000" cy="1503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979640" y="2924280"/>
            <a:ext cx="1674720" cy="1931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360" y="1557360"/>
            <a:ext cx="39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Животные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-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нстин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3"/>
          <a:stretch/>
        </p:blipFill>
        <p:spPr>
          <a:xfrm rot="16780200">
            <a:off x="325440" y="2291760"/>
            <a:ext cx="1471320" cy="144000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6877080" y="2276640"/>
            <a:ext cx="57456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4788000" y="2276640"/>
            <a:ext cx="504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7715160" y="249228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Жизнь человека многогранна… </a:t>
            </a:r>
            <a:r>
              <a:rPr b="1" lang="ru-RU" sz="3200" spc="-1" strike="noStrike">
                <a:solidFill>
                  <a:srgbClr val="006666"/>
                </a:solidFill>
                <a:latin typeface="Comic Sans MS"/>
              </a:rPr>
              <a:t>уч-к, стр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506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Деятельность человека</a:t>
            </a: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: тр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учение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2000" y="1600200"/>
            <a:ext cx="4211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Какие черты характера воспитывают учеба и труд? Какие качества помогают школьнику хорошо учиться, а какие меш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Mistral"/>
              </a:rPr>
              <a:t>Путешествие в прошло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                </a:t>
            </a:r>
            <a:r>
              <a:rPr b="0" lang="ru-RU" sz="2400" spc="-1" strike="noStrike">
                <a:solidFill>
                  <a:srgbClr val="006666"/>
                </a:solidFill>
                <a:latin typeface="Comic Sans MS"/>
              </a:rPr>
              <a:t>стр.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1403280" y="5373720"/>
            <a:ext cx="2022480" cy="128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916360" y="3716280"/>
            <a:ext cx="1179360" cy="15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"/>
          <p:cNvPicPr/>
          <p:nvPr/>
        </p:nvPicPr>
        <p:blipFill>
          <a:blip r:embed="rId4"/>
          <a:stretch/>
        </p:blipFill>
        <p:spPr>
          <a:xfrm>
            <a:off x="179280" y="4005360"/>
            <a:ext cx="1954440" cy="130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5"/>
          <a:stretch/>
        </p:blipFill>
        <p:spPr>
          <a:xfrm>
            <a:off x="4643280" y="1700280"/>
            <a:ext cx="590760" cy="64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6"/>
          <a:stretch/>
        </p:blipFill>
        <p:spPr>
          <a:xfrm>
            <a:off x="5508720" y="4365720"/>
            <a:ext cx="27892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Объясни значение слова «деятель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Почему считают, что только человек может заниматься деятельн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Какие виды деятельности называют основными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Comic Sans MS"/>
              </a:rPr>
              <a:t>Домашнее задание: </a:t>
            </a:r>
            <a:r>
              <a:rPr b="0" lang="en-US" sz="4000" spc="-1" strike="noStrike">
                <a:solidFill>
                  <a:srgbClr val="990000"/>
                </a:solidFill>
                <a:latin typeface="Comic Sans MS"/>
                <a:ea typeface="Arial"/>
              </a:rPr>
              <a:t>§</a:t>
            </a:r>
            <a:r>
              <a:rPr b="0" lang="ru-RU" sz="4000" spc="-1" strike="noStrike">
                <a:solidFill>
                  <a:srgbClr val="990000"/>
                </a:solidFill>
                <a:latin typeface="Comic Sans MS"/>
                <a:ea typeface="Arial"/>
              </a:rPr>
              <a:t>5, РТ 5/1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1047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48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  <a:ea typeface="Arial"/>
              </a:rPr>
              <a:t>§</a:t>
            </a:r>
            <a:r>
              <a:rPr b="1" lang="ru-RU" sz="4000" spc="-1" strike="noStrike">
                <a:solidFill>
                  <a:srgbClr val="990000"/>
                </a:solidFill>
                <a:latin typeface="Comic Sans MS"/>
                <a:ea typeface="Arial"/>
              </a:rPr>
              <a:t>6 Что человек чувствует, о чем размышля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Какие бывают потре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«Не место красит человек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Мир мыс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Мир чув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Вспомни!</a:t>
            </a: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 Что такое деятельность? Каковы отличительные черты деятельности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Подумай!</a:t>
            </a: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 Живет на свете человек. Все у него есть. Все его устраивает, он ни о чем не мечтает, ни к чему не стремится. Просто живет и нич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не делает. Почему такая ситуация выгля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Comic Sans MS"/>
              </a:rPr>
              <a:t>почти фантастичес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1444680" cy="15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6588000" y="1700280"/>
            <a:ext cx="1505160" cy="1616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7915320" y="562932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omic Sans MS"/>
              </a:rPr>
              <a:t>Какие бывают потреб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Потребность</a:t>
            </a:r>
            <a:r>
              <a:rPr b="0" lang="ru-RU" sz="2400" spc="-1" strike="noStrike">
                <a:solidFill>
                  <a:srgbClr val="808080"/>
                </a:solidFill>
                <a:latin typeface="Comic Sans MS"/>
              </a:rPr>
              <a:t> – это </a:t>
            </a:r>
            <a:r>
              <a:rPr b="0" lang="ru-RU" sz="2400" spc="-1" strike="noStrike" u="sng">
                <a:solidFill>
                  <a:srgbClr val="808080"/>
                </a:solidFill>
                <a:uFillTx/>
                <a:latin typeface="Comic Sans MS"/>
              </a:rPr>
              <a:t>осознаваемая и переживаемая</a:t>
            </a:r>
            <a:r>
              <a:rPr b="0" lang="ru-RU" sz="2400" spc="-1" strike="noStrike">
                <a:solidFill>
                  <a:srgbClr val="808080"/>
                </a:solidFill>
                <a:latin typeface="Comic Sans MS"/>
              </a:rPr>
              <a:t> человеком нужда в чем-л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omic Sans MS"/>
              </a:rPr>
              <a:t>Под </a:t>
            </a: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нуждой</a:t>
            </a:r>
            <a:r>
              <a:rPr b="0" lang="ru-RU" sz="2400" spc="-1" strike="noStrike">
                <a:solidFill>
                  <a:srgbClr val="808080"/>
                </a:solidFill>
                <a:latin typeface="Comic Sans MS"/>
              </a:rPr>
              <a:t> понимают прежде всего объективную необходимость, которая </a:t>
            </a:r>
            <a:r>
              <a:rPr b="0" lang="ru-RU" sz="2400" spc="-1" strike="noStrike" u="sng">
                <a:solidFill>
                  <a:srgbClr val="808080"/>
                </a:solidFill>
                <a:uFillTx/>
                <a:latin typeface="Comic Sans MS"/>
              </a:rPr>
              <a:t>не осознается и не переживается</a:t>
            </a:r>
            <a:r>
              <a:rPr b="0" lang="ru-RU" sz="2400" spc="-1" strike="noStrike">
                <a:solidFill>
                  <a:srgbClr val="808080"/>
                </a:solidFill>
                <a:latin typeface="Comic Sans MS"/>
              </a:rPr>
              <a:t>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mic Sans MS"/>
              </a:rPr>
              <a:t>Пример. </a:t>
            </a:r>
            <a:r>
              <a:rPr b="0" i="1" lang="ru-RU" sz="2400" spc="-1" strike="noStrike">
                <a:solidFill>
                  <a:srgbClr val="6600ff"/>
                </a:solidFill>
                <a:latin typeface="Comic Sans MS"/>
              </a:rPr>
              <a:t>Организм человека постоянно нуждается в кислороде, который поступает в кровь благодаря дыханию. Но потребностью эта нужда становится тогда, когда возникает дефицит кислорода (переполненный транспорт, заболевание органов дыхания и т.п.). Страдая от нехватки кислорода, человек предпринимает какие-то действия, радуется, когда можно вздохнуть полной грудью. Нужда становится потребностью.</a:t>
            </a:r>
            <a:r>
              <a:rPr b="0" lang="ru-RU" sz="24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omic Sans MS"/>
              </a:rPr>
              <a:t>Возникшие потребности </a:t>
            </a:r>
            <a:r>
              <a:rPr b="0" lang="ru-RU" sz="2400" spc="-1" strike="noStrike" u="sng">
                <a:solidFill>
                  <a:srgbClr val="808080"/>
                </a:solidFill>
                <a:uFillTx/>
                <a:latin typeface="Comic Sans MS"/>
              </a:rPr>
              <a:t>побуждают</a:t>
            </a:r>
            <a:r>
              <a:rPr b="0" lang="ru-RU" sz="2400" spc="-1" strike="noStrike">
                <a:solidFill>
                  <a:srgbClr val="808080"/>
                </a:solidFill>
                <a:latin typeface="Comic Sans MS"/>
              </a:rPr>
              <a:t> личность к деятельности, становятся ее </a:t>
            </a: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мотив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Уч-к, стр.55-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69228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 Unicode MS"/>
              </a:rPr>
              <a:t>Немного те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4:57:01Z</dcterms:created>
  <dc:creator>Admin</dc:creator>
  <dc:description/>
  <dc:language>en-US</dc:language>
  <cp:lastModifiedBy>user</cp:lastModifiedBy>
  <dcterms:modified xsi:type="dcterms:W3CDTF">2012-09-03T19:28:51Z</dcterms:modified>
  <cp:revision>1</cp:revision>
  <dc:subject/>
  <dc:title>§5. Человек и его деятельность</dc:title>
</cp:coreProperties>
</file>