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27.jpeg" ContentType="image/jpeg"/>
  <Override PartName="/ppt/media/image50.jpeg" ContentType="image/jpeg"/>
  <Override PartName="/ppt/media/image4.png" ContentType="image/png"/>
  <Override PartName="/ppt/media/image12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56B-2C03-4738-8118-EB164F09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4D0-8C10-4111-B6FD-023781F9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DDD-B768-4F8D-A81C-EB68CEE7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BF5-7B22-41D9-9261-5A06F1FA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0A3-63B6-42D2-A5B1-DDDFAC90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D6B-3E32-4113-9CDB-CE0ED5F5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9D6-6435-4831-9688-BF03ED97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7CC-786E-4AD3-A18E-175900B3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E63-0304-40D0-8C5A-8F0A1B98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EB2-1A7B-4BEA-893F-6AE70903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F6B-3098-443A-A690-B0BFB1C1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899-C63A-44F9-9D0C-51ECE674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D634-ADBC-48F6-906A-D1DB19BE3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artclassic.edu.ru/catalog.asp?cat_ob_no=14691&amp;ob_no=15331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-7920"/>
            <a:ext cx="9144000" cy="6873840"/>
            <a:chOff x="0" y="-7920"/>
            <a:chExt cx="9144000" cy="68738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-7920"/>
              <a:ext cx="9144000" cy="687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012000" y="189000"/>
              <a:ext cx="2450880" cy="17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3348000" y="765000"/>
              <a:ext cx="230508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26920" y="3213000"/>
              <a:ext cx="77058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99"/>
                  </a:solidFill>
                  <a:latin typeface="Arial"/>
                </a:rPr>
                <a:t>Архитектура Древнего Египт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80000" y="5373720"/>
              <a:ext cx="456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Презентацию подготовил учитель М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БМОУ СОШ № 15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Ястребова Ирина Николае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611280" y="1413000"/>
              <a:ext cx="2376360" cy="173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 Пирам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емь чудес св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ичины строительства пирамид   религиозная идея-воскрешение  после смерти. ( Дом для Ка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араон выделялся среди всех остальных      его гробница должна отличиться от гробниц его по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возникла первая пирамида фараона Джосера в Сакаре ( вблизи Мемфиса). Она состояла из шести ступеней своеобразная лестница облегчающая восхождение фараона на небо к богу 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число совпадает с количеством планет, включая землю, известных  египтянам.       Символизирует стадии, которые преодолевает душа в  загробном мире.  Под основанием высечены в скалистом грунте  кулуары и шахта, на дне которой помещалась погребальная камера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умией фара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812880"/>
            <a:ext cx="820908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 Пирамида Хуфу  (Хеопс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580500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ая большая пирамида ( 147м, - 7,5м за 10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 лет строили дорогу, по которой таскали камни, 20 лет стро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ирамиду, 100 тыс. человек меняли каждые три 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8836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072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Пирамида Хафра ( Хефре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6308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6,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933480"/>
            <a:ext cx="83516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3592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ирамида Менкаура ( Микерина), имеет трех спут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92360" y="925560"/>
            <a:ext cx="59752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80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Город и жилой д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Города имели строгую планировку. Улицы пересекались под прямым уг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В центре возводили дома дворец и святилище, казармы и склады, дома  вельмож, на окраинах дома ремесленников и бедня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Строительный материал – обмазанный глиной тростник, кирпич из ила с соломой, камень для монументальных соору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Характер жилища – правильной прямоугольной формы с длинными коридорами, рядом маленьких комнат и залов с внутренними колоннами. Дома были ориентированы на север и выходили в с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Arial"/>
              </a:rPr>
              <a:t>Пирамиды Гизы – рукотворные горы, памятники народного горя, бессмысленного расточительства сил, жесткой и деспотичной власти фара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фин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ядом с тремя пирамидами стоит 20 метровая статуя с туловищем льва и человеческой головой в царском головном убору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фин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360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финкс - грандиозная скульптура (высота более 20 метров, длина 57 метров), расположенная в Египте в комплексе пирамид Гиза. По мнению некоторых исследователей это и одна из самых древних и самых загадочных стату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Большой Сфинкс "болен". Время и люди не пощадили его. Особенно постарались люди. Один из правителей Египта приказал отбить нос у каменного изваяния. В начале восемнадцатого века другой самодур из наполеоновского войска обстрелял лицо скульптуры из пушек, другие солдаты палили в глаза Сфинкса из ружей. Английские лорды отбили гигантскую каменную бороду и увезли в Британский музей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альнейшем искусство строительства пирамид пришло в упадок ( во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сутствие денежных средст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реднем царстве фараоны возводили себе пирамиды, но более скромные по размерам и из кирпи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ыт показал, что пирамиды не мо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ить покой их владельцам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бителей стали высекать гробницы в мрачном ущелье на западном берегу Нила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     Долина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ра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вое цар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ое внимание – строительству храмов, которое велось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х направления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ем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ска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альные храмовые комплек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емные храм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яли в плане вытяну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оугольник, окруженный массивной сте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воротам которого ведет дорога от Ни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рашенная по обеим сторонам стату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инксов. Фасад оформляли в виде пил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трапециевидные башни с покатыми стенам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кой дверью между ними). Перед пило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гантские статуи фараонов и позолоч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ли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ам состоял из трех частей, расположенных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й оси: большой двор; зал с множест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он; молельня, в которой находится ладья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уями бога, его жены и сы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л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18820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рам Амона –Ра в Карна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19324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07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47545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638172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огах у фараона изображали его маленькую, но преданную же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44132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424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рам Амона – Ра в Луксор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1160640"/>
            <a:ext cx="82072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490680"/>
            <a:ext cx="82803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Захоро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ыс. до н.э. могилы имели круглую или овальную яму, покрытую ветками или цино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появляются прямоугольные со стенами из кирпича-сырца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стены смыкались, образуя ложный свод из выступающих один над другим           кирпичей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ннее царств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ма бедняков по прежнему из тростника и глины, дома  богатых из кирпича-сыр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емная часть гробниц царей и вельмож- прямоугольное в плане  помещение для статуй богов и жертвенника перед ложной двер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гробницах строили заупокойные храмы, где совершались обряды, посвященные умерш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13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альные храмовые комплекс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ставляет собой перевернутую букв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Т» , фасад вырубали в наружной части скалы, все остальные помещения ш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глуб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рам Рамсес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Абу – Симбел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м состоит из 2х сооружений: Большого храма( посвящен Рамсес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мону, Ра, Птаху); Малый храм ( в честь богини Хатхо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05816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3938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толок первого зала храма поддерживается восемью статуями бога Осириса.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2072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ускальные заупокойные храм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четали наземные помещения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ельней, вырубленной в ск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616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рам царицы Хатшепсу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ит из трех широких терр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нимающимися одна над друг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единенными пологими панду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еткие и строги линии белой колоннады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их пор ярко выделяются на фоне жел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кал. Внутренняя отделка пораж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огатством и изысканностью  вку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ронзовая инкрустация на дверях из чер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ерева, золоченые посеребренные плиты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армонируют с раскрашенными рельефами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те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зднее царств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тяжелых воин и иноземных вторжений. Храмовые постройки – упрощенные варианты Среднего и Нового цар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ое – храмы посвященные богу Го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4560" y="474840"/>
            <a:ext cx="799632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Древнее цар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бницы знати – мастаба ( скамь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таба состояла из подземной части, г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ял саркофаг с мумией, и  масси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земной постройки. С восточной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лась  ложная д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стабе было спец. помещение – сердаб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е соединялось с гробницей окошечк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там помещали статую умершего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, если что случиться с мум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рам бога Гора в Эдфу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959280" cy="570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242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08360" y="6165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 колонны-бутона,  колонны-ц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6093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оначальная форма каменной колонны-бу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765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620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1979640" cy="518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2068560" cy="5121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659640" y="765000"/>
            <a:ext cx="19098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093000"/>
            <a:ext cx="41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дорическая коло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6165720"/>
            <a:ext cx="58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онна-бутон и колонна-цветок эпохи Древнего цар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1930320" cy="5057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35640" y="907920"/>
            <a:ext cx="235584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355680"/>
            <a:ext cx="820728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4280" y="1212840"/>
            <a:ext cx="67154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654120"/>
            <a:ext cx="82072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3:51:52Z</dcterms:created>
  <dc:creator>Администратор</dc:creator>
  <dc:description/>
  <dc:language>en-US</dc:language>
  <cp:lastModifiedBy>Администратор</cp:lastModifiedBy>
  <dcterms:modified xsi:type="dcterms:W3CDTF">2011-11-20T19:11:55Z</dcterms:modified>
  <cp:revision>15</cp:revision>
  <dc:subject/>
  <dc:title>Слайд 1</dc:title>
</cp:coreProperties>
</file>