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09F-E009-461D-AD78-7B8C9C03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67B-452C-4428-9EB7-6CF92D3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596-BB83-4D64-9861-E307A0A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484-36F0-4F66-8251-6654994B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519-B1C4-46E9-BD09-910C998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1A0-4242-44F4-8CFF-4810818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C77-D407-4B8D-B6DD-0736AC27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AF3-BFAA-4C27-BA22-4281BAD9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CF3-60D3-4194-95AB-435FC3AB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DDC-713B-4842-AFDF-1299471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52A-4B33-47E3-879B-29D5784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8EB-31F9-42EB-B467-307E716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453-58FC-45F1-B856-5A3DA6CC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ЗАНЯТОСТЬ И БЕЗРАБО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Функционирование рынк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45" name="_s3089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8"/>
            <p:cNvCxnSpPr>
              <a:stCxn id="49" idx="0"/>
              <a:endCxn id="47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7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8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800000"/>
                  </a:solidFill>
                  <a:latin typeface="Arial"/>
                </a:rPr>
                <a:t>Заработная плата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о цена труд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Arial"/>
                </a:rPr>
                <a:t>Функ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производи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имулирую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Выраж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неж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тур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Разм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омина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он спроса и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вень ЗП в отрасли и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ы предприним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ровень ЗП в отра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атериальное положение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Трудоспособное население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родолжительность рабоч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cc00"/>
                </a:solidFill>
                <a:latin typeface="Arial"/>
              </a:rPr>
              <a:t>Занятость: полная, части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2800" y="1614600"/>
            <a:ext cx="8208000" cy="4462920"/>
            <a:chOff x="442800" y="1614600"/>
            <a:chExt cx="8208000" cy="4462920"/>
          </a:xfrm>
        </p:grpSpPr>
        <p:cxnSp>
          <p:nvCxnSpPr>
            <p:cNvPr id="57" name="_s12306"/>
            <p:cNvCxnSpPr>
              <a:stCxn id="58" idx="3"/>
              <a:endCxn id="59" idx="2"/>
            </p:cNvCxnSpPr>
            <p:nvPr/>
          </p:nvCxnSpPr>
          <p:spPr>
            <a:xfrm flipV="1">
              <a:off x="6125040" y="4403520"/>
              <a:ext cx="631800" cy="111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2303"/>
            <p:cNvCxnSpPr>
              <a:stCxn id="59" idx="0"/>
              <a:endCxn id="61" idx="2"/>
            </p:cNvCxnSpPr>
            <p:nvPr/>
          </p:nvCxnSpPr>
          <p:spPr>
            <a:xfrm flipV="1" rot="16200000">
              <a:off x="5372640" y="1903680"/>
              <a:ext cx="558360" cy="2210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2302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162960" y="1903320"/>
              <a:ext cx="558360" cy="22107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2298"/>
            <p:cNvSpPr/>
            <p:nvPr/>
          </p:nvSpPr>
          <p:spPr>
            <a:xfrm>
              <a:off x="2653200" y="161460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00"/>
                  </a:solidFill>
                  <a:latin typeface="Arial"/>
                </a:rPr>
                <a:t>Безработиц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2299"/>
            <p:cNvSpPr/>
            <p:nvPr/>
          </p:nvSpPr>
          <p:spPr>
            <a:xfrm>
              <a:off x="442800" y="328824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Доброволь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2300"/>
            <p:cNvSpPr/>
            <p:nvPr/>
          </p:nvSpPr>
          <p:spPr>
            <a:xfrm>
              <a:off x="4862520" y="328824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ынужден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2305"/>
            <p:cNvSpPr/>
            <p:nvPr/>
          </p:nvSpPr>
          <p:spPr>
            <a:xfrm>
              <a:off x="2336760" y="4961880"/>
              <a:ext cx="378828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Фрик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труктур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цикл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оль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6" name="_s15397"/>
            <p:cNvCxnSpPr>
              <a:stCxn id="67" idx="0"/>
              <a:endCxn id="68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5396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5392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Регулирование рын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93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Косвенно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5394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Прямо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7:34:54Z</dcterms:created>
  <dc:creator>Admin</dc:creator>
  <dc:description/>
  <dc:language>en-US</dc:language>
  <cp:lastModifiedBy>Admin</cp:lastModifiedBy>
  <dcterms:modified xsi:type="dcterms:W3CDTF">2010-11-29T17:54:51Z</dcterms:modified>
  <cp:revision>4</cp:revision>
  <dc:subject/>
  <dc:title>РЫНОК ТРУДА</dc:title>
</cp:coreProperties>
</file>