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6D31E-9887-48CA-8FA2-8DA18F9E31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C99-DD5F-4440-BD00-8C73B3FE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3B73-9495-4ECF-9BCD-A1A64E071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CD3B-7E56-4FD8-916A-09627C81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376-450F-4C46-820C-87813F85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7A55-5934-4855-931B-259293A04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60D3-CDE8-4F40-9248-DA7505B3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17CA-53D9-4B35-B825-25C29BD6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FE45-FD8F-4243-B827-EA152C92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3997-C01B-473E-97BD-30B390C8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C650-26F3-4B57-9892-195FD92F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F65F1-FF7D-418C-8357-DEB575DB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032-0D2A-4C0E-843B-CEB370D6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1B99-5742-4084-AF81-2686E4CD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E542-696B-4046-B8B6-CD4BA0AF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356D-0603-4386-BFBD-B84AB746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8087-DAA5-4FD1-A10E-89951F0E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916F-66C4-47F3-9E4F-5F557406C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16A0-8731-459D-9AF5-B1E43E87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699-F58C-471B-AEDC-9CFC3DD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41B-8B5D-4A1E-8147-76B98ACE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7F96-85F2-46FD-8765-FD0A46D2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9BE-62B2-4697-A4BC-1884DBD4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D218-0404-4C21-836A-0018748A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CAC3-C0CD-4874-BC04-5FAAAD5A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1BC7-CA70-414D-8AF4-62C4E910083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604E4-CA71-4CA5-8C95-2555826EE657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21415s07.edusite.ru/fotogalereya/!raznoe20/eg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987640" y="5013360"/>
            <a:ext cx="4680000" cy="1313640"/>
          </a:xfrm>
          <a:prstGeom prst="rect">
            <a:avLst/>
          </a:prstGeom>
          <a:noFill/>
          <a:ln w="38160">
            <a:solidFill>
              <a:srgbClr val="443d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Автор презентации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учитель истории и обществознания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ГОУ СОШ № 1968 г. Москвы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вчинникова Марина Владимировн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Картинка 50 из 95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565360"/>
            <a:ext cx="3025800" cy="2266920"/>
          </a:xfrm>
          <a:prstGeom prst="rect">
            <a:avLst/>
          </a:prstGeom>
          <a:ln w="57240">
            <a:solidFill>
              <a:srgbClr val="443dcb"/>
            </a:solidFill>
            <a:miter/>
          </a:ln>
        </p:spPr>
      </p:pic>
      <p:sp>
        <p:nvSpPr>
          <p:cNvPr id="201" name=""/>
          <p:cNvSpPr txBox="1"/>
          <p:nvPr/>
        </p:nvSpPr>
        <p:spPr>
          <a:xfrm>
            <a:off x="2843280" y="2924280"/>
            <a:ext cx="51242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готовка к ЕГЭ,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                     </a:t>
            </a:r>
            <a:r>
              <a:rPr b="0" lang="en-US" sz="2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ние С9            </a:t>
            </a:r>
            <a:endParaRPr b="0" lang="en-US" sz="2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476360" y="1341360"/>
            <a:ext cx="5975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ини-сочинение (эссе)</a:t>
            </a:r>
            <a:endParaRPr b="0" lang="en-US" sz="3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900000" y="333360"/>
            <a:ext cx="62658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ществоведческо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63480" y="466560"/>
            <a:ext cx="562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2f1311"/>
                </a:solidFill>
                <a:latin typeface="Arial"/>
              </a:rPr>
              <a:t>Система оценивания эсс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3960" y="1125360"/>
            <a:ext cx="6997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К1 - оценивает раскрытие смысл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высказывания (1 балл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К2 – оценивает представление и пояснение собственно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позиции (1 балл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К3 – оценивает характер и уровень приводимых суждени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и аргументов (3 балла)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7" name="i-main-pic" descr="Картинка 138 из 7687"/>
          <p:cNvPicPr/>
          <p:nvPr/>
        </p:nvPicPr>
        <p:blipFill>
          <a:blip r:embed="rId1"/>
          <a:stretch/>
        </p:blipFill>
        <p:spPr>
          <a:xfrm>
            <a:off x="0" y="4797360"/>
            <a:ext cx="5219640" cy="2060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38" name=""/>
          <p:cNvSpPr/>
          <p:nvPr/>
        </p:nvSpPr>
        <p:spPr>
          <a:xfrm>
            <a:off x="5324040" y="4797360"/>
            <a:ext cx="2323440" cy="1922760"/>
          </a:xfrm>
          <a:prstGeom prst="rect">
            <a:avLst/>
          </a:prstGeom>
          <a:noFill/>
          <a:ln w="57240">
            <a:solidFill>
              <a:srgbClr val="e505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За задание С9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максимальн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можно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получить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5 баллов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A12-B697-4771-8732-0AD3DF9B1C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985400" y="404640"/>
            <a:ext cx="33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Достоинства эсс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1800" y="1341360"/>
            <a:ext cx="8030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аткая информация об авторе высказывания       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: Тойнби – британский культуролог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  концепции локальных цивилизаци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писание различных точек зрения на проблему или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ичных подходов к её решению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личие указания на многозначность используемых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ий и терминов с обоснованием того значения,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отором они применяются в эссе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присутствие указания на альтернативные варианты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решения проблемы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D4A-4DE2-4CA2-BF8D-2EC2BBC317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21360" y="189000"/>
            <a:ext cx="70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Типичные ошибки при написании эсс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692280"/>
            <a:ext cx="657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Сущность проблемы понята неверно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Текст эссе не соответствует обозначенной тем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е представлена личная позиция выпускник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Не раскрыта поднимаемая проблем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5.  Нет теоретического обоснова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6.  Нет фактического материала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7.  Ошибки в употреблении понятий, фактические ошибки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8.  Приведены примеры на бытовом уровне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9.  Нарушена логика и последовательность изложе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10. Нет обобщени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3" name="i-main-pic" descr="Картинка 118 из 18985"/>
          <p:cNvPicPr/>
          <p:nvPr/>
        </p:nvPicPr>
        <p:blipFill>
          <a:blip r:embed="rId1"/>
          <a:stretch/>
        </p:blipFill>
        <p:spPr>
          <a:xfrm>
            <a:off x="5796000" y="1628640"/>
            <a:ext cx="1958760" cy="24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637-F533-4C9E-90CA-5BCCB45CA5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037240" y="40464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d47d"/>
                </a:solidFill>
                <a:latin typeface="Arial Black"/>
              </a:rPr>
              <a:t>Список литературы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720" y="1125360"/>
            <a:ext cx="6810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Спецификация контрольных измерительных материалов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для проведения в 2011 году единого государственного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экзамена по обществознанию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Рутковская Е.Л., Котова О.А., Лискова Т.Е. Отличник ЕГЭ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Обществознание. Решение сложных заданий. ФИПИ. – М.: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Интеллект – Центр, 2010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Маркин С.А. ЕГЭ. Обществознание. Выполнение заданий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части С. – М.: Айрис-пресс, 2011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Половникова А.В., Маслова Н.Н. Обществознание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Задания с развёрнутым ответом. Часть С. – М.: АСТ-Астрель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010. 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556-E40B-4008-BA42-FCB41A4048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5156-E009-4883-BA06-6FE890C7A7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250920" y="333360"/>
            <a:ext cx="201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эссе -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05" name="" descr="Картинка 34 из 18985"/>
          <p:cNvPicPr/>
          <p:nvPr/>
        </p:nvPicPr>
        <p:blipFill>
          <a:blip r:embed="rId1"/>
          <a:stretch/>
        </p:blipFill>
        <p:spPr>
          <a:xfrm>
            <a:off x="179280" y="3933720"/>
            <a:ext cx="2630520" cy="2768760"/>
          </a:xfrm>
          <a:prstGeom prst="rect">
            <a:avLst/>
          </a:prstGeom>
          <a:ln w="57240">
            <a:solidFill>
              <a:srgbClr val="443dcb"/>
            </a:solidFill>
            <a:miter/>
          </a:ln>
        </p:spPr>
      </p:pic>
      <p:sp>
        <p:nvSpPr>
          <p:cNvPr id="206" name=""/>
          <p:cNvSpPr/>
          <p:nvPr/>
        </p:nvSpPr>
        <p:spPr>
          <a:xfrm>
            <a:off x="2124000" y="333360"/>
            <a:ext cx="5513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прозаическое произведени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небольшого объёма, которое написано в свободной форм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2244600"/>
            <a:ext cx="656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В переводе с французского язык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это попытка, проба, очерк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916360" y="3213000"/>
            <a:ext cx="5149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Эссе выражает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индивидуальное мнени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автор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f1311"/>
                </a:solidFill>
                <a:latin typeface="Arial"/>
              </a:rPr>
              <a:t>В эссе автор делится своими раздумьями и переживаниям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A912-6444-4E4A-B4A9-A69FA8635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189000"/>
            <a:ext cx="74898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dad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Эссе предполагает соблюдение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определённых условий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407a1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личие конкретной темы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f131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43dc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ебольшой объём сочинения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43dc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личностный взгляд на проблему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f131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43dc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вобода и непринуждённость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изложения автором своих мыслей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2f1311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443dcb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ногоаспектный взгляд на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поставленную проблему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Картинка 61 из 36479"/>
          <p:cNvPicPr/>
          <p:nvPr/>
        </p:nvPicPr>
        <p:blipFill>
          <a:blip r:embed="rId1"/>
          <a:stretch/>
        </p:blipFill>
        <p:spPr>
          <a:xfrm rot="853800">
            <a:off x="5579640" y="4824360"/>
            <a:ext cx="2305080" cy="2033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 rot="5400000">
            <a:off x="-2187000" y="3131280"/>
            <a:ext cx="56880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эссе</a:t>
            </a:r>
            <a:endParaRPr b="0" lang="en-US" sz="1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F98E-F0CD-4E88-8198-CC238166CC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47840" y="1144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557360"/>
            <a:ext cx="77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f94e7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f94e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тема эссе часто выражена в           форме проблемного высказывания (иногда афористического суждения)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следовательно, необходимо выявить проблему, а затем раскрыть её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4724280"/>
            <a:ext cx="7418520" cy="1313640"/>
          </a:xfrm>
          <a:prstGeom prst="rect">
            <a:avLst/>
          </a:prstGeom>
          <a:noFill/>
          <a:ln w="57240">
            <a:solidFill>
              <a:srgbClr val="443d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«Регресс имел место так же часто, как и прогресс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Герберт Спенсер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«Некоторые неписаные законы твёрже всех писаных»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Сенека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4000" y="404640"/>
            <a:ext cx="6994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обенности обществоведческого э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A926-EB8D-4D03-8C3F-4190FF03D1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0920" y="1413000"/>
            <a:ext cx="756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3dcb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изначально задаётся контекст одной из базовых наук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интегрального обществоведческого курса (право, экономика…)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Это означает необходимость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использовать для раскрытия темы,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понятийно-терминологический аппарат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и теоретические знания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соответствующей контексту науки.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676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3120" y="553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404640"/>
            <a:ext cx="7281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обенности обществоведческого эсс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22B4-9EA3-461F-8F5F-BB7D40C8AB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 rot="5400000">
            <a:off x="-2862360" y="3122280"/>
            <a:ext cx="6408720" cy="6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лгоритм работы над эсс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18900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eb8d"/>
                </a:solidFill>
                <a:latin typeface="Arial"/>
              </a:rPr>
              <a:t>Шаг первый – 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eb8d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deeb8d"/>
                </a:solidFill>
                <a:latin typeface="Arial"/>
              </a:rPr>
              <a:t>выбираем  тему  эссе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1773360"/>
            <a:ext cx="6840720" cy="51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При выборе темы  обращаем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внимание на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научный контекст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характер темы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понимание сущности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                           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высказывани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возможность создания логической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схемы раскрытия проблемы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695600" cy="1944360"/>
          </a:xfrm>
          <a:prstGeom prst="rect">
            <a:avLst/>
          </a:prstGeom>
          <a:ln w="57240">
            <a:solidFill>
              <a:srgbClr val="443dcb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AC42-15D5-4D65-8732-7FD9FD6C19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19120" y="639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 rot="5400000">
            <a:off x="-2701440" y="3140640"/>
            <a:ext cx="64087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лгоритм работы над эсс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03280" y="274680"/>
            <a:ext cx="619308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eb8d"/>
                </a:solidFill>
                <a:latin typeface="Arial"/>
              </a:rPr>
              <a:t>Шаг второй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выявляем главную проблему, поднятую в высказывани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обозначаем её актуальность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определяем аспекты общей тем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поясняем авторское высказывани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7" name="i-main-pic" descr="Картинка 14 из 7687"/>
          <p:cNvPicPr/>
          <p:nvPr/>
        </p:nvPicPr>
        <p:blipFill>
          <a:blip r:embed="rId1"/>
          <a:stretch/>
        </p:blipFill>
        <p:spPr>
          <a:xfrm>
            <a:off x="4356000" y="3933720"/>
            <a:ext cx="3168720" cy="1527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A93E-322A-44C7-B08B-2C945BC530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3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 rot="5400000">
            <a:off x="-2485080" y="2996280"/>
            <a:ext cx="61930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лгоритм работы над эсс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58920" y="0"/>
            <a:ext cx="63403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eb8d"/>
                </a:solidFill>
                <a:latin typeface="Arial"/>
              </a:rPr>
              <a:t>Шаг третий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формулируем свою точку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рения по проблеме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аргументируем свою точку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рения, используя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c10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теоретические положени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c10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ссылки на личный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социальный опыт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c10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ссылки на мнения других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известных авторов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c10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ссылки на факторы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             </a:t>
            </a: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общественной жизн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c10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deeb8d"/>
                </a:solidFill>
                <a:latin typeface="Arial"/>
              </a:rPr>
              <a:t>примеры из истори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fc102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1FA-3DB9-4A5C-BCFC-751614291F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31840" y="423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 rot="5400000">
            <a:off x="-2485080" y="2996280"/>
            <a:ext cx="61930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Алгоритм работы над эссе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368280"/>
            <a:ext cx="698508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eeb8d"/>
                </a:solidFill>
                <a:latin typeface="Arial"/>
              </a:rPr>
              <a:t>Шаг четвёртый: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проверяем раскрывает ли наше сочинение несколько аспектов проблемы, содержит ли необходимые аргумент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делаем выводы и обобщения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407a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записываем ответ в бланк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i-main-pic" descr="Картинка 99 из 7687"/>
          <p:cNvPicPr/>
          <p:nvPr/>
        </p:nvPicPr>
        <p:blipFill>
          <a:blip r:embed="rId1"/>
          <a:stretch/>
        </p:blipFill>
        <p:spPr>
          <a:xfrm>
            <a:off x="2268360" y="5013360"/>
            <a:ext cx="3529080" cy="1725480"/>
          </a:xfrm>
          <a:prstGeom prst="rect">
            <a:avLst/>
          </a:prstGeom>
          <a:ln w="57240">
            <a:solidFill>
              <a:srgbClr val="443dcb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267-54DC-48DA-8DFD-2E1A4F210E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15:51:44Z</dcterms:created>
  <dc:creator>оксана  кравченко</dc:creator>
  <dc:description/>
  <dc:language>en-US</dc:language>
  <cp:lastModifiedBy>оксана  кравченко</cp:lastModifiedBy>
  <dcterms:modified xsi:type="dcterms:W3CDTF">2011-08-19T05:21:24Z</dcterms:modified>
  <cp:revision>19</cp:revision>
  <dc:subject/>
  <dc:title>Слайд 1</dc:title>
</cp:coreProperties>
</file>