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3B42-A810-43B9-9715-C25B5699A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053F-C0C8-497B-BC94-7C04E39E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6106-1A06-4E3A-AEAF-2367C792F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04D1-F5BD-4A14-9FD7-55A57A6B0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3853-4D29-4A4C-BBB1-67E346F44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F5C2-428C-4B2B-B999-52CE182A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377E-B030-4F1A-A04C-E4E19B18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0DFD-C62E-4722-B430-23A775ED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6DBE-182C-47FC-8F4D-06D506F0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843D-351A-4A6E-8D11-703C0FA5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3936-0616-4497-92A2-ECB9C683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719D-70EC-4348-99AC-0BC51E6C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30CE-33AA-4FDC-A621-4A4D5FC2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655A-1874-4E9A-AA26-4EDC7264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BA30-9E13-4270-B5CA-0916E00C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3171-47F1-41A3-82BE-7AC8533E5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3FF5-1208-4740-A0D1-C20EC6AE3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ADF2-7B70-4411-9A87-C68527F8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0C51-30C0-418F-9536-0D4A961A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C63D-25AB-4AFB-8357-BDCEF5AE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CC8D-3D68-4E71-B701-E812C9F7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630F-7069-40F3-95A0-87103B74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9572-6EC9-4171-A248-85B197D5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FC96-A58E-4988-8BEA-4471D832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C45D-C58C-4E3A-B04F-9E49EF45AAB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CB67-41E8-4651-966F-6EDD0AB9BD4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35956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Автор презентации: 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Сидоренко Галина Ибрагимовна,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 заместитель директора по методической работе 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муниципального общеобразовательного учреждения 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 «Средняя общеобразовательная школа №2» 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г. Мегиона, Ханты -Мансийского автономного округа – Югры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2011г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Дидактическая эвристик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Дидактическая теория, предполагающая построение образования на основе творческой самореализации учащихся и педагогов в процессе создания ими образовательных продуктов в изучаемых областях знаний и деятельности, называется 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дидактической эвристикой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(А. В. Хуторской).</a:t>
            </a:r>
            <a:br>
              <a:rPr sz="2500"/>
            </a:b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Дидактическая эвристик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цель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: раскрытие индивидуальных возможностей самих творцов — учеников и учителей с помощью их деятельности по созданию образовательных продуктов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Задача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эвристической образовательной деятельности — конструирование учеником своего образования через создание продуктов, входящих в содержание этого образования. Внешний образовательный продукт участника образования обеспечивает получение им внутреннего продукта — изменение знаний, опыта, способностей, способов деятельности, других личностных качеств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бразовательный продукт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75200" indent="-47520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материализованные продукты деятельности ученика в виде суждений, текстов, рисунков, поделок и т. п.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5200" indent="-47520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изменения личностных качеств ученика, развивающихся в учебном процессе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52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52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е составляющие — материальная и личностная— создаются одновременно в ходе конструирования учеником индивидуального образовательного процесса.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Творческая самореализация ученика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1827360"/>
            <a:ext cx="814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оздание учащимися образовательной продукции в изучаемых областях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своение ими базового содержания этих областей через сопоставление с собственными результатами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ыстраивание индивидуальной образовательной траектории ученика в каждой из образовательных областей с опорой на личностные качеств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рганизация учебного процесс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мнение, суждение или предположение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оформление и выражение мысли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анализ творческой продукции;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сопоставление с культурно-историческими аналогами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рефлексия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оектирование урок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разовательная программа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уровень подготовки детей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личие методического инструментария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пецифика имеющихся условий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тип урока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формы и методы, которые помогут ученикам создать необходимый образовательный продукт и достичь главных целей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900"/>
                            </p:stCondLst>
                            <p:childTnLst>
                              <p:par>
                                <p:cTn id="3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Требования к разрабатываемым открытым заданиям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адания должны относиться к конкретному базовому вопросу, теме или объекту изучения, обозначенному в учебной программе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адания не должны иметь заранее известного для учителя решения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формулировка задания должна быть интересна или необычна как для учеников, так и для автора — учителя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Задания когнитивного типа: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Научная проблема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Исследование объекта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Структура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Опыт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«Восстановление» истории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Доказательство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Общее в разном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Перевод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Разнонаучное познани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0"/>
                            </p:stCondLst>
                            <p:childTnLst>
                              <p:par>
                                <p:cTn id="3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6000"/>
                            </p:stCondLst>
                            <p:childTnLst>
                              <p:par>
                                <p:cTn id="3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000"/>
                            </p:stCondLst>
                            <p:childTnLst>
                              <p:par>
                                <p:cTn id="3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8000"/>
                            </p:stCondLst>
                            <p:childTnLst>
                              <p:par>
                                <p:cTn id="3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6666"/>
                </a:solidFill>
                <a:uFillTx/>
                <a:latin typeface="Arial"/>
              </a:rPr>
              <a:t>Задания креативного типа</a:t>
            </a:r>
            <a:r>
              <a:rPr b="0" i="1" lang="ru-RU" sz="3600" spc="-1" strike="noStrike">
                <a:solidFill>
                  <a:srgbClr val="00666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6560" y="1827360"/>
            <a:ext cx="4132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Изобретение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«Проживание» истории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Образ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Эмпатия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Жанры текст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Сочинение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Составление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Изготовление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Учебное пособие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943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6" descr="IMG_0215"/>
          <p:cNvPicPr/>
          <p:nvPr/>
        </p:nvPicPr>
        <p:blipFill>
          <a:blip r:embed="rId1"/>
          <a:stretch/>
        </p:blipFill>
        <p:spPr>
          <a:xfrm>
            <a:off x="4356000" y="1628640"/>
            <a:ext cx="4392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8" dur="10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6666"/>
                </a:solidFill>
                <a:uFillTx/>
                <a:latin typeface="Arial"/>
              </a:rPr>
              <a:t>Задания оргдеятельностного типа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827360"/>
            <a:ext cx="316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Цели.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Планы.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Выступление.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Рефлексия.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Оценка.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943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5" descr="DSC00342"/>
          <p:cNvPicPr/>
          <p:nvPr/>
        </p:nvPicPr>
        <p:blipFill>
          <a:blip r:embed="rId1"/>
          <a:stretch/>
        </p:blipFill>
        <p:spPr>
          <a:xfrm>
            <a:off x="3348000" y="1700280"/>
            <a:ext cx="5472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1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8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5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Творческие возможности  и способности ученик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Segoe Script"/>
              </a:rPr>
              <a:t>Кто испытал наслаждение творчества, для того все другие наслаждения не существуют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Segoe Script"/>
              </a:rPr>
              <a:t>А.П.Чехов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Этапы разработки эвристического занятия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тбор образовательных объектов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ыделение основных видов деятельности учеников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Фиксирование формы возможного образовательного продукт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пределение эвристических методов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Запись эвристического задания в общем структурном вид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Формулировка текста задания с учетом его занимательност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7639200" cy="17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Monotype Corsiva"/>
              </a:rPr>
              <a:t>«Навыки продуктивного и творческого мышления приобретаются в школе лишь как следствие репродуктивного усвоения (поскольку знание — основа продуктивного мышления) и частично — в ходе решения задач».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Monotype Corsiva"/>
              </a:rPr>
              <a:t>                                                                                                        М. И. Махмутов</a:t>
            </a:r>
            <a:r>
              <a:rPr b="0" lang="ru-RU" sz="1800" spc="-1" strike="noStrike">
                <a:solidFill>
                  <a:srgbClr val="006666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продуктивная деятельность — подготовительный этап к проявлению познавательной деятельности более высоких уровней: эвристического и исследовательского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66"/>
                </a:solidFill>
                <a:latin typeface="Monotype Corsiva"/>
              </a:rPr>
              <a:t>Спасибо за      внимание!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395280" y="802800"/>
            <a:ext cx="8748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Творчество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— процесс человеческой деятельности, создающий качественно новые материальные и духовные ценности или итог создания субъективно новог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SAM_0004"/>
          <p:cNvPicPr/>
          <p:nvPr/>
        </p:nvPicPr>
        <p:blipFill>
          <a:blip r:embed="rId1"/>
          <a:srcRect l="0" t="6667" r="43589" b="-2186"/>
          <a:stretch/>
        </p:blipFill>
        <p:spPr>
          <a:xfrm>
            <a:off x="971640" y="4005360"/>
            <a:ext cx="30956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тадии творческого мышления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Подготовка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— формулирование задачи; попытки её решени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Инкубация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— временное отвлечение от задачи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Озарение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— появление интуитивного решени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Проверка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— испытание и/или реализация решени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539640" y="1591200"/>
            <a:ext cx="79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…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То, что проявляется как творчество — это всегда процесс… в котором осуществляется взаимосвязь личности и мира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.Мэ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Творческий акт всегда есть освобождение и преодоление. В нём есть переживание силы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. А. Бердя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Креативность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Креативность (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т англ. create — создавать) — </a:t>
            </a:r>
            <a:r>
              <a:rPr b="0" lang="ru-RU" sz="2900" spc="-1" strike="noStrike">
                <a:solidFill>
                  <a:srgbClr val="000000"/>
                </a:solidFill>
                <a:latin typeface="Monotype Corsiva"/>
              </a:rPr>
              <a:t>творческие способности индивида, характеризующиеся готовностью к созданию принципиально новых идей, отклоняющихся от традиционных или принятых схем мышления и входящие в структуру одаренности в качестве независимого фактора, а так же способность решать проблемы, возникающие внутри статичных систем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233280" y="234720"/>
            <a:ext cx="8982000" cy="56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Креативные способности: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беглость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гибкость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оригинальность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пособность видеть суть проблем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пособность сопротивляться стереотипам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Условия, способствующие созидательному творчеству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3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56016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агностика и самодиагностика ученика, позволяющая ему узнать свой образовательный потенциал, строить собственный путь в образовании, чувствовать веру учителей и родителей в реализацию своих возможносте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ирование у учащегося личностной системы самооценок с целью уменьшения зависимости его творческой самореализации от внешних услов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владение учителем технологией сопровождающего отношения к индивидуальному образовательному процессу каждого учени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воение и применение учащимися методик выражения внутренних качеств состояний и процессов с помощью внешних продуктов деятельности, в том числе знакового и символического тип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500"/>
                            </p:stCondLst>
                            <p:childTnLst>
                              <p:par>
                                <p:cTn id="1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950"/>
                            </p:stCondLst>
                            <p:childTnLst>
                              <p:par>
                                <p:cTn id="1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1750"/>
                            </p:stCondLst>
                            <p:childTnLst>
                              <p:par>
                                <p:cTn id="13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Эвристическая деятельность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включает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) сами творческие процессы по созданию образовательной продукции в учебных предметах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б) познавательные процессы, неизбежные и необходимые для сопровождения творчества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) организационные, методологические, психологические и иные процессы, которые обеспечивают творческую и познавательную деятельность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5:37:12Z</dcterms:created>
  <dc:creator>Галина</dc:creator>
  <dc:description/>
  <dc:language>en-US</dc:language>
  <cp:lastModifiedBy>ПК</cp:lastModifiedBy>
  <dcterms:modified xsi:type="dcterms:W3CDTF">2012-01-12T18:39:16Z</dcterms:modified>
  <cp:revision>29</cp:revision>
  <dc:subject/>
  <dc:title>Творческие возможности  и способности учен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