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692-9EBA-48C7-9209-5D0478243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38A-5917-41E1-BD48-91B10ED53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486-FA27-4594-B697-DB576962D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C70-ED59-4DB4-91D7-9AA54A16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3EC-1740-47BE-8082-33B225B1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723-EEC3-4397-B05B-800B5602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1B9-5BD0-402B-8409-A9B44166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752-9016-4F4A-B6BD-33A155D3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42E-8797-42D7-94D8-637C882A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DCA-84F6-43DD-9361-73B5488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A58-F38C-4321-B935-9DD5E71A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2E2-3029-4581-AE13-A3DB94F8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4F2-21AD-4396-8E45-D9C2DAC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631-704D-4D7D-B009-17896420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2D7-35CE-4E2C-A159-E26A329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0B3E-1D73-41FC-8F90-CF0608AF480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" name="Содержимое 3" descr="stock-photo-business-man-working-with-laptop-over-white-background-10551256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050920" y="0"/>
            <a:ext cx="4824720" cy="7153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Значение предпринимательства для экономики государства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0" y="1268280"/>
            <a:ext cx="284328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74a3"/>
              </a:gs>
              <a:gs pos="50000">
                <a:srgbClr val="65a9ed"/>
              </a:gs>
              <a:gs pos="100000">
                <a:srgbClr val="4574a3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 рабо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843280" y="1197000"/>
            <a:ext cx="29527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00"/>
              </a:gs>
              <a:gs pos="50000">
                <a:srgbClr val="e5b07c"/>
              </a:gs>
              <a:gs pos="100000">
                <a:srgbClr val="cc66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ит нал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этим повыш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5867280" y="1197000"/>
            <a:ext cx="3276720" cy="30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3e6c"/>
              </a:gs>
              <a:gs pos="50000">
                <a:srgbClr val="6d85e9"/>
              </a:gs>
              <a:gs pos="100000">
                <a:srgbClr val="323e6c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сь получ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был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приним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осит новш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овые това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уги,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183852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09708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/>
          <p:cNvPicPr/>
          <p:nvPr/>
        </p:nvPicPr>
        <p:blipFill>
          <a:blip r:embed="rId4"/>
          <a:stretch/>
        </p:blipFill>
        <p:spPr>
          <a:xfrm>
            <a:off x="7380360" y="4437000"/>
            <a:ext cx="17636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2" descr=""/>
          <p:cNvPicPr/>
          <p:nvPr/>
        </p:nvPicPr>
        <p:blipFill>
          <a:blip r:embed="rId5"/>
          <a:stretch/>
        </p:blipFill>
        <p:spPr>
          <a:xfrm>
            <a:off x="5651640" y="4437000"/>
            <a:ext cx="1941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Фирм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– это коммерческая организация , приобретающая факторы производства с целью создания и продажи благ и получения на этой основе прибыли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15920"/>
            <a:ext cx="8229600" cy="49417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оздаются на добровольной основе, по желанию граждан;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дпринимательская деятельность без регистрации запрещена;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дпринимательство, осуществляемое без привлечения наёмного труд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индивидуальная трудовая деятельность;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дпринимательство с привлечением наёмных работников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предприятие (фирма)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рганизационно-правовые формы ведения предпринимательской деятельности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" y="836640"/>
          <a:ext cx="9074160" cy="6078600"/>
        </p:xfrm>
        <a:graphic>
          <a:graphicData uri="http://schemas.openxmlformats.org/drawingml/2006/table">
            <a:tbl>
              <a:tblPr/>
              <a:tblGrid>
                <a:gridCol w="2214720"/>
                <a:gridCol w="3000240"/>
                <a:gridCol w="3859200"/>
              </a:tblGrid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р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5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5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иму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51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дивидуальное пред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дприятием владеет один собственник, который ведет бизнес самостоятельно и полностью несет риск убытк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стота организации, ведения дела и ликвидации. Высокая степень свобо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вари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b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единение нескольких собственник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b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ие возможности развивать производств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b96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ционерное об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ганизация, созданная на основе объединения денежных средств посредством продажи акц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ие финансовые возможности. Может осуществлять крупные проек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104"/>
          <p:cNvSpPr/>
          <p:nvPr/>
        </p:nvSpPr>
        <p:spPr>
          <a:xfrm>
            <a:off x="2268360" y="1413000"/>
            <a:ext cx="2949840" cy="252072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5"/>
          <p:cNvSpPr/>
          <p:nvPr/>
        </p:nvSpPr>
        <p:spPr>
          <a:xfrm>
            <a:off x="5219640" y="1413000"/>
            <a:ext cx="3924360" cy="252072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6"/>
          <p:cNvSpPr/>
          <p:nvPr/>
        </p:nvSpPr>
        <p:spPr>
          <a:xfrm>
            <a:off x="2268360" y="3933720"/>
            <a:ext cx="2949840" cy="1079640"/>
          </a:xfrm>
          <a:prstGeom prst="rect">
            <a:avLst/>
          </a:prstGeom>
          <a:solidFill>
            <a:srgbClr val="fceb9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7"/>
          <p:cNvSpPr/>
          <p:nvPr/>
        </p:nvSpPr>
        <p:spPr>
          <a:xfrm>
            <a:off x="5219640" y="3933720"/>
            <a:ext cx="3924360" cy="1079640"/>
          </a:xfrm>
          <a:prstGeom prst="rect">
            <a:avLst/>
          </a:prstGeom>
          <a:solidFill>
            <a:srgbClr val="fceb9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8"/>
          <p:cNvSpPr/>
          <p:nvPr/>
        </p:nvSpPr>
        <p:spPr>
          <a:xfrm>
            <a:off x="2268360" y="5013360"/>
            <a:ext cx="2949840" cy="1844640"/>
          </a:xfrm>
          <a:prstGeom prst="rect">
            <a:avLst/>
          </a:prstGeom>
          <a:solidFill>
            <a:srgbClr val="fbdf53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9"/>
          <p:cNvSpPr/>
          <p:nvPr/>
        </p:nvSpPr>
        <p:spPr>
          <a:xfrm>
            <a:off x="5292720" y="5013360"/>
            <a:ext cx="3851280" cy="1844640"/>
          </a:xfrm>
          <a:prstGeom prst="rect">
            <a:avLst/>
          </a:prstGeom>
          <a:solidFill>
            <a:srgbClr val="fbdf53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Виды предпринимательства: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0" y="981000"/>
            <a:ext cx="3348000" cy="1008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42c13"/>
              </a:gs>
              <a:gs pos="50000">
                <a:srgbClr val="d85e28"/>
              </a:gs>
              <a:gs pos="100000">
                <a:srgbClr val="642c13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кий 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419640" y="981000"/>
            <a:ext cx="5724360" cy="1008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1492c"/>
              </a:gs>
              <a:gs pos="50000">
                <a:srgbClr val="699d5f"/>
              </a:gs>
              <a:gs pos="100000">
                <a:srgbClr val="31492c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0" y="2060640"/>
            <a:ext cx="3419640" cy="1081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74b63"/>
              </a:gs>
              <a:gs pos="50000">
                <a:srgbClr val="55a2d7"/>
              </a:gs>
              <a:gs pos="100000">
                <a:srgbClr val="274b63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ий 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564000" y="2060640"/>
            <a:ext cx="5580000" cy="1152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42c13"/>
              </a:gs>
              <a:gs pos="50000">
                <a:srgbClr val="d85e28"/>
              </a:gs>
              <a:gs pos="100000">
                <a:srgbClr val="642c13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 500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0" y="3213000"/>
            <a:ext cx="3492360" cy="1008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42c13"/>
              </a:gs>
              <a:gs pos="50000">
                <a:srgbClr val="d85e28"/>
              </a:gs>
              <a:gs pos="100000">
                <a:srgbClr val="642c13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пный бизн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3635280" y="3213000"/>
            <a:ext cx="5508720" cy="1081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1492c"/>
              </a:gs>
              <a:gs pos="50000">
                <a:srgbClr val="699d5f"/>
              </a:gs>
              <a:gs pos="100000">
                <a:srgbClr val="31492c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ыше нескольких тысяч 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0" y="4233960"/>
            <a:ext cx="3444840" cy="2624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492000" y="4519440"/>
            <a:ext cx="525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рочтите в учебнике тек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а стр.129-1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Малое  предприниматель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 чем преиму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малого предприниматель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16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ordArt 4" descr=""/>
          <p:cNvPicPr/>
          <p:nvPr/>
        </p:nvPicPr>
        <p:blipFill>
          <a:blip r:embed="rId1"/>
          <a:stretch/>
        </p:blipFill>
        <p:spPr>
          <a:xfrm>
            <a:off x="244440" y="2840040"/>
            <a:ext cx="85820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569440" cy="4176720"/>
          </a:xfrm>
          <a:prstGeom prst="rect">
            <a:avLst/>
          </a:prstGeom>
          <a:solidFill>
            <a:srgbClr val="cc6600">
              <a:alpha val="70000"/>
            </a:srgbClr>
          </a:solidFill>
          <a:ln w="126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Тема урока:</a:t>
            </a:r>
            <a:br>
              <a:rPr sz="4400"/>
            </a:br>
            <a:r>
              <a:rPr b="1" i="1" lang="ru-RU" sz="5400" spc="-1" strike="noStrike">
                <a:solidFill>
                  <a:srgbClr val="000000"/>
                </a:solidFill>
                <a:latin typeface="Century Gothic"/>
              </a:rPr>
              <a:t>Предпринимательская деятельность</a:t>
            </a:r>
            <a:endParaRPr b="1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54080" y="5329440"/>
            <a:ext cx="6570720" cy="4363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Основные вопросы: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редпринимательство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Личностные качества предпринимателя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начение предпринимательской деятельности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иды предпринимательства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Формы предпринимательства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Постановка проблемы: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5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g3097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 flipV="1">
            <a:off x="179280" y="1267920"/>
            <a:ext cx="8642520" cy="532944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 flipV="1">
            <a:off x="1116000" y="463320"/>
            <a:ext cx="802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 flipV="1" rot="10800000">
            <a:off x="468360" y="119592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 ДЕЯТЕЛЬНОСТЬ ПРЕДПРИНИМАТЕЛЕЙ В НАШЕЙ ЖИЗНИ.МЫ ПОКУПАЕМ У НИХ ПРОДУКТЫ, ТОВАРЫ И УСЛ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люди относятся к предпринимателям по-разному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7"/>
          <p:cNvSpPr/>
          <p:nvPr/>
        </p:nvSpPr>
        <p:spPr>
          <a:xfrm>
            <a:off x="826920" y="3933720"/>
            <a:ext cx="7056720" cy="2028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РЕДПРИНИМАТЕЛЬСТВ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ЭТО ХОРОШО ИЛИ ПЛОХО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ущность предпринимательства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2" name="Прямоугольник 76"/>
          <p:cNvGrpSpPr/>
          <p:nvPr/>
        </p:nvGrpSpPr>
        <p:grpSpPr>
          <a:xfrm>
            <a:off x="179280" y="1125360"/>
            <a:ext cx="8963280" cy="2663280"/>
            <a:chOff x="179280" y="1125360"/>
            <a:chExt cx="8963280" cy="2663280"/>
          </a:xfrm>
        </p:grpSpPr>
        <p:pic>
          <p:nvPicPr>
            <p:cNvPr id="63" name="Прямоугольник 76" descr=""/>
            <p:cNvPicPr/>
            <p:nvPr/>
          </p:nvPicPr>
          <p:blipFill>
            <a:blip r:embed="rId1"/>
            <a:stretch/>
          </p:blipFill>
          <p:spPr>
            <a:xfrm>
              <a:off x="179280" y="1125360"/>
              <a:ext cx="8963280" cy="26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470880" y="1226160"/>
              <a:ext cx="8416800" cy="235296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7"/>
          <p:cNvSpPr/>
          <p:nvPr/>
        </p:nvSpPr>
        <p:spPr>
          <a:xfrm>
            <a:off x="468360" y="13413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едпринимательство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то не запрещ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м, связанная с риском, самостоятельная,  инициативная экономическая деятельность, направленная на получение приб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2"/>
          <a:stretch/>
        </p:blipFill>
        <p:spPr>
          <a:xfrm>
            <a:off x="6372360" y="4076640"/>
            <a:ext cx="2506680" cy="278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tretch/>
        </p:blipFill>
        <p:spPr>
          <a:xfrm>
            <a:off x="3419640" y="4076640"/>
            <a:ext cx="274464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"/>
          <p:cNvPicPr/>
          <p:nvPr/>
        </p:nvPicPr>
        <p:blipFill>
          <a:blip r:embed="rId4"/>
          <a:stretch/>
        </p:blipFill>
        <p:spPr>
          <a:xfrm>
            <a:off x="395280" y="4076640"/>
            <a:ext cx="2744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Хотите ли вы стать предпринимателем и иметь собственное дело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33720"/>
            <a:ext cx="8229600" cy="4464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Варианты ответа: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Gothic"/>
              </a:rPr>
              <a:t>А) однозначно- да;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Gothic"/>
              </a:rPr>
              <a:t>Б) однозначно- нет;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Gothic"/>
              </a:rPr>
              <a:t>С) ещё сомневаюсь.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редприниматель -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2" name="Group 19"/>
          <p:cNvGrpSpPr/>
          <p:nvPr/>
        </p:nvGrpSpPr>
        <p:grpSpPr>
          <a:xfrm>
            <a:off x="0" y="1197000"/>
            <a:ext cx="4140360" cy="2159280"/>
            <a:chOff x="0" y="1197000"/>
            <a:chExt cx="4140360" cy="2159280"/>
          </a:xfrm>
        </p:grpSpPr>
        <p:grpSp>
          <p:nvGrpSpPr>
            <p:cNvPr id="73" name="Group 20"/>
            <p:cNvGrpSpPr/>
            <p:nvPr/>
          </p:nvGrpSpPr>
          <p:grpSpPr>
            <a:xfrm>
              <a:off x="0" y="1197000"/>
              <a:ext cx="4140360" cy="2159280"/>
              <a:chOff x="0" y="1197000"/>
              <a:chExt cx="4140360" cy="2159280"/>
            </a:xfrm>
          </p:grpSpPr>
          <p:sp>
            <p:nvSpPr>
              <p:cNvPr id="74" name="AutoShape 21"/>
              <p:cNvSpPr/>
              <p:nvPr/>
            </p:nvSpPr>
            <p:spPr>
              <a:xfrm>
                <a:off x="0" y="1197000"/>
                <a:ext cx="4140360" cy="2159280"/>
              </a:xfrm>
              <a:prstGeom prst="roundRect">
                <a:avLst>
                  <a:gd name="adj" fmla="val 10889"/>
                </a:avLst>
              </a:prstGeom>
              <a:solidFill>
                <a:srgbClr val="cc33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96969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2"/>
              <p:cNvSpPr/>
              <p:nvPr/>
            </p:nvSpPr>
            <p:spPr>
              <a:xfrm>
                <a:off x="60840" y="1316160"/>
                <a:ext cx="546480" cy="1077120"/>
              </a:xfrm>
              <a:custGeom>
                <a:avLst/>
                <a:gdLst>
                  <a:gd name="textAreaLeft" fmla="*/ 0 w 546480"/>
                  <a:gd name="textAreaRight" fmla="*/ 546840 w 546480"/>
                  <a:gd name="textAreaTop" fmla="*/ 0 h 1077120"/>
                  <a:gd name="textAreaBottom" fmla="*/ 1077480 h 10771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23"/>
            <p:cNvSpPr/>
            <p:nvPr/>
          </p:nvSpPr>
          <p:spPr>
            <a:xfrm>
              <a:off x="241920" y="1386360"/>
              <a:ext cx="3715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лицо, занимающееся предпринимательской деятельностью, частным бизнесо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4411800" y="1052640"/>
            <a:ext cx="4876560" cy="5529600"/>
            <a:chOff x="4411800" y="1052640"/>
            <a:chExt cx="4876560" cy="5529600"/>
          </a:xfrm>
        </p:grpSpPr>
        <p:grpSp>
          <p:nvGrpSpPr>
            <p:cNvPr id="78" name="Group 15"/>
            <p:cNvGrpSpPr/>
            <p:nvPr/>
          </p:nvGrpSpPr>
          <p:grpSpPr>
            <a:xfrm>
              <a:off x="4411800" y="1052640"/>
              <a:ext cx="4876560" cy="5529600"/>
              <a:chOff x="4411800" y="1052640"/>
              <a:chExt cx="4876560" cy="5529600"/>
            </a:xfrm>
          </p:grpSpPr>
          <p:sp>
            <p:nvSpPr>
              <p:cNvPr id="79" name="AutoShape 16"/>
              <p:cNvSpPr/>
              <p:nvPr/>
            </p:nvSpPr>
            <p:spPr>
              <a:xfrm>
                <a:off x="4411800" y="1052640"/>
                <a:ext cx="4876560" cy="5529600"/>
              </a:xfrm>
              <a:custGeom>
                <a:avLst/>
                <a:gdLst>
                  <a:gd name="textAreaLeft" fmla="*/ 155520 w 4876560"/>
                  <a:gd name="textAreaRight" fmla="*/ 4721040 w 4876560"/>
                  <a:gd name="textAreaTop" fmla="*/ 155520 h 5529600"/>
                  <a:gd name="textAreaBottom" fmla="*/ 5374080 h 5529600"/>
                </a:gdLst>
                <a:ahLst/>
                <a:rect l="textAreaLeft" t="textAreaTop" r="textAreaRight" b="textAreaBottom"/>
                <a:pathLst>
                  <a:path w="21600" h="24492">
                    <a:moveTo>
                      <a:pt x="2352" y="0"/>
                    </a:moveTo>
                    <a:arcTo wR="2352" hR="2352" stAng="16200000" swAng="-5400000"/>
                    <a:lnTo>
                      <a:pt x="0" y="22140"/>
                    </a:lnTo>
                    <a:arcTo wR="2352" hR="2352" stAng="10800000" swAng="-5400000"/>
                    <a:lnTo>
                      <a:pt x="19248" y="24492"/>
                    </a:lnTo>
                    <a:arcTo wR="2352" hR="2352" stAng="5400000" swAng="-5400000"/>
                    <a:lnTo>
                      <a:pt x="21600" y="2352"/>
                    </a:lnTo>
                    <a:arcTo wR="2352" hR="2352" stAng="0" swAng="-5400000"/>
                    <a:close/>
                  </a:path>
                </a:pathLst>
              </a:custGeom>
              <a:solidFill>
                <a:srgbClr val="cc660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96969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>
                <a:off x="4483440" y="1357920"/>
                <a:ext cx="643680" cy="2759040"/>
              </a:xfrm>
              <a:custGeom>
                <a:avLst/>
                <a:gdLst>
                  <a:gd name="textAreaLeft" fmla="*/ 0 w 643680"/>
                  <a:gd name="textAreaRight" fmla="*/ 643680 w 643680"/>
                  <a:gd name="textAreaTop" fmla="*/ 0 h 2759040"/>
                  <a:gd name="textAreaBottom" fmla="*/ 2759400 h 27590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18"/>
            <p:cNvSpPr/>
            <p:nvPr/>
          </p:nvSpPr>
          <p:spPr>
            <a:xfrm>
              <a:off x="4716720" y="1991160"/>
              <a:ext cx="4428000" cy="359208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Гражданин Российской Федерации может быть предпринимателем, если он достиг возраста 18 лет и не признан судом полностью или частично недееспособным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3257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ачества предпринимателя: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2270160" cy="3527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2349360" cy="270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3276720" y="692280"/>
            <a:ext cx="2350800" cy="302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6516720" y="692280"/>
            <a:ext cx="2076480" cy="2808000"/>
          </a:xfrm>
          <a:prstGeom prst="rect">
            <a:avLst/>
          </a:prstGeom>
          <a:ln w="0">
            <a:noFill/>
          </a:ln>
        </p:spPr>
      </p:pic>
      <p:sp>
        <p:nvSpPr>
          <p:cNvPr id="88" name="Line 8"/>
          <p:cNvSpPr/>
          <p:nvPr/>
        </p:nvSpPr>
        <p:spPr>
          <a:xfrm>
            <a:off x="2771640" y="620640"/>
            <a:ext cx="0" cy="623736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2808000" cy="2359080"/>
          </a:xfrm>
          <a:prstGeom prst="rect">
            <a:avLst/>
          </a:prstGeom>
          <a:ln w="0">
            <a:noFill/>
          </a:ln>
        </p:spPr>
      </p:pic>
      <p:sp>
        <p:nvSpPr>
          <p:cNvPr id="90" name="Line 10"/>
          <p:cNvSpPr/>
          <p:nvPr/>
        </p:nvSpPr>
        <p:spPr>
          <a:xfrm>
            <a:off x="5867280" y="620640"/>
            <a:ext cx="0" cy="623736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6"/>
          <a:stretch/>
        </p:blipFill>
        <p:spPr>
          <a:xfrm>
            <a:off x="6156360" y="3645000"/>
            <a:ext cx="28670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332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Качества предпринимателя: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тремление к успеху, упорство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ициативность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мение ставить задачи и находить нестандартные решения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мелость, способность пойти на риск, разумный авантюризм и в то же время реально оценивать ситуацию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амостоятельность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меть строгие нравственные устои (честность, порядочность, верность слову)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скетичность в повседневной жизни, бережливость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Быть упорным в труде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меть управлять, быть способным организовать себя и других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Быть эрудитом, обладать знаниями во многих областях, и быть способным пополнять их всю жизнь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Быть щедрым, быть способным помогать другим, т.е. быть меценатом, спонсором, оказывать благотворительность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1:24:00Z</dcterms:created>
  <dc:creator>Administrator</dc:creator>
  <dc:description/>
  <dc:language>en-US</dc:language>
  <cp:lastModifiedBy>Admin</cp:lastModifiedBy>
  <dcterms:modified xsi:type="dcterms:W3CDTF">2012-04-05T06:28:34Z</dcterms:modified>
  <cp:revision>36</cp:revision>
  <dc:subject/>
  <dc:title>Slide 1</dc:title>
</cp:coreProperties>
</file>