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94B-F486-49B8-8F10-BBB5769A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48F3-8D55-48E1-97ED-D1DDEBEB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E808-D385-4417-8D13-EEBB0D88E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B60E-D078-4E02-BC69-3A2B7778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82C8-EA49-4E91-8537-68AC9C8A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72A8-EEA2-44CE-AA06-C37E5201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C5F3-AB22-4E71-A97C-8EABD387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1D5B-B971-437B-B29C-5D20D90C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D572-33E2-45BE-B43D-16232492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3772-4D0F-454F-AAD7-FD3F3F31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65EE-C082-45A5-921A-F79585F0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5643-AA43-4DA9-AAD8-78FFBEBA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4580-E527-462D-8B95-EC43DBC8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779D-330D-4A48-8C21-33B3AEBF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EA0E-81AD-43BC-9A5F-899CBA188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1DEC-D7EE-43B5-9ABE-121BBA21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9FC5-68CD-40D4-9AA2-11A546A2D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B28-6FF0-47F0-95C5-8F7B40B1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B32D-E375-4F94-AE5E-FC156681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A2A6-1BB9-451E-8954-49276E57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911C-27DF-4BBE-9CBB-75279610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930-854A-43AA-95DE-BE21C039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04B-480D-4837-A09C-C795440E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C66-A515-46C6-AB0C-EF39CD6A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83B7-6AC4-4D90-9EA6-BAB1AAF5D2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55AB-F1C7-4594-8238-B302326D6B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терактивная доска – новый инструмент 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зырина Н.П. - заместитель директора по УВР МОУ Болгуринская СОШ, руководитель экспериментальной площадки «Внедрение информационных технологий в учебный процесс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ессимистическая страниц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 rot="1100400">
            <a:off x="591840" y="151776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451640" y="33336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Оптимистическая страниц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 rot="1627800">
            <a:off x="468360" y="1268280"/>
            <a:ext cx="1727280" cy="172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380360" y="260280"/>
            <a:ext cx="114300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Эмоциональная страниц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195280" y="1599840"/>
            <a:ext cx="6491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1195800">
            <a:off x="539640" y="134136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443640" y="260280"/>
            <a:ext cx="21956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Творческая страниц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26920" y="1844280"/>
            <a:ext cx="59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 rot="858000">
            <a:off x="324000" y="162828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527120" cy="12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ли и задач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ающая цель: ознакомление учителей с возможностями интерактивной доски и методическими рекомендациями по применению ИД на уроках, освоение методики проведения уроков, занятий «Шесть шляп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ющая цель: формирование навыков работы с Интернет-ресурс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ть условия для работы семинара – предоставить списки сайтов, установить режим работы кабинетов для ознакомления педагогов с возможностями интерактивной до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ть положительную мотивацию к применению интерактивной доски на уроках общеобразовательных предметов, используя при проведении семинара методику «Шесть шляп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Этапы работы семинар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ационный момент. Сообщение темы семинара, целей, инструктаж по Т.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бота с сайтами, выступление учителей – сбор информации по теме семин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уждение темы с применением методики «Шесть шляп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ведение итогов занятия – рефлекс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Как вы оцениваете достижение цели заняти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Что помешало достижению цел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Как вы оцениваете эффективность применения методики «Шесть шляп» при обсуждении темы семинар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Что такое интерактивная доска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Arial"/>
              </a:rPr>
              <a:t>Интерактивная дос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устройство, позволяющее преподавателю или докладчику объединить три различных инструмента: экран для отображения информации, обычную маркерную доску и интерактивный монитор. Доска дает возможность демонстрировать слайды, видео, делать пометки, рисовать, чертить различные схемы, как на обычной доске, в реальном времени наносить на проецируемое изображение пометки, вносить любые изменения и сохранять их виде компьютерных файл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Как работают с интерактивной доской?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 помощью специального электронного маркера или даже пальца можно делать пометки поверх проецируемого на доску изображения, которые будут сохраняться в специальный файл на компьютере. Интерактивные доски  просты в применении. Быстро и легко пользователь может создавать, редактировать и сохранять презентации любой сложности, используя при этом набор готовых шаблонов, стандартные офисные приложения и другое привычное программное обеспечение.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Большой экран доски позволяет коллективно работать с изображениями через удобный встроенный графический редактор, обсуждать с широкой аудиторией любые макеты, схемы и диаграммы. </a:t>
            </a:r>
            <a:br>
              <a:rPr sz="2300"/>
            </a:b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роки с использованием интерактивных досок проходят намного интереснее и нагляднее. Да и учителю удобнее – никакого мела и тряпок – менять задания и открывать приложения по любому предмету можно легким прикосновением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етодика Эдварда де Боно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«Шесть шляп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етод шести шляп позволяет структурировать и сделать намного более эффективной любую умственную работу, как личную, так и коллективную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Метод шести шляп — это простой и практичный способ разделения процесса мышления на шесть различных режимов, каждый из которых представлен шляпой своего цвет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Белая шляпа: информац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Черная шляпа: критик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тая шляпа: логический позит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еленая шляпа: креативность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расная шляпа: чувства и интуиция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иняя шляпа: управление процессом дискусс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651640" y="3860640"/>
            <a:ext cx="253980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равила проведения дискуссии по методике «Шесть шляп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ое правило во время диску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надевать две шляпы одновременно и все время себя контролирова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ловные уборы разных цветов должны надеваться по очереди, разве что руководитель свою синюю шляпу может предпочесть всем остальны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а переодевания шля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 коротко знакомит собравшихся с концепцией шляп и обозначает проблем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инать обсуждение целесообразно в белой шляпе, то есть надо собрать и рассмотреть все имеющиеся фак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тем исходные данные рассматриваются в негативном ракурсе — разумеется, в черной шляп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этого наступает очередь желтой шляпы, и в обнаруженных фактах находят позитивные сторо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иодически разрешается выпустить пар в красной шляп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а надевать зеленую шляпу, чтобы генерировать идеи, которые могут усилить положительные моменты и нивелировать отрицатель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уководитель, мысленно сидящий в синей шляпе, в конце подводится итог дискусс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04000" y="836640"/>
            <a:ext cx="18734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Информационная страниц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11280" y="1599840"/>
            <a:ext cx="627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 rot="933000">
            <a:off x="539640" y="126828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716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8:46:28Z</dcterms:created>
  <dc:creator>школа</dc:creator>
  <dc:description/>
  <dc:language>en-US</dc:language>
  <cp:lastModifiedBy>Нина Пименовна</cp:lastModifiedBy>
  <dcterms:modified xsi:type="dcterms:W3CDTF">2009-10-14T08:47:05Z</dcterms:modified>
  <cp:revision>8</cp:revision>
  <dc:subject/>
  <dc:title>Слайд 1</dc:title>
</cp:coreProperties>
</file>