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0153-E1E2-403F-A095-F2F4C5B88C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тема  раскрывается  в 10 классе при изучении раздела «Основные  сферы общественной жизн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6BCF-2C10-4319-9407-913F6081D5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над понятием; записи в тетра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65F6-276F-4051-9050-DB7FC6C2C3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сти при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9A82-F1F8-4D5E-88CD-11C7A9D0F9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8B73-BA59-4754-9D9A-68DBC3D8B9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7325-CDFA-402C-80ED-3747D1BB58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новаторств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Вы увидели элементы новаторств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0075-D319-4625-B68A-B22E41B6B5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аш взгляд, какие элементы присуще народной культур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F77B-86DD-438C-9055-962CB63179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яем правильность направления  мысли 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6A63-9438-4AC1-9075-0E6C7C5AC4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черты присущи данной форме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0487-4DEE-463F-963C-05B0AF396C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5F4E-B1E8-45D2-BB53-090D99DAD3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яем и записываем в тетра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6FCD-069C-46CC-A90C-338D660DCA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творчеством кого из данных представителей элитарной культуры Вы знако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8740-4FC8-4AAE-A7DB-FB36E9CCE7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ы видит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ое историческое событие изображено на иллюстра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2D84-D15B-4F56-A05A-0EDCAC5546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!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ризнаки на Ваш взгляд, свойственны элитарной культур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ECAE-02B8-43EC-9763-A500F822A4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иси в тетрад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C98F-180D-4803-ADB8-2B4A87332B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ть список приме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0E79-2378-4741-8697-AE6F95A35B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иси в  тетрадь , какие еще выводы можно сформулирова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B541-F8C9-4AAF-B6D2-660060203E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яем и записываем. Проверяем и записыва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932E-DCB7-4D0B-90F2-B8801C70D6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мся предлагается сгруппировать  данные иллюстрации и сформулировать критерии  отб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124F-F912-44D6-AB19-C0D597A941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выполненного 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5B44-D253-4811-958D-201F9BAD3A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E6CA-802A-405D-A13D-8E8DA266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7AEC-CD1C-4C16-A240-E8055316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EE62-A798-4A7B-8A55-E5716D95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508-E9ED-49D9-9088-E5496747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0B36-7204-4F20-8798-A36E6F7A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F2F3-9529-4AB9-8615-8EC00523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3143-E7F3-4652-8AA3-6B594C27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AD9B-A39B-4AC6-BBC8-C302517A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5AB6-F1CD-4339-B579-47E92C5B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2FC1-5963-442F-B06C-149642A0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BD31-2C7A-4B42-9505-A446F3D1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455-B134-408D-AA57-FBE6CE48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ECEA-05C3-417C-BBB8-D42A5CB6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41E4-AB1B-442E-B012-69FC8274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38E0-0494-4544-B2A5-00B3A2CD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B537-321B-48BE-9932-A59A1DDE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8769-2C7E-4A4C-A802-5AFF6DB1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F514C-3B65-4315-B38C-FC749D71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B5D6F6-945B-4CBF-8640-CA75F24E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81BD7-8B8E-4477-AF0C-B1A07142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69E38-5FE5-434B-851E-51D6F641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B5922-FACF-4B29-B788-59168612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465-312C-4E36-BBE9-88675F4E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BEEA9-C14E-471C-A3C9-D0EEC578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5D0F7-E83D-49C9-A256-7B8F79B5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04ACD-CC11-4F51-8B7D-20DA8358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76C16-6DDA-4A95-A4B5-89F6FDD0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E6AA9-3E9E-4C1B-912D-00F1B8A0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C9FE9-45FF-4B1D-BB92-060A313C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2FB9F1-69CD-4A0A-8D12-72F9FF35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53BE4-199A-4069-89C3-93BEE86B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8A9E9-B22A-47EB-9276-30878CE3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AD79C-CFC8-43A7-912B-2DCBCAE8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AD42-D094-44BB-8707-4CB6AB98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A6887-B8C5-4DB8-94B7-9F3CBFD7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FDBDA-486D-431E-A1DD-DEF480D7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D341E-430B-40D4-AAAB-B5FA343C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3051A-04D1-4471-A9A7-A6D0914F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2258B-5B88-4871-B7AA-040B129E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6B014-83F3-4717-B0AB-55979081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B6A00-8FC5-4FB1-93C3-73FBE712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4937D-B64B-4B75-B66B-7340FD56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CE2E4-C586-4940-9366-ABE6170D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8E5E5-E45B-411A-9216-28B2BBA8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ED5-902C-41A8-BF55-14875059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629237-C228-42F4-BEBC-1EAC4809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53F1ED-A459-43F2-A3BC-EEF028EE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DE9376-482B-4BCF-9981-155FF4BF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E53668-2DB7-4D1B-8EC0-1F3E7EF2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18A372-3FD3-4A26-9882-1F87D3BB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D871B9-888D-42EE-A18A-B8B65CA8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CEB272-AA33-4A09-BA5C-15BA259D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3DA40F-7E34-466A-8A99-218203BA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FC3B7-BA9D-49DF-ADBC-8E463ABC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48E576-D565-4DAA-B604-C8342E42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E5C-4BE7-4458-AA8D-CA366D8A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4E5428-B4A1-44CB-87A0-BC547D92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2FC645-BB9A-4C7B-96F8-B12E067E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540F1E-CF36-4B2B-A229-70482A4E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A2FE98-5CBE-46E4-BD57-3C0C5130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0698F6-27B4-4D48-B9C5-0F5A34AE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6860F8-9681-4A7B-B1F5-4114A097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595C6C-7045-48A4-A19E-E54E25A8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B3B3FE-B28B-469A-8322-BCD52320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344B77-430C-4FD0-B14F-7CDE3D03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78375E-1F4D-42A7-B04B-D2F95E0D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78D2-A053-40D0-A280-F126D55C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54E50A-49C9-47E1-B950-FBF5EE05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25A136-8675-46B1-8C55-15BEC5E9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4DE989-D485-4FE2-BC3D-C2F718B5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6125C0-DA6B-4759-B061-C990B63E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215FCF-C1F1-4455-9B19-49F1DEDE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AD1EC5-48C1-4A42-89EA-BC15A859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917F54-201F-4755-B062-BC967952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3976C9-8BB6-450B-A536-6FD4CE52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930479-F008-4197-8304-99396A86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EF65D8-28F0-470D-B7A6-13052B12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8F58-D42A-42E3-B377-053DE165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43E706-EC6F-4A93-9E97-6A239F62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95F0D1-3051-4F2F-9E25-4AA9B379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DE126A-7E95-4C08-8C5E-2C7162F2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04D86F-C838-46F8-9F80-16B6D6FA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595B57-126F-4B6A-A67E-F929773D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1014-ED6A-4177-A1A1-9C62C331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5959-4AAD-4E7D-B735-44E78F881A93}" type="slidenum">
              <a:rPr b="1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2AD2-EC7F-4935-B3C8-AC3FCBBE7DEC}" type="slidenum">
              <a:rPr b="1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365F-FCFC-4622-861D-E18DFE5FC1CF}" type="slidenum">
              <a:rPr b="1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4EB5-8A62-4284-B533-302734584692}" type="slidenum">
              <a:rPr b="1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CE1B-FC4D-46AD-A3CC-A1A2B1BBD8A6}" type="slidenum">
              <a:rPr b="1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9281-76AF-46C5-9446-5A1E3B271B1C}" type="slidenum">
              <a:rPr b="1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C2CF-EA34-42EA-A9C2-2F14CC85D701}" type="slidenum">
              <a:rPr b="1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71.beon.ru/17/23/312317/58/29087158/0.jpe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holst.od.ua/posters/pict_204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har.ru/books/p1193445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buryatia.ru/buryatia/gov/bur/adm-terr/muhorshi/images/2m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hyperlink" Target="http://uisrussia.msu.ru/docs/nov/2001/36/4.jpg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crydee.sai.msu.ru/Universe_and_us/4num/images/Archimed.jpg" TargetMode="External"/><Relationship Id="rId9" Type="http://schemas.openxmlformats.org/officeDocument/2006/relationships/image" Target="../media/image7.jpeg"/><Relationship Id="rId10" Type="http://schemas.openxmlformats.org/officeDocument/2006/relationships/hyperlink" Target="http://krasnoeselo.clan.su/_nw/7/s92493219.jpg" TargetMode="External"/><Relationship Id="rId11" Type="http://schemas.openxmlformats.org/officeDocument/2006/relationships/image" Target="../media/image8.jpeg"/><Relationship Id="rId12" Type="http://schemas.openxmlformats.org/officeDocument/2006/relationships/hyperlink" Target="http://www.osteopathie.ru/admin/spaw2/uploads/images/Doma/univer.jpg" TargetMode="External"/><Relationship Id="rId13" Type="http://schemas.openxmlformats.org/officeDocument/2006/relationships/image" Target="../media/image9.jpeg"/><Relationship Id="rId14" Type="http://schemas.openxmlformats.org/officeDocument/2006/relationships/hyperlink" Target="http://www.rest-or-run.ru/uploads/vladimir/theatre/big/79.jpg" TargetMode="External"/><Relationship Id="rId15" Type="http://schemas.openxmlformats.org/officeDocument/2006/relationships/image" Target="../media/image10.jpeg"/><Relationship Id="rId16" Type="http://schemas.openxmlformats.org/officeDocument/2006/relationships/hyperlink" Target="http://shop.top-kniga.ru/data/m_ishc/906/906636.jpg" TargetMode="External"/><Relationship Id="rId17" Type="http://schemas.openxmlformats.org/officeDocument/2006/relationships/image" Target="../media/image11.jpeg"/><Relationship Id="rId18" Type="http://schemas.openxmlformats.org/officeDocument/2006/relationships/hyperlink" Target="http://shop.avanta.ru/upimg/big/1/0/8/3030108.jpg" TargetMode="External"/><Relationship Id="rId19" Type="http://schemas.openxmlformats.org/officeDocument/2006/relationships/image" Target="../media/image1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"/>
          <p:cNvSpPr/>
          <p:nvPr/>
        </p:nvSpPr>
        <p:spPr>
          <a:xfrm>
            <a:off x="1476360" y="333360"/>
            <a:ext cx="7439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424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457200" y="1844640"/>
            <a:ext cx="8686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132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6000" indent="-21132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Times New Roman"/>
              </a:rPr>
              <a:t>ТЕМ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6000" indent="-21132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Times New Roman"/>
              </a:rPr>
              <a:t>«Культура и духовная жизнь обществ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6000" indent="-21132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95959"/>
                </a:solidFill>
                <a:latin typeface="Times New Roman"/>
              </a:rPr>
              <a:t>10 клас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29528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2857680" y="4071960"/>
            <a:ext cx="609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олнил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шина Т.П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ь истории и обществознания, ГБОУ № 276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асносельского райо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3419640" y="6237360"/>
            <a:ext cx="15127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 Петербург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ПЛАН ИЗУЧЕНИЯ 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НОВОГО МАТЕРИАЛ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2179440" y="2604960"/>
            <a:ext cx="696420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1.Духовная деятельность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2.Что такое культура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3.Традиции и новаторство в культуре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4.Функции культуры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5.Многообразие культур: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-историческое и этническое многообразие культур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-диалог культур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-народная культура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-массовая культура, СМИ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-элитарная культура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-экранная культура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-субкультуры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6.Практические выводы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457360" y="383760"/>
            <a:ext cx="6686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ЧТО ТАКОЕ КУЛЬТУР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599840" y="981000"/>
            <a:ext cx="754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33"/>
                </a:solidFill>
                <a:latin typeface="Century Schoolbook"/>
              </a:rPr>
              <a:t>Культур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лат. cultura, от корня colere — «возделывать») — обобщающее понятие для форм жизнедеятельности человека, созданных и создаваемых нами в процессе эволюции. Культура — это нравственные, моральные и материальные ценности, умения, знания, обычаи, традиции. Часто термином «культура» характеризуется определенная историческая эпоха: «Культура Древней Руси», «современная культура», и т.п. Культура характеризует также народы: культура готов, славянская культура и др. Помимо этого, культура может относиться и к сферам деятельности человека: массовая культура, художественная культура, и т.п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Century Schoolbook"/>
              </a:rPr>
              <a:t>культур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–это совокупность материальной и духовной культуры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33"/>
                </a:solidFill>
                <a:latin typeface="Century Schoolbook"/>
              </a:rPr>
              <a:t>к материальной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относят всё, что создаётся в процессе материального производства (техника, производство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33"/>
                </a:solidFill>
                <a:latin typeface="Century Schoolbook"/>
              </a:rPr>
              <a:t>к духовной-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всё созданное человеком в процессе духовного творчества (совокупность знаний, форм мышления, сфера мировоззрения и т.д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75f6d"/>
                </a:solidFill>
                <a:uFillTx/>
                <a:latin typeface="Century Schoolbook"/>
              </a:rPr>
              <a:t>ФУНКЦИИ КУЛЬТУРЫ</a:t>
            </a:r>
            <a:br>
              <a:rPr sz="3200"/>
            </a:br>
            <a:r>
              <a:rPr b="0" lang="ru-RU" sz="3200" spc="-1" strike="noStrike" u="sng">
                <a:solidFill>
                  <a:srgbClr val="575f6d"/>
                </a:solidFill>
                <a:uFillTx/>
                <a:latin typeface="Century Schoolbook"/>
              </a:rPr>
              <a:t> В ОБЩЕСТВЕ.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 ИХ СУЩНОСТ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даптационная (приспособления человека и общества к условиям среды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копление, хранение и передача культурных ценностей  (установление непрерывной связи поколений и непрерывность развития общества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оциализация (усвоение новыми поколениями созданной в обществе системы ценностей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оммуникативная (обеспечение взаимодействия между отдельными людьми и общностями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Целеполагание и регулирование общественной жизни и человеческой деятельности (создание ценностей, образцов и ориентиров человеческой деятельности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ТРАДИЦИИ И </a:t>
            </a:r>
            <a:br>
              <a:rPr sz="3200"/>
            </a:b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НОВАТОРСТВО В КУЛЬТУР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99840" y="1980720"/>
            <a:ext cx="7543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Хокку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, или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хайку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(начальные стихи), - жанр японской поэзии: нерифмованное трехстишие из 17 слогов (5+7+5). Искусство писать хокку - это прежде всего умение сказать многое в немногих словах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Танка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(короткая песня) - древнейший жанр японской поэзии (первые записи - 8-й век). Нерифмованные пятистишия из 31 слога (5+7+5+7+7). Выражает мимолетное настроение, полно недосказанности, отличается поэтическим изяществом, зачастую - сложной ассоциативностью, словесной игрой.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тарый пруд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рыгнула в воду лягушк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Всплеск в тишин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Роса на цветах шафрана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рольется на землю он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И станет простой водою..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На летнем лугу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Раздвигая густые травы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Блуждает олень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И беззвучно, безмолвн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ыплются капли росы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ТРАДИЦИИ И 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НОВАТОРСТВО В КУЛЬТУРЕ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сикава Такубоку (1886 – 1912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Кукушк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Уже рассвета теплятся луч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очь тоже на исходе, как весн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Дрожит и меркнет огонек свеч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У моего раскрытого окн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о в этом мире тишины и сн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Чей одинокий голос вдруг проник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 мое окно? Зари победный зов?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ощанье ночи? Нет, кукушки крик!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 голос на рассвете! Что дан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Тебе сказать? Зовешь ли ты кого?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ткуда ты? Ах, знаю лишь одно!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(Пусть ты лишь отзвук сердца моего: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ТРАДИЦИИ И 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НОВАТОРСТВО В КУЛЬТУРЕ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0" name="Picture 5" descr="Картинка 9 из 2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484280"/>
            <a:ext cx="8317080" cy="453564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6"/>
          <p:cNvSpPr/>
          <p:nvPr/>
        </p:nvSpPr>
        <p:spPr>
          <a:xfrm>
            <a:off x="2987640" y="5869440"/>
            <a:ext cx="360036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1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ртина Шишкина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тро в сосновом лесу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5f6d"/>
                </a:solidFill>
                <a:latin typeface="Century Schoolbook"/>
              </a:rPr>
              <a:t>ТРАДИЦИИ И </a:t>
            </a:r>
            <a:br>
              <a:rPr sz="2200"/>
            </a:br>
            <a:r>
              <a:rPr b="0" lang="ru-RU" sz="2200" spc="-1" strike="noStrike">
                <a:solidFill>
                  <a:srgbClr val="575f6d"/>
                </a:solidFill>
                <a:latin typeface="Century Schoolbook"/>
              </a:rPr>
              <a:t>НОВАТОРСТВО В КУЛЬТУРЕ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3" name="Picture 8" descr="Картинка 10 из 3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197000"/>
            <a:ext cx="7981920" cy="45892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>
            <a:off x="2268360" y="616572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андинский Василий - галерея картин - Живопись 20 век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МНОГООБРАЗИЯ КУЛЬТУР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РОДНАЯ КУЛЬТУРА</a:t>
            </a:r>
            <a:br>
              <a:rPr sz="36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6" name="Picture 5" descr="Картинка 15 из 211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268280"/>
            <a:ext cx="2581560" cy="46753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Картинка 12 из 2110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1268280"/>
            <a:ext cx="4680000" cy="4608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АРОДНАЯ КУЛЬТУРА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Народная культура- особый пласт национальной культуры создаваемая народом и бытующая в народных массах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на анонимна: есть исполнители но нет авторов, она плод коллективного творчества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Важнейшей составляющей являются нравы и обычаи, бытовая фразеология, способы ведения хозяйства, домашний уклад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тличительная особенность состоит в том, что она находится в постоянном употреблении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Народная культура как целое постоянна и неуничтожима, но частицы составляющие её хрупки и требуют бережного и внимательного отношения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МАССОВАЯ КУЛЬТУР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1"/>
          <a:stretch/>
        </p:blipFill>
        <p:spPr>
          <a:xfrm>
            <a:off x="4211640" y="1916280"/>
            <a:ext cx="4932360" cy="4797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Картинка 17 из 8309"/>
          <p:cNvPicPr/>
          <p:nvPr/>
        </p:nvPicPr>
        <p:blipFill>
          <a:blip r:embed="rId2"/>
          <a:stretch/>
        </p:blipFill>
        <p:spPr>
          <a:xfrm>
            <a:off x="1116000" y="1989000"/>
            <a:ext cx="2914560" cy="486900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6"/>
          <p:cNvSpPr/>
          <p:nvPr/>
        </p:nvSpPr>
        <p:spPr>
          <a:xfrm>
            <a:off x="6227640" y="1989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НА-НА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2560" y="1928880"/>
            <a:ext cx="864396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                                     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                                       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                                       </a:t>
            </a:r>
            <a:r>
              <a:rPr b="1" lang="ru-RU" sz="2400" spc="-1" strike="noStrike">
                <a:solidFill>
                  <a:srgbClr val="595959"/>
                </a:solidFill>
                <a:latin typeface="Times New Roman"/>
              </a:rPr>
              <a:t>ЦЕЛЬ: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1600" spc="-1" strike="noStrike">
                <a:solidFill>
                  <a:srgbClr val="595959"/>
                </a:solidFill>
                <a:latin typeface="Times New Roman"/>
              </a:rPr>
              <a:t>1.ОТРАБОТАТЬ ПОНЯТИЯ:  ДУХОВНАЯ КУЛЬТУРА, НАРОДНАЯ КУЛЬТУРА, МАССОВАЯ КУЛЬТУРА, ЭЛИТАРНАЯ КУЛЬТУРА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595959"/>
                </a:solidFill>
                <a:latin typeface="Times New Roman"/>
              </a:rPr>
              <a:t>2. УМЕНИЕ ВЕСТИ ДИАЛОГ НА ОСНОВЕ РАВНОПРАВНЫХ ОТНОШЕНИЙ И ВЗАИМНОГО УВАЖЕНИЯ И ПРИНЯТИЯ; КОНСТРУКТИВНО РАЗРЕШАТЬ КОНФЛИКТЫ; УМЕНИЕ СОТРУДНИЧАТЬ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595959"/>
                </a:solidFill>
                <a:latin typeface="Times New Roman"/>
              </a:rPr>
              <a:t>3. УСВОИТЬ, ЧТО ДИАЛОГ КУЛЬТУР - ОДИН ИЗ ПУТЕЙ РЕШЕНИЯ ПРОБЛЕМЫ СОВРЕМЕННОЙ ДУХОВНОЙ КУЛЬТУРЫ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595959"/>
                </a:solidFill>
                <a:latin typeface="Times New Roman"/>
              </a:rPr>
              <a:t>4. ВОСПИТАНИЕ ТОЛЕРАНТНОГО И УВАЖИТЕЛЬНОГО ОТНОШЕНИЯ К ДУХОВНЫМ ЦЕННОСТЯМ КАЖДОГО НАРОДА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МАССОВАЯ КУЛЬТУР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Массовая культура-явление в истории человечества достаточно молодое, сложилось оно в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XX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- веке в условиях индустриального обществ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словия для появления:- достаточный уровень образования масс, наличие у потребителя свободного времени, свободных средств, чтобы оплатить досуг, средства коммуникации способных тиражировать и доносить культурную продукцию до масс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собенности в массовой культуры: коммерческая направленность -приносить прибыль при продажи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сновная черта массовой культуры- ориентация на вкусы и запросы массового потребителя;- доступность, простота, развлекательность и стандартизация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Массовая культура- неотъемлема от средств массовой информации, благодаря им обеспечивается систематическое распространение культурной продукции через печать, радио, телевидение, интернета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ЭЛИТАРНАЯ КУЛЬТУРА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600200" y="1981080"/>
          <a:ext cx="7543800" cy="6805800"/>
        </p:xfrm>
        <a:graphic>
          <a:graphicData uri="http://schemas.openxmlformats.org/drawingml/2006/table">
            <a:tbl>
              <a:tblPr/>
              <a:tblGrid>
                <a:gridCol w="1704960"/>
                <a:gridCol w="1800360"/>
                <a:gridCol w="182520"/>
                <a:gridCol w="1904760"/>
                <a:gridCol w="1951200"/>
              </a:tblGrid>
              <a:tr h="19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скизы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ореографическ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антазия по мотивам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голя. Балет в одном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йствии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бретто 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тров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Невском проспект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лестаков и Городнич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оличный же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рашный сон Чичиков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НИТКЕ –композитор 20 ве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льмы кинорежиссё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. Тарковск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Зеркал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Иваново детств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Сталкер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Соляриис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Андрей Рублё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. Гобайдул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мпози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"Фацелия" по поэм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. Пришвина (1956); кантаты "Ночь в Мемфисе" (1968) и "Рубайят" (1969) на ст. восточных поэтов; оратория "Laudatio pacis" (на ст. Я. Коменского, в соавт. с М. Копелентом и П. X. Дитрихом - 1975); "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8" name="Picture 5" descr="0_20271_1d07e40f_L"/>
          <p:cNvPicPr/>
          <p:nvPr/>
        </p:nvPicPr>
        <p:blipFill>
          <a:blip r:embed="rId1"/>
          <a:stretch/>
        </p:blipFill>
        <p:spPr>
          <a:xfrm>
            <a:off x="1116000" y="1989000"/>
            <a:ext cx="1522440" cy="2016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0_20624_d0a1b1c2_L"/>
          <p:cNvPicPr/>
          <p:nvPr/>
        </p:nvPicPr>
        <p:blipFill>
          <a:blip r:embed="rId2"/>
          <a:stretch/>
        </p:blipFill>
        <p:spPr>
          <a:xfrm>
            <a:off x="1116000" y="4149720"/>
            <a:ext cx="1511280" cy="1943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Файл:Фотография Альфреда Шнитке.jpg"/>
          <p:cNvPicPr/>
          <p:nvPr/>
        </p:nvPicPr>
        <p:blipFill>
          <a:blip r:embed="rId3"/>
          <a:stretch/>
        </p:blipFill>
        <p:spPr>
          <a:xfrm>
            <a:off x="2843280" y="1989000"/>
            <a:ext cx="1728720" cy="20163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0" descr="Файл:Tarkovsky.jpg"/>
          <p:cNvPicPr/>
          <p:nvPr/>
        </p:nvPicPr>
        <p:blipFill>
          <a:blip r:embed="rId4"/>
          <a:stretch/>
        </p:blipFill>
        <p:spPr>
          <a:xfrm>
            <a:off x="4716360" y="2060640"/>
            <a:ext cx="1871640" cy="18730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5" descr="София Асгатовна Губайдулина"/>
          <p:cNvPicPr/>
          <p:nvPr/>
        </p:nvPicPr>
        <p:blipFill>
          <a:blip r:embed="rId5"/>
          <a:stretch/>
        </p:blipFill>
        <p:spPr>
          <a:xfrm>
            <a:off x="6659640" y="1989000"/>
            <a:ext cx="187308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ЭЛИТАРНАЯ КУЛЬТУРА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5" name="Picture 5" descr="Картинка 13 из 35"/>
          <p:cNvPicPr/>
          <p:nvPr/>
        </p:nvPicPr>
        <p:blipFill>
          <a:blip r:embed="rId1"/>
          <a:stretch/>
        </p:blipFill>
        <p:spPr>
          <a:xfrm>
            <a:off x="1042920" y="1700280"/>
            <a:ext cx="7561440" cy="439272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6"/>
          <p:cNvSpPr/>
          <p:nvPr/>
        </p:nvSpPr>
        <p:spPr>
          <a:xfrm>
            <a:off x="2268360" y="6237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львадор Дали. Горное озер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7" name="Picture 8" descr="Картинка 12 из 35"/>
          <p:cNvPicPr/>
          <p:nvPr/>
        </p:nvPicPr>
        <p:blipFill>
          <a:blip r:embed="rId2"/>
          <a:stretch/>
        </p:blipFill>
        <p:spPr>
          <a:xfrm>
            <a:off x="714240" y="1357200"/>
            <a:ext cx="7921800" cy="4927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ЭЛИТАРНАЯ КУЛЬТУРА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9" name="Picture 6" descr="Картинка 1 из 80"/>
          <p:cNvPicPr/>
          <p:nvPr/>
        </p:nvPicPr>
        <p:blipFill>
          <a:blip r:embed="rId1"/>
          <a:stretch/>
        </p:blipFill>
        <p:spPr>
          <a:xfrm>
            <a:off x="1187280" y="1268280"/>
            <a:ext cx="7488360" cy="496908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8"/>
          <p:cNvSpPr/>
          <p:nvPr/>
        </p:nvSpPr>
        <p:spPr>
          <a:xfrm>
            <a:off x="2987640" y="6308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ётр Первый (скульптор М. Шемякин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ЭЛИТАРНАЯ КУЛЬТУРА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Элитарная культура-(франц.- лучшее, избранное) явление рассчитанное на узкий круг потребителей (элиту), подготовленных к восприятию сложных по содержанию произведений культуры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Коммерческая выгода не является целью элитарной культуры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Элитарная культура обеспечивает прогресс, без её оценки не возможно любое творчество в области высокого искусства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Элитарная культура-это стремление к самовыражению и воплощению своих идей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Девиз элитарной культуры “Искусство ради искусства”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ЭКРАННАЯ КУЛЬТУРА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культура, базирующаяся на микропроцессорной информационной технологии; порожденный компьютерной революцией принципиально новый тип культуры, основным материальным носителем текстов которой является не письменная речь, а "электронная книга", "Экранная речь". Для экранной культуры характерна экранная форма общения людей (свободный вход в мир информации), экранное мышление (строгая логика, быстрота, гибкость, реактивность. образность), экранная система обучения и управления. Экранная культура - культура будущего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УБКУЛЬТУ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6" name="Picture 5" descr="Файл:Andydc.jpg"/>
          <p:cNvPicPr/>
          <p:nvPr/>
        </p:nvPicPr>
        <p:blipFill>
          <a:blip r:embed="rId1"/>
          <a:stretch/>
        </p:blipFill>
        <p:spPr>
          <a:xfrm>
            <a:off x="500040" y="2143080"/>
            <a:ext cx="3672000" cy="408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4357800" y="1714680"/>
          <a:ext cx="4786200" cy="7003800"/>
        </p:xfrm>
        <a:graphic>
          <a:graphicData uri="http://schemas.openxmlformats.org/drawingml/2006/table">
            <a:tbl>
              <a:tblPr/>
              <a:tblGrid>
                <a:gridCol w="4786200"/>
              </a:tblGrid>
              <a:tr h="70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лодёжная субкультура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для нее свойственный особый стиль общения, музыка, мода, нравственный климат. Зачастую она способна оказывается в оппозиции к обществу, отрицая его идеалы и ценност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мер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панк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рейвер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рокер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скин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гот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футбольные фаны и т.д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УБКУЛЬТУ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лодёжна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лигиозных организаци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преступных группировок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национальных меньшинств (цыгане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профессиональны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бкультура-(лат.суб-под, культура возделывания - культура какой либо социальной или демографической группы. Закрепляется и проявляет себя в особых чертах  поведения людей, сознания, языка, внешний вид и система ценност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АКТИЧЕСКИЕ ВЫВОД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Культура - сложное явление ,для освоения которого нужен определенный опыт и систематическая работа, обывательские представления о культуре зачастую искажают ее смысл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Сложные формы культуры требуют умения компетентно оценивать ее явления. Научитесь не отвергать то ,что вам не понятно с первого взгляда,, попробуйте в этом разобраться. Культурный человек терпим и толерантен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АКТИЧЕСКИЕ ВЫВОД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тарайтесь определять свою личную позицию в отношении любых явлений культуры, но при этом стремитесь избегать однозначных выводов. Это не только противоречит самому духу культуры, но часто выглядит просто глуп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мните, что терпимость к проявлениям чужих форм культуры - отличительная черта культурного человека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"/>
          <p:cNvSpPr/>
          <p:nvPr/>
        </p:nvSpPr>
        <p:spPr>
          <a:xfrm>
            <a:off x="285840" y="777960"/>
            <a:ext cx="8143920" cy="66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хнология урока: технология развития критического мышл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ем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абота в группах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игза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; таблиц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лстые и тонкие вопрос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нквей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ация групповой рабо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ение сообщ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"/>
          <p:cNvSpPr/>
          <p:nvPr/>
        </p:nvSpPr>
        <p:spPr>
          <a:xfrm>
            <a:off x="571680" y="556200"/>
            <a:ext cx="807228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зы технологии развития критического мышл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ая фаза- стадия вызова: пробуждения имеющихся знаний, интереса к получению новой информ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ая фаза-стадия осмысления: получение новой информ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тья фаза- стадия рефлексии (размышлени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1533600" y="1711440"/>
          <a:ext cx="6076800" cy="3435120"/>
        </p:xfrm>
        <a:graphic>
          <a:graphicData uri="http://schemas.openxmlformats.org/drawingml/2006/table">
            <a:tbl>
              <a:tblPr/>
              <a:tblGrid>
                <a:gridCol w="3038400"/>
                <a:gridCol w="3038400"/>
              </a:tblGrid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ятельность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ятельность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щиеся выполняют данные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нимательно ознакомитесь  со слайдом №2; учащимся предлагается сгруппировать иллюстрации и сформулировать критерии отб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щиеся формулируют тему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ель предлагает назвать тему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отношение с высказываниями уче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 слайдов №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иси в тетрадях. Прием: таблиц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Толстые и тонкие вопрос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ие вопросы можно поставить к данной теме урока, используя иллюстрационный матери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дет формирования гру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лагается создать групп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5-7челове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Rectangle 1"/>
          <p:cNvSpPr/>
          <p:nvPr/>
        </p:nvSpPr>
        <p:spPr>
          <a:xfrm>
            <a:off x="1214280" y="858960"/>
            <a:ext cx="535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д работы уро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Стадия выз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857160" y="1209600"/>
          <a:ext cx="7358040" cy="4024440"/>
        </p:xfrm>
        <a:graphic>
          <a:graphicData uri="http://schemas.openxmlformats.org/drawingml/2006/table">
            <a:tbl>
              <a:tblPr/>
              <a:tblGrid>
                <a:gridCol w="3678480"/>
                <a:gridCol w="3679560"/>
              </a:tblGrid>
              <a:tr h="1936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ятельность учащихс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ятельность учител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736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ждый учащийся работает со своим текстом, выделяет главное, составляя опорный конспек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е выдаются тексты различного содержания.(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пользуется материал учебного пособия под редакцией Л.Н.Боголюбова. Тема: «Культура и духовная  жизнь общества»)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текст о понятии культура, духовная культура, о традициях и новаторстве в культур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функции культу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народная куль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массовая куль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элитарная куль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субкульту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текст о диалоге культуры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Последующие слайды презентаци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окончанию работы учащиеся переходят в другие группы- группы экспертов (т.е. «специалисты» по отдельным вопросам объединяется в экспертные групп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ультация учащихс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Rectangle 1"/>
          <p:cNvSpPr/>
          <p:nvPr/>
        </p:nvSpPr>
        <p:spPr>
          <a:xfrm>
            <a:off x="1643040" y="532080"/>
            <a:ext cx="535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Стадия осмысле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Rectangle 1"/>
          <p:cNvSpPr/>
          <p:nvPr/>
        </p:nvSpPr>
        <p:spPr>
          <a:xfrm>
            <a:off x="857160" y="5389920"/>
            <a:ext cx="628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тог урока: творческая работа - написания « Синквейн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1533600" y="1589040"/>
          <a:ext cx="6076800" cy="3679920"/>
        </p:xfrm>
        <a:graphic>
          <a:graphicData uri="http://schemas.openxmlformats.org/drawingml/2006/table">
            <a:tbl>
              <a:tblPr/>
              <a:tblGrid>
                <a:gridCol w="3038400"/>
                <a:gridCol w="3038400"/>
              </a:tblGrid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ятельность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ятельность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вые группы - «экспертные» группы –специалисты по одной теме.  Обсуждая, в процессе обмена вопрос, готовят презентационную схему рассказа по своей теме. Решают вопрос, кто будет проводить итоговую презентацию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ультация учащихся. 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оследующие слайды презентац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6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рнувшись в «рабочие»  группы, эксперты отвечают на «свои» вопросы, знакомя других  учащихся со своей темой, используя общую презентационную схе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необходимости - консуль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Второе слушание» темы – презентация све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полнительные вопросы учащимс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Rectangle 1"/>
          <p:cNvSpPr/>
          <p:nvPr/>
        </p:nvSpPr>
        <p:spPr>
          <a:xfrm>
            <a:off x="1500120" y="786240"/>
            <a:ext cx="60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II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Фаза - стадия рефлексии (размышления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325440" y="0"/>
          <a:ext cx="8818560" cy="6534000"/>
        </p:xfrm>
        <a:graphic>
          <a:graphicData uri="http://schemas.openxmlformats.org/drawingml/2006/table">
            <a:tbl>
              <a:tblPr/>
              <a:tblGrid>
                <a:gridCol w="1577880"/>
                <a:gridCol w="7240680"/>
              </a:tblGrid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сак Нью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.Д.Сахаров               Архим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4" name="Picture 28" descr="Фото Ньютона"/>
          <p:cNvPicPr/>
          <p:nvPr/>
        </p:nvPicPr>
        <p:blipFill>
          <a:blip r:embed="rId1"/>
          <a:stretch/>
        </p:blipFill>
        <p:spPr>
          <a:xfrm>
            <a:off x="179280" y="0"/>
            <a:ext cx="1440000" cy="1700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2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2232000" cy="2519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9" descr=""/>
          <p:cNvPicPr/>
          <p:nvPr/>
        </p:nvPicPr>
        <p:blipFill>
          <a:blip r:embed="rId3"/>
          <a:stretch/>
        </p:blipFill>
        <p:spPr>
          <a:xfrm>
            <a:off x="1908000" y="4365720"/>
            <a:ext cx="1584360" cy="2089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7" descr=""/>
          <p:cNvPicPr/>
          <p:nvPr/>
        </p:nvPicPr>
        <p:blipFill>
          <a:blip r:embed="rId4"/>
          <a:stretch/>
        </p:blipFill>
        <p:spPr>
          <a:xfrm>
            <a:off x="324000" y="4724280"/>
            <a:ext cx="1512720" cy="1729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08" descr=""/>
          <p:cNvPicPr/>
          <p:nvPr/>
        </p:nvPicPr>
        <p:blipFill>
          <a:blip r:embed="rId5"/>
          <a:stretch/>
        </p:blipFill>
        <p:spPr>
          <a:xfrm>
            <a:off x="3564000" y="4365720"/>
            <a:ext cx="1557360" cy="2160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8" descr="Картинка 8 из 37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835280" y="0"/>
            <a:ext cx="1331640" cy="17002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0" descr="Картинка 2 из 308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76720" y="0"/>
            <a:ext cx="1541520" cy="17002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4" descr="Картинка 2 из 36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508720" y="2421000"/>
            <a:ext cx="2394000" cy="17971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6" descr="Картинка 1 из 14748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508720" y="4292640"/>
            <a:ext cx="2670120" cy="22017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8" descr="Картинка 4 из 1779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857680" y="1928880"/>
            <a:ext cx="1885680" cy="2376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0" descr="906636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524720" y="0"/>
            <a:ext cx="1343160" cy="2087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2" descr="3030108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4932360" y="0"/>
            <a:ext cx="190512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Diagram 6"/>
          <p:cNvGrpSpPr/>
          <p:nvPr/>
        </p:nvGrpSpPr>
        <p:grpSpPr>
          <a:xfrm>
            <a:off x="1582560" y="349200"/>
            <a:ext cx="5332320" cy="5140440"/>
            <a:chOff x="1582560" y="349200"/>
            <a:chExt cx="5332320" cy="5140440"/>
          </a:xfrm>
        </p:grpSpPr>
        <p:sp>
          <p:nvSpPr>
            <p:cNvPr id="387" name="_s1028"/>
            <p:cNvSpPr/>
            <p:nvPr/>
          </p:nvSpPr>
          <p:spPr>
            <a:xfrm flipH="1" flipV="1">
              <a:off x="2931840" y="2690640"/>
              <a:ext cx="658800" cy="21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_s1029"/>
            <p:cNvSpPr/>
            <p:nvPr/>
          </p:nvSpPr>
          <p:spPr>
            <a:xfrm>
              <a:off x="1582560" y="1785960"/>
              <a:ext cx="1384200" cy="1384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Искусств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_s1030"/>
            <p:cNvSpPr/>
            <p:nvPr/>
          </p:nvSpPr>
          <p:spPr>
            <a:xfrm flipH="1">
              <a:off x="3434760" y="3678120"/>
              <a:ext cx="40644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_s1031"/>
            <p:cNvSpPr/>
            <p:nvPr/>
          </p:nvSpPr>
          <p:spPr>
            <a:xfrm>
              <a:off x="2336760" y="4105440"/>
              <a:ext cx="1384200" cy="1384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разовани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_s1032"/>
            <p:cNvSpPr/>
            <p:nvPr/>
          </p:nvSpPr>
          <p:spPr>
            <a:xfrm>
              <a:off x="4654440" y="3678120"/>
              <a:ext cx="40788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_s1033"/>
            <p:cNvSpPr/>
            <p:nvPr/>
          </p:nvSpPr>
          <p:spPr>
            <a:xfrm>
              <a:off x="4776480" y="4105440"/>
              <a:ext cx="1384560" cy="1384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ораль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_s1034"/>
            <p:cNvSpPr/>
            <p:nvPr/>
          </p:nvSpPr>
          <p:spPr>
            <a:xfrm flipV="1">
              <a:off x="4905360" y="2690640"/>
              <a:ext cx="660240" cy="21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_s1035"/>
            <p:cNvSpPr/>
            <p:nvPr/>
          </p:nvSpPr>
          <p:spPr>
            <a:xfrm>
              <a:off x="5530680" y="1784520"/>
              <a:ext cx="1384200" cy="1384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елигия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_s1036"/>
            <p:cNvSpPr/>
            <p:nvPr/>
          </p:nvSpPr>
          <p:spPr>
            <a:xfrm flipV="1">
              <a:off x="4248000" y="1733040"/>
              <a:ext cx="0" cy="69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_s1037"/>
            <p:cNvSpPr/>
            <p:nvPr/>
          </p:nvSpPr>
          <p:spPr>
            <a:xfrm>
              <a:off x="3555720" y="349200"/>
              <a:ext cx="1384560" cy="1384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аук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_s1038"/>
            <p:cNvSpPr/>
            <p:nvPr/>
          </p:nvSpPr>
          <p:spPr>
            <a:xfrm>
              <a:off x="3555720" y="2427120"/>
              <a:ext cx="1384560" cy="138456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10302"/>
                  </a:solidFill>
                  <a:latin typeface="Arial"/>
                </a:rPr>
                <a:t>Элементы духовной культур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08:46:46Z</dcterms:created>
  <dc:creator>Геннадий</dc:creator>
  <dc:description/>
  <dc:language>en-US</dc:language>
  <cp:lastModifiedBy>hp</cp:lastModifiedBy>
  <dcterms:modified xsi:type="dcterms:W3CDTF">2015-01-18T14:14:05Z</dcterms:modified>
  <cp:revision>66</cp:revision>
  <dc:subject/>
  <dc:title>Зачётная работа по курсу  «Компьютерная грамота»</dc:title>
</cp:coreProperties>
</file>