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AF5-EBC8-4B2F-B368-5300B2A3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CB4-D665-48E4-B389-27FE3DA3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FEC-839E-451A-82B7-880EAF8E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A99-8946-4B2E-96FE-21A6B046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00E-74C2-4FD2-B402-E13EBED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86E-E51F-4437-AC45-22AE03C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3BE-B506-4AE7-99DA-3966E651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3F5-6D28-4849-A3D9-2284AFE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FFE-4FA5-457A-8299-F9E56CF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B29-86E5-47DE-9FD0-57B1741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0D4-C951-418B-8571-E32ADF6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092-CC08-4063-81FE-B18E3DB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5B8-0BF9-4E74-AB2B-3A6F0226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914400" y="0"/>
            <a:ext cx="100584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990720"/>
            <a:ext cx="8086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Чрезвычайные ситуации</a:t>
            </a:r>
            <a:endParaRPr b="1" lang="en-US" sz="40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метеорологического происхождения</a:t>
            </a:r>
            <a:endParaRPr b="1" lang="en-US" sz="40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53272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7491" y="10800"/>
                </a:moveTo>
                <a:lnTo>
                  <a:pt x="6986" y="17806"/>
                </a:lnTo>
                <a:lnTo>
                  <a:pt x="6986" y="3794"/>
                </a:lnTo>
                <a:close/>
              </a:path>
              <a:path fill="darken" w="27984" h="21600">
                <a:moveTo>
                  <a:pt x="19336" y="3794"/>
                </a:moveTo>
                <a:lnTo>
                  <a:pt x="19336" y="17806"/>
                </a:lnTo>
                <a:lnTo>
                  <a:pt x="20999" y="17806"/>
                </a:lnTo>
                <a:lnTo>
                  <a:pt x="20999" y="3794"/>
                </a:lnTo>
                <a:close/>
              </a:path>
            </a:pathLst>
          </a:custGeom>
          <a:solidFill>
            <a:srgbClr val="8b8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3716280"/>
            <a:ext cx="6046560" cy="1620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ЗОТИНА НАТАЛИ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реподаватель-организатор ОБЖ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МОУ основная общеобразовательная школа №1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г.Городц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0" t="57335" r="0" b="28557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09680" y="4419720"/>
            <a:ext cx="464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1,5 – 74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71447" r="0" b="14445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4267080"/>
            <a:ext cx="4724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75,5 – 101,4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85563" r="0" b="329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5280" y="426708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3 – 120,7 км/ч и боле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лассификация урага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362320"/>
            <a:ext cx="2819160" cy="266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В зависим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т скор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в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828800"/>
            <a:ext cx="403848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Ураган (скорость ветра 32 м/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124080"/>
            <a:ext cx="403848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ильный ураг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скорость ветра 39,2 м/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419720"/>
            <a:ext cx="4038480" cy="99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Жестокий ураг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скорость ветра 48, 6 м/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2096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3352680"/>
            <a:ext cx="990360" cy="609840"/>
          </a:xfrm>
          <a:prstGeom prst="rightArrow">
            <a:avLst>
              <a:gd name="adj1" fmla="val 50000"/>
              <a:gd name="adj2" fmla="val 4059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5720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лассификация бу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066680"/>
            <a:ext cx="2819520" cy="152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 зависи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т окраски частиц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овлеч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 дви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895480"/>
            <a:ext cx="2819520" cy="152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частиц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овлеч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 дви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724280"/>
            <a:ext cx="281952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 зависи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т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066680"/>
            <a:ext cx="411480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Ч ё р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447920"/>
            <a:ext cx="411480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К р а с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828800"/>
            <a:ext cx="41148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Ж ё л т о – к р а с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209680"/>
            <a:ext cx="411480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Б е л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981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895480"/>
            <a:ext cx="4114800" cy="38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 ы л е в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505320"/>
            <a:ext cx="411480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 е с ч а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114800"/>
            <a:ext cx="411480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С н е ж н ы 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343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4724280"/>
            <a:ext cx="4267080" cy="38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Бури (скорость ветра 20 м/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5257800"/>
            <a:ext cx="4495680" cy="380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ильные бури (скорость ветра 28 м/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791320"/>
            <a:ext cx="4572000" cy="4572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Жестокие бури (скорость ветра 30,5 м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5288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счаная бур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05520" y="304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нежная бур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0492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Желто-красная (пылевая) бур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Классификация смерч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066680"/>
            <a:ext cx="2819520" cy="152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роисхожд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2819520" cy="152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724280"/>
            <a:ext cx="281952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 охва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ростра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43000"/>
            <a:ext cx="411480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Н е в и д и м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676520"/>
            <a:ext cx="411480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 о д я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9680"/>
            <a:ext cx="41148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 г н е н н ы 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971800"/>
            <a:ext cx="41148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П л о т н ы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809880"/>
            <a:ext cx="41148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Р а с п л ы в ч а т ы 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724280"/>
            <a:ext cx="4267080" cy="381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Малые смерчи короткого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257800"/>
            <a:ext cx="449568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Малые смерчи длительного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791320"/>
            <a:ext cx="4572000" cy="457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мерчи – ураганные вих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Последствия ураганов, бурь, смерч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4267080" cy="3353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981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Ущерб сельскому хозяйств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53352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0c0c0"/>
                  </a:outerShdw>
                </a:effectLst>
                <a:latin typeface="Impact"/>
              </a:rPr>
              <a:t>Природные яв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133720"/>
            <a:ext cx="69339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967e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геологическ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67e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метеорологическ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67e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гидрологическ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67e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биологическ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67e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67ed8"/>
                </a:solidFill>
                <a:latin typeface="Arial"/>
              </a:rPr>
              <a:t>космическ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343400" cy="3353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40384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Гибель и травматизм лю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4191120" cy="3359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19720" y="16765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Разрушение приморских соору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Нанесение ущерба транспорт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396252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Разрушение стро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267080" cy="2894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228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озникновение наводн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00680" cy="2994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95680" y="838080"/>
            <a:ext cx="438156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362320" y="3886200"/>
            <a:ext cx="42289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анесение ущерба природной сре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317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4305240" cy="312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590920" y="3733920"/>
            <a:ext cx="42163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2320" y="304920"/>
            <a:ext cx="64767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едвидь опасность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 возмож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збегай её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 необходимости – действу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15920"/>
            <a:ext cx="792144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d53"/>
                </a:solidFill>
                <a:uFillTx/>
                <a:latin typeface="Times New Roman"/>
              </a:rPr>
              <a:t>«Землетрясения, вулканы, оползни, обвалы, сел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. Что такое землетрясение? Укажите правильный от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подземные удары и колебания поверхности Зем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область возникновения подземного уда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проекция центра очага землетрясения на земную поверх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. "Палящая туча" - э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тучи пепла, поднимающиеся на большую высо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тучи раскаленного газа под большим давлением, исходящие из жерла вулк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тучи раскаленного газа и пепла, удерживающиеся у самой поверхности зем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d. тучи раскаленного газа и пепла, поднимающиеся на высоту до 75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. Основным способом спасения людей при извержении вулканов яв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укрытия в специально оборудованных убежищ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эвакуа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использование средств индивидуальной защиты органов дыхания и ко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. Горный поток, состоящий из смеси воды и горных пород назы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обва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селем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ополз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d. лави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. Быстро, внезапно возникающее движение снега или льда вниз по крутым склонам гор называется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снежной бур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сел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обва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d. лави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. Обрыв и катастрофическое отделение больших масс горных пород, их опрокидывание, дробление и скатывание на крутых и обрывистых склонах э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a. камнепа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b. оползен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2cb0"/>
                </a:solidFill>
                <a:latin typeface="Times New Roman"/>
              </a:rPr>
              <a:t>c. обв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6708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БУРЯ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– ветер, скорость которого колеблется в пределах от  62 до 105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362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Ураган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– ветер, скорость которого составляет более 115 км/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4221000"/>
            <a:ext cx="379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Смерч (торнадо)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– это столб с изогнутой осью, вращение воздуха против часовой стрелки со скоростью до 100 м/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373392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00600" y="18288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8654" t="15672" r="12020" b="10122"/>
          <a:stretch/>
        </p:blipFill>
        <p:spPr>
          <a:xfrm>
            <a:off x="1828800" y="1143000"/>
            <a:ext cx="541008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1911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b0"/>
                </a:solidFill>
                <a:latin typeface="Arial"/>
              </a:rPr>
              <a:t>Область высокого д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426708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b0"/>
                </a:solidFill>
                <a:latin typeface="Arial"/>
              </a:rPr>
              <a:t>Область низкого д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04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Как образуется вете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886200"/>
            <a:ext cx="3886200" cy="838080"/>
          </a:xfrm>
          <a:custGeom>
            <a:avLst/>
            <a:gdLst>
              <a:gd name="textAreaLeft" fmla="*/ 680040 w 3886200"/>
              <a:gd name="textAreaRight" fmla="*/ 2817720 w 38862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d53"/>
                </a:solidFill>
                <a:latin typeface="Arial"/>
              </a:rPr>
              <a:t>Строение цикл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d53"/>
                </a:solidFill>
                <a:latin typeface="Times New Roman"/>
              </a:rPr>
              <a:t>Шкала Бофор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85892"/>
          <a:stretch/>
        </p:blipFill>
        <p:spPr>
          <a:xfrm>
            <a:off x="0" y="12952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487692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0 – 1,6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0" t="14112" r="0" b="71780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3720" y="4343400"/>
            <a:ext cx="5105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3,2 – 11,3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0" t="28224" r="0" b="57664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44956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2,9 – 28,9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0" t="42340" r="0" b="42969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62320" y="4343400"/>
            <a:ext cx="4495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корость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30,6 – 49,9 км/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7:38:37Z</dcterms:created>
  <dc:creator>admin</dc:creator>
  <dc:description/>
  <dc:language>en-US</dc:language>
  <cp:lastModifiedBy>user</cp:lastModifiedBy>
  <dcterms:modified xsi:type="dcterms:W3CDTF">2013-03-28T14:19:09Z</dcterms:modified>
  <cp:revision>14</cp:revision>
  <dc:subject/>
  <dc:title>Презентация PowerPoint</dc:title>
</cp:coreProperties>
</file>