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973-17A2-403F-A676-3C063083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CC0-0925-4D2B-A8DB-064F4DF1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1A7-A5C4-4EB1-82F7-A5ADD7E7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72A-036E-4554-8633-A107A18E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4E0-F7E8-4F67-825C-26E4871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2659-F7DC-4A2F-A028-2C4A5CA2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2C8A-E979-4392-8556-5F54F54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6D41-B359-4644-A0BA-43BD609C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2074-852A-4225-B8EA-3793A03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16A-36F8-4948-9591-E65140B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498D-4852-4C40-89B6-C012C38D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A1E-05AF-48B5-B233-7745ED19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2FD-6E15-412E-9C61-B4E1C65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64A0-A618-403D-95F1-AFFB559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CADA-55F7-4B3C-810D-DB8248E8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B15A-A35E-4BA8-A907-0E7844C1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F00-EC52-4796-8808-E82309A0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187-80EB-4B8D-9C71-60D38E52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E71-9A35-4F7E-AB22-18EDE19B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12C-A9BC-4896-91C0-53A3A844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089-346B-42BA-9C87-2BEC3BB1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1AE-FF8C-4DE8-B902-3B74D706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B2B-89E7-4320-8057-F9167FD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70F4-C2BC-435F-97EA-0553A77E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C247-1284-4D72-9F05-FB34148A4DE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4020-ECA2-44A2-91AA-901B9126A60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ма:  </a:t>
            </a:r>
            <a:r>
              <a:rPr b="0" i="1" lang="ru-RU" sz="4400" spc="-1" strike="noStrike">
                <a:solidFill>
                  <a:srgbClr val="999900"/>
                </a:solidFill>
                <a:latin typeface="Garamond"/>
              </a:rPr>
              <a:t>Гражданское общество</a:t>
            </a:r>
            <a:br>
              <a:rPr sz="4400"/>
            </a:br>
            <a:r>
              <a:rPr b="0" i="1" lang="ru-RU" sz="4400" spc="-1" strike="noStrike">
                <a:solidFill>
                  <a:srgbClr val="999900"/>
                </a:solidFill>
                <a:latin typeface="Garamond"/>
              </a:rPr>
              <a:t>и правовое государ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уро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приведенном ниже списке все случаи за исключением одного имеют отношение к понятию «правово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государство» Найдит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1)Возбуждено уголовное дело за неуплату налогов против министра экономики 2) запрет занимать должности в органах законодательной и исполнительной власти одновременно 3) решение законодательной власти о лишении граждан провозглашенных в Конституции прав 4) запрет на подслушивание правительственными агентами телефонных разгов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приведенном списке найдите элементы гражданского общества и запишите цифры, под которыми они указа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Мафия 2)общество нумизматов 3) УНО  4)Комитет солдатских матерей  5)районный суд  6)Единая Россия 7)Комсомол 8)профсоюзы 9) клуб любителей пи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8" descr="2-1-1"/>
          <p:cNvPicPr/>
          <p:nvPr/>
        </p:nvPicPr>
        <p:blipFill>
          <a:blip r:embed="rId1"/>
          <a:stretch/>
        </p:blipFill>
        <p:spPr>
          <a:xfrm>
            <a:off x="1219320" y="228600"/>
            <a:ext cx="312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ую роль играют СМИ в формировании гражданского общества?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Какое влияние оказывают СМИ на подрастающее поколение? За последнее десятилетие накапливаются данные, свидетельствующие о все более деструктивном влиянии многих средств массовой информации (СМИ) на психическое здоровье населения. Это вызывает тревогу и озабоченность медицинской общественности и широких кругов общества. Барденштейн Л.М. и Можгинский Ю.Б. высказали твердое мнение о том, что одним изважнейших социальных звеньев формирования агрессии у детей и подростков является влияние средств массовой информации."/>
          <p:cNvPicPr/>
          <p:nvPr/>
        </p:nvPicPr>
        <p:blipFill>
          <a:blip r:embed="rId1"/>
          <a:stretch/>
        </p:blipFill>
        <p:spPr>
          <a:xfrm>
            <a:off x="4343400" y="685800"/>
            <a:ext cx="33274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Граждане  подданные государство  </a:t>
            </a: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↔ ↓ ↑  ←</a:t>
            </a:r>
            <a:br>
              <a:rPr sz="3200"/>
            </a:br>
            <a:r>
              <a:rPr b="0" lang="ru-RU" sz="3200" spc="-1" strike="noStrike">
                <a:solidFill>
                  <a:srgbClr val="999900"/>
                </a:solidFill>
                <a:latin typeface="Arial"/>
              </a:rPr>
              <a:t>            А                                   Б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знаки правового государ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ховенство правового зако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ирокий спектр прав и своб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ая ответственность личности и государ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ьный принцип разделения вл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й и идеологический плюрализм, выражающийся в существовании различных партий, течений, организа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ANd9GcSWgFKrpD7QmsNhmlW5r8s0qcM7A049ot_sKXKzkt7nhyKQlF-2"/>
          <p:cNvPicPr/>
          <p:nvPr/>
        </p:nvPicPr>
        <p:blipFill>
          <a:blip r:embed="rId1"/>
          <a:stretch/>
        </p:blipFill>
        <p:spPr>
          <a:xfrm>
            <a:off x="7431120" y="152280"/>
            <a:ext cx="1712880" cy="1140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ANd9GcRdjf3a6E2XJ08vyzrgE_rNfc0M2U-mu_1A7tdIjc-r7s1_lWK-iw"/>
          <p:cNvPicPr/>
          <p:nvPr/>
        </p:nvPicPr>
        <p:blipFill>
          <a:blip r:embed="rId2"/>
          <a:stretch/>
        </p:blipFill>
        <p:spPr>
          <a:xfrm>
            <a:off x="7826400" y="1600200"/>
            <a:ext cx="13176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ANd9GcTKUlH8mRbR3hqEN1D26EXqojsAutHarXRcZUQ6Bid-SHc0uHVJ"/>
          <p:cNvPicPr/>
          <p:nvPr/>
        </p:nvPicPr>
        <p:blipFill>
          <a:blip r:embed="rId3"/>
          <a:stretch/>
        </p:blipFill>
        <p:spPr>
          <a:xfrm>
            <a:off x="3733920" y="0"/>
            <a:ext cx="122400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Nd9GcQVl1M5nfNQ7q-nlr8NDy3nG2QrLB0xGX_hbjZHHruRtU2spk4Gnw"/>
          <p:cNvPicPr/>
          <p:nvPr/>
        </p:nvPicPr>
        <p:blipFill>
          <a:blip r:embed="rId4"/>
          <a:stretch/>
        </p:blipFill>
        <p:spPr>
          <a:xfrm>
            <a:off x="4038480" y="2971800"/>
            <a:ext cx="128772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TZ1P5X2B2wUlSLwVuzlhVRDJEhRqnEVsYipVUz8RbECEKLx5sJ3w"/>
          <p:cNvPicPr/>
          <p:nvPr/>
        </p:nvPicPr>
        <p:blipFill>
          <a:blip r:embed="rId5"/>
          <a:stretch/>
        </p:blipFill>
        <p:spPr>
          <a:xfrm>
            <a:off x="4114800" y="1600200"/>
            <a:ext cx="2567160" cy="1344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Nd9GcSpOKha4-nirBHmPnW90-B9Xh9rsEmkuFY69eMr3mN9VGBg_CXB"/>
          <p:cNvPicPr/>
          <p:nvPr/>
        </p:nvPicPr>
        <p:blipFill>
          <a:blip r:embed="rId6"/>
          <a:stretch/>
        </p:blipFill>
        <p:spPr>
          <a:xfrm>
            <a:off x="5181480" y="2971800"/>
            <a:ext cx="1349640" cy="1976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ANd9GcT724aj1htTZP4mwD2o62aaqb8Uq53qm2crFMoyMU9qKdWZ3XXE"/>
          <p:cNvPicPr/>
          <p:nvPr/>
        </p:nvPicPr>
        <p:blipFill>
          <a:blip r:embed="rId7"/>
          <a:stretch/>
        </p:blipFill>
        <p:spPr>
          <a:xfrm>
            <a:off x="4648320" y="5105520"/>
            <a:ext cx="2077920" cy="1558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Nd9GcRra0le6KMVbkxW2b68QVvLbAD42d0AVXxdE82iApVvLwX0A2il"/>
          <p:cNvPicPr/>
          <p:nvPr/>
        </p:nvPicPr>
        <p:blipFill>
          <a:blip r:embed="rId8"/>
          <a:stretch/>
        </p:blipFill>
        <p:spPr>
          <a:xfrm>
            <a:off x="6172200" y="38098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ANd9GcQ5xTLoJAsNu0EI5U4Z75i9XIi7o9Qiq8uaFbKb4mVBFnKXPCuq"/>
          <p:cNvPicPr/>
          <p:nvPr/>
        </p:nvPicPr>
        <p:blipFill>
          <a:blip r:embed="rId9"/>
          <a:stretch/>
        </p:blipFill>
        <p:spPr>
          <a:xfrm>
            <a:off x="7769160" y="3657600"/>
            <a:ext cx="137484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ANd9GcTeFlAb3IpN7vUaKNcdhiHCOx-1flsoQGCwwnaFeYUT5IW9qzag"/>
          <p:cNvPicPr/>
          <p:nvPr/>
        </p:nvPicPr>
        <p:blipFill>
          <a:blip r:embed="rId10"/>
          <a:stretch/>
        </p:blipFill>
        <p:spPr>
          <a:xfrm>
            <a:off x="6491160" y="1828800"/>
            <a:ext cx="1554120" cy="2209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ANd9GcR1pNgDYH4Tu7nxn4uMeEtQnoiifJqYUPI_wcwesebQtk48Fc-qrQ"/>
          <p:cNvPicPr/>
          <p:nvPr/>
        </p:nvPicPr>
        <p:blipFill>
          <a:blip r:embed="rId11"/>
          <a:stretch/>
        </p:blipFill>
        <p:spPr>
          <a:xfrm>
            <a:off x="4952880" y="0"/>
            <a:ext cx="1828800" cy="16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1"/>
          <p:cNvPicPr/>
          <p:nvPr/>
        </p:nvPicPr>
        <p:blipFill>
          <a:blip r:embed="rId12"/>
          <a:stretch/>
        </p:blipFill>
        <p:spPr>
          <a:xfrm>
            <a:off x="6705720" y="152280"/>
            <a:ext cx="167616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ANd9GcSZSqpOnsLsJVHIXRjo4yZiwVUHOqYKw7qMm3LWuRaRr6d5nSFpxw"/>
          <p:cNvPicPr/>
          <p:nvPr/>
        </p:nvPicPr>
        <p:blipFill>
          <a:blip r:embed="rId13"/>
          <a:stretch/>
        </p:blipFill>
        <p:spPr>
          <a:xfrm>
            <a:off x="6934320" y="5551560"/>
            <a:ext cx="18288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ражданин - 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, обладающий  правовым статусом     ( совокупностью прав и обязанностей, определяющей юридическое положение в обществ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вободный и равный в прав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Отечества достойный сын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овари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ражданское     обществ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↓                                          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окупность горизонтальных                        Самоорганизация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 и ассоциаций, независимых          С необходимостью порожд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аже противопоставленных                     государство, которое  рассмат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у.   ( Д. Локк)                               ривается как высшая ступ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й само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Ш. Монтескь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ское общество – совокупность негосударственных общественных отношений и институтов, выражающих разнообразные частные (индивидуальные и коллективные) интересы и потребности свободных граждан в различных сферах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Гимн русскому воинству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БОРОДИНСКАЯ БИТВА.ГИМН РУССКОМУ ВОИНСТВУ! 1812.mp4" descr=""/>
          <p:cNvPicPr/>
          <p:nvPr/>
        </p:nvPicPr>
        <p:blipFill>
          <a:blip r:embed="rId1"/>
          <a:stretch/>
        </p:blipFill>
        <p:spPr>
          <a:xfrm>
            <a:off x="3048120" y="2722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Характеристики муниципальных образований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ведению относится местный бюджет, любые хозяйственные, социальные, культурные, природоохранительные вопросы местного зна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входят в систему органов государственной власти Р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икакой государственный орган не вправе вмешиваться в решения местного характе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онодательная защита прав местного самоуправления в су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Муниципальное образование                        Шарканское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Глава администраци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Николаев Андрей Павло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менников Михаил Николае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концева Галина Юр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уменников Дмитрий Александро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удяков Сергей Николае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аваев Александр Геннадье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лчанова Валентина Валер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филов Александр Василье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асильев Сергей Анатолье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возчикова Елена Леонид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йков Сергей Вячеславо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возчиков Александр Вениамино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оненко Алевти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ANd9GcSTtFyz_TQYqpcx4hmHhQMMccTjN5ltyY_LWTEYn8fLHyNrp52X"/>
          <p:cNvPicPr/>
          <p:nvPr/>
        </p:nvPicPr>
        <p:blipFill>
          <a:blip r:embed="rId1"/>
          <a:stretch/>
        </p:blipFill>
        <p:spPr>
          <a:xfrm>
            <a:off x="6172200" y="1600200"/>
            <a:ext cx="243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7:30:12Z</dcterms:created>
  <dc:creator>Пользователь</dc:creator>
  <dc:description/>
  <dc:language>en-US</dc:language>
  <cp:lastModifiedBy>Лопатин</cp:lastModifiedBy>
  <dcterms:modified xsi:type="dcterms:W3CDTF">2012-03-12T11:03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