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2FC-C269-46B4-9AD3-62B78E6C9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8B86CA-82A9-4283-85F9-F889F5778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58C595-616A-455B-B4E0-D7CDD1B29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BB6BA2-2613-486D-883E-093684DC3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7514EF-5FD2-4AEA-80A9-2D7C19EE4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77CDB6-7693-4687-8F89-A4A4D2AC3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3265A2-1573-422F-A8C3-63F3790C8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3BBF7E-CEB6-420E-A24A-8E8C04C78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8ECCD6-A8C5-4B5B-A95B-AF6519B9F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BC8EF4-0CBC-4B12-8D19-2A5543FFC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B31E9C-95E7-45E9-95CA-360768619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4FDB56-B38A-480D-8989-CE04AB0DE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FD66A8-9F44-4769-847D-61D851D2C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3953A2-EB51-4BFD-B65C-D3E7D4D1B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A8E924-FCA2-4964-94DA-E60627094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45E4D-034E-47C6-B210-8315B0D1C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8525E2-DB52-4475-B598-D6E7D1D28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393-9A4B-4392-A898-4F6D93D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912-58E0-4632-8DEA-CAA49423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A6B-056F-4F9A-90F2-79361D7D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F14-AC2D-4BD7-B323-993C8BF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8E7-AAEE-454A-8353-6980404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8C2-674B-428D-A739-23B0EA7D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DB8-951A-4F7F-97FA-501E043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A1F-3703-4347-B5E5-9B60885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7EC-2B74-4D5C-8CFF-4953BB61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B98-C8F0-4140-9B78-1CFB4C0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6E3-977A-4C88-B04B-1110159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12D-290A-47C8-8143-93FD574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FC4-B827-4103-BFC5-E561E4F7E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505050"/>
                </a:solidFill>
                <a:latin typeface="Arial"/>
                <a:ea typeface="Arial"/>
              </a:rPr>
              <a:t>тренажёр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05050"/>
                </a:solidFill>
                <a:latin typeface="Arial"/>
                <a:ea typeface="Arial"/>
              </a:rPr>
              <a:t>А 2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ASUS\Pictures\шаблон ЕГЭ\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643120" y="1785960"/>
            <a:ext cx="4572000" cy="1556280"/>
          </a:xfrm>
          <a:prstGeom prst="rect">
            <a:avLst/>
          </a:prstGeom>
          <a:solidFill>
            <a:srgbClr val="99ff99"/>
          </a:solidFill>
          <a:ln w="2844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РЕНАЖ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2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40480" y="228600"/>
            <a:ext cx="608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Готовимся к  ЕГЭ  по  русскому язы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800600" y="5562720"/>
            <a:ext cx="4071960" cy="338040"/>
          </a:xfrm>
          <a:prstGeom prst="rect">
            <a:avLst/>
          </a:prstGeom>
          <a:solidFill>
            <a:srgbClr val="99ff99"/>
          </a:solidFill>
          <a:ln w="3816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51055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50292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7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1"/>
          <p:cNvSpPr/>
          <p:nvPr/>
        </p:nvSpPr>
        <p:spPr>
          <a:xfrm>
            <a:off x="228600" y="2286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8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ару часов (1) когда стало уже совсем жарко (2) и толчея в порту замерла (3) мальчики выбрались за городскую черту (4) и поднялись на холм (5) с которого видна гав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1"/>
          <p:cNvSpPr/>
          <p:nvPr/>
        </p:nvSpPr>
        <p:spPr>
          <a:xfrm>
            <a:off x="228600" y="228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9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я диких уток с пронзительным криком промчалась над нашими головами (1) и (2) когда мы услышали (3) с каким шумом они опустились на реку (4) нам стало немного не по себ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1"/>
          <p:cNvSpPr/>
          <p:nvPr/>
        </p:nvSpPr>
        <p:spPr>
          <a:xfrm>
            <a:off x="228600" y="2286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0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ся была мягко настойчива (1) и (2) хотя вспомнить всё было трудно (3) постепенно старушка рассказала (4) как было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2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8"/>
          <p:cNvSpPr/>
          <p:nvPr/>
        </p:nvSpPr>
        <p:spPr>
          <a:xfrm>
            <a:off x="5791320" y="34290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5105520" y="3733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1066680" y="3733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1676520" y="3429000"/>
            <a:ext cx="16761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676520" y="4800600"/>
            <a:ext cx="16761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1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2"/>
          <p:cNvSpPr/>
          <p:nvPr/>
        </p:nvSpPr>
        <p:spPr>
          <a:xfrm>
            <a:off x="3505320" y="3733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3"/>
          <p:cNvSpPr/>
          <p:nvPr/>
        </p:nvSpPr>
        <p:spPr>
          <a:xfrm>
            <a:off x="7620120" y="3733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4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1"/>
          <p:cNvSpPr/>
          <p:nvPr/>
        </p:nvSpPr>
        <p:spPr>
          <a:xfrm>
            <a:off x="152280" y="533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0"/>
          <p:cNvSpPr/>
          <p:nvPr/>
        </p:nvSpPr>
        <p:spPr>
          <a:xfrm>
            <a:off x="228600" y="228600"/>
            <a:ext cx="8686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1. В каком варианте ответа правильно указаны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я в имении не ждали (1) так как никто не знал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дет ли он (3) и (4) поэтому его появление стало для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жида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"/>
          <p:cNvGrpSpPr/>
          <p:nvPr/>
        </p:nvGrpSpPr>
        <p:grpSpPr>
          <a:xfrm>
            <a:off x="152280" y="189000"/>
            <a:ext cx="8785080" cy="6668640"/>
            <a:chOff x="152280" y="189000"/>
            <a:chExt cx="8785080" cy="6668640"/>
          </a:xfrm>
        </p:grpSpPr>
        <p:sp>
          <p:nvSpPr>
            <p:cNvPr id="282" name="Line 3"/>
            <p:cNvSpPr/>
            <p:nvPr/>
          </p:nvSpPr>
          <p:spPr>
            <a:xfrm>
              <a:off x="152280" y="189000"/>
              <a:ext cx="87850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52280" y="18900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52280" y="6857640"/>
              <a:ext cx="87850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8937360" y="18900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8"/>
          <p:cNvSpPr/>
          <p:nvPr/>
        </p:nvSpPr>
        <p:spPr>
          <a:xfrm>
            <a:off x="1600200" y="4876920"/>
            <a:ext cx="167652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105520" y="3962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990720" y="3962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791320" y="3581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600200" y="35812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5791320" y="4876920"/>
            <a:ext cx="16002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7"/>
          <p:cNvSpPr/>
          <p:nvPr/>
        </p:nvSpPr>
        <p:spPr>
          <a:xfrm>
            <a:off x="3505320" y="3962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8"/>
          <p:cNvSpPr/>
          <p:nvPr/>
        </p:nvSpPr>
        <p:spPr>
          <a:xfrm>
            <a:off x="7772400" y="3962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0"/>
          <p:cNvSpPr/>
          <p:nvPr/>
        </p:nvSpPr>
        <p:spPr>
          <a:xfrm>
            <a:off x="76960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1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1"/>
          <p:cNvSpPr/>
          <p:nvPr/>
        </p:nvSpPr>
        <p:spPr>
          <a:xfrm>
            <a:off x="228600" y="22860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2. В каком варианте ответа правильно указаны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ничего не ответила (1) и (2) чтобы отвлечься от неприятного ей разговора (3) она подошла к клетке с птицами и стала рассеянно подсыпать зерно в кормушки (4) хотя они уже были п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1"/>
          <p:cNvSpPr/>
          <p:nvPr/>
        </p:nvSpPr>
        <p:spPr>
          <a:xfrm>
            <a:off x="228600" y="228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3. В каком варианте ответа правильно указаны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умал о людях (1) чья жизнь (2) была связана с этой историей (3) и мне захотелось узнать (4) что с ними ст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2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8"/>
          <p:cNvSpPr/>
          <p:nvPr/>
        </p:nvSpPr>
        <p:spPr>
          <a:xfrm>
            <a:off x="1600200" y="3505320"/>
            <a:ext cx="167652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9907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51055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5"/>
          <p:cNvSpPr/>
          <p:nvPr/>
        </p:nvSpPr>
        <p:spPr>
          <a:xfrm>
            <a:off x="5715000" y="3505320"/>
            <a:ext cx="16002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9"/>
          <p:cNvSpPr/>
          <p:nvPr/>
        </p:nvSpPr>
        <p:spPr>
          <a:xfrm>
            <a:off x="35053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0"/>
          <p:cNvSpPr/>
          <p:nvPr/>
        </p:nvSpPr>
        <p:spPr>
          <a:xfrm>
            <a:off x="754380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28"/>
          <p:cNvSpPr/>
          <p:nvPr/>
        </p:nvSpPr>
        <p:spPr>
          <a:xfrm>
            <a:off x="228600" y="228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4. В каком варианте ответа правильно указаны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и замерли в ожидании (1) и (2) когда занавес  медленно поднялся (3) и показались великолепные декорации (4) в зале послышались восхищённые возгл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228600" y="2286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5. В каком варианте ответа правильно указаны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ркая зелень камыша перемешивалась на живопис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сном болоте с белыми облаками цветущего дягил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дрявого ивняка (1) и (2) когда идёшь краем леса (3)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вольно  хватаешься за длинные ветки бол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старников (4) которые протянулись к троп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5715000" y="5410080"/>
            <a:ext cx="15987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518148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990720" y="441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9907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5105520" y="441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1600200" y="41148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1600200" y="54100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5715000" y="4114800"/>
            <a:ext cx="15987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7"/>
          <p:cNvSpPr/>
          <p:nvPr/>
        </p:nvSpPr>
        <p:spPr>
          <a:xfrm>
            <a:off x="350532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8"/>
          <p:cNvSpPr/>
          <p:nvPr/>
        </p:nvSpPr>
        <p:spPr>
          <a:xfrm>
            <a:off x="3505320" y="441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9"/>
          <p:cNvSpPr/>
          <p:nvPr/>
        </p:nvSpPr>
        <p:spPr>
          <a:xfrm>
            <a:off x="7543800" y="5715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0"/>
          <p:cNvSpPr/>
          <p:nvPr/>
        </p:nvSpPr>
        <p:spPr>
          <a:xfrm>
            <a:off x="7543800" y="4419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Скругленный прямоугольник 4"/>
          <p:cNvSpPr/>
          <p:nvPr/>
        </p:nvSpPr>
        <p:spPr>
          <a:xfrm>
            <a:off x="762120" y="2209680"/>
            <a:ext cx="7467480" cy="914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61976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  <a:ea typeface="Arial"/>
              </a:rPr>
              <a:t>Удачи на экзамен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1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228600" y="76212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 презентации – Ахметшина Н.Ю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гимназии № 148 им. Сервантеса 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 учебного тренажёра – Захарова Т.А., Байдакова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it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ru/profil.aspx?cat_no=692&amp;d_no=48111&amp;all=1&amp;page=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й материал – ЕГЭ-2011. Русский язык. Типовые экзаменационные  варианты. 30 вариантов под ред. Цыбулько И.П. – М.: Национальное образование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380880" y="609480"/>
            <a:ext cx="77724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28440">
            <a:solidFill>
              <a:srgbClr val="003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нструкция по работе с тренажё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8600" y="121932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й тренажер содержит 15 заданий фор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а А26 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аждое задание имеет 4 варианта ответа.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 один  правильный, нажав при этом на к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выбранным вариант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Если ответ правильный, появится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Если ответ неверный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ереход к следующему заданию осуществляется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6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1"/>
          <p:cNvSpPr/>
          <p:nvPr/>
        </p:nvSpPr>
        <p:spPr>
          <a:xfrm>
            <a:off x="228600" y="2286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В каком варианте ответа правильно указаны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304920" y="1676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вшийся в домашнем театре Шереметьевых французский посол писал (1) что (2) когда он увидел балет (3) то был потрясен талантом (4) крепост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8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1523880" y="4724280"/>
            <a:ext cx="175104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6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1"/>
          <p:cNvSpPr/>
          <p:nvPr/>
        </p:nvSpPr>
        <p:spPr>
          <a:xfrm>
            <a:off x="228600" y="24156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В каком варианте ответа правильно указаны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из современников А.С.Пушкина говорили о том (1) что (2) когда они смотрят на его портрет кисти О.А.Кипренского (3) то видят отразившиеся на лице поэта (4) «печали жиз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6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1"/>
          <p:cNvSpPr/>
          <p:nvPr/>
        </p:nvSpPr>
        <p:spPr>
          <a:xfrm>
            <a:off x="228600" y="22860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В каком варианте ответа правильно указаны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ифры, на месте которых в предложении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Е.Репин признавался (1) что (2) пока он работает над портретом (3) в его душе живет влюблённость в того человека (4) чей портрет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2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8"/>
          <p:cNvSpPr/>
          <p:nvPr/>
        </p:nvSpPr>
        <p:spPr>
          <a:xfrm>
            <a:off x="5715000" y="3276720"/>
            <a:ext cx="16002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510552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10666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676520" y="3200400"/>
            <a:ext cx="1600200" cy="1089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762012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"/>
          <p:cNvSpPr/>
          <p:nvPr/>
        </p:nvSpPr>
        <p:spPr>
          <a:xfrm>
            <a:off x="35812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8"/>
          <p:cNvSpPr/>
          <p:nvPr/>
        </p:nvSpPr>
        <p:spPr>
          <a:xfrm>
            <a:off x="76201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35812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1"/>
          <p:cNvSpPr/>
          <p:nvPr/>
        </p:nvSpPr>
        <p:spPr>
          <a:xfrm>
            <a:off x="228600" y="228600"/>
            <a:ext cx="87631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Павлович вставал с ранней зарёй (1) и (2) когда он вдыхал напоённый влажным запахом росы прохладный воздух (3) на душе у него становилось (4) легко и просто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228600" y="228600"/>
            <a:ext cx="8686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. В каком варианте ответа правильно указаны все цифры, на месте которых в предложении должны стоять запятые?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рос смышлёным и здоровым (1) и (2) когда он стал старше (3) отец разрешил ему делить с рыбками (4) трудности и опасности морского промы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grpSp>
        <p:nvGrpSpPr>
          <p:cNvPr id="16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6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8"/>
          <p:cNvSpPr/>
          <p:nvPr/>
        </p:nvSpPr>
        <p:spPr>
          <a:xfrm>
            <a:off x="1600200" y="3505320"/>
            <a:ext cx="167472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502920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9907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5715000" y="3505320"/>
            <a:ext cx="16002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6"/>
          <p:cNvSpPr/>
          <p:nvPr/>
        </p:nvSpPr>
        <p:spPr>
          <a:xfrm>
            <a:off x="76201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3505320" y="380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1"/>
          <p:cNvSpPr/>
          <p:nvPr/>
        </p:nvSpPr>
        <p:spPr>
          <a:xfrm>
            <a:off x="228600" y="228600"/>
            <a:ext cx="86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6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меняется с течением времени (1) и (2) чтобы понять логику поступков литературного героя или людей прошлого (3) надо представлять себе (4) как они жили, почему поступали так, а не ин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1" descr="C:\Users\ASUS\Pictures\шаблон ЕГЭ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8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76320">
            <a:solidFill>
              <a:srgbClr val="0033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>
            <a:hlinkClick r:id="" action="ppaction://hlinkshowjump?jump=nextslide"/>
          </p:cNvPr>
          <p:cNvSpPr/>
          <p:nvPr/>
        </p:nvSpPr>
        <p:spPr>
          <a:xfrm>
            <a:off x="81532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228600" y="22860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7. В каком варианте ответа правильно указаны все цифры, на месте которых в предложении должны стоять запя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река величаво несёт свои воды (1) и какое ей дело до этих цветов (2) которые плывут (3) по воде (4) как недавно плыли ль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 Н.Ю.</dc:creator>
  <dc:description/>
  <dc:language>en-US</dc:language>
  <cp:lastModifiedBy>Лариса</cp:lastModifiedBy>
  <dcterms:modified xsi:type="dcterms:W3CDTF">2014-04-07T10:08:33Z</dcterms:modified>
  <cp:revision>222</cp:revision>
  <dc:subject/>
  <dc:title>Тренажё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