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6FC-A2AE-4A5A-8962-E37B6F2733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F52-AFF7-46D5-830E-A32C30CF2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8798-6AC1-4CFE-8063-BB671BF4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9494-2093-47CB-A9C8-2608831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2EF0-A2C5-4869-8243-6A989B41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8E2B-B7D5-4E22-8CE6-A64239D3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2063-A0FB-40BB-8C73-73C7FC9A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CFD5-5B09-40F2-81B4-6590A6F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957-B8E8-4D9A-B420-251248D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C306-39AF-4D6B-ACBC-DCD8896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9AC-5CBA-430E-8284-462635D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799-2514-40A6-849B-CEB53DB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448-D2E6-44DA-87CD-81E665B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5245-9149-42C6-9078-8498D6B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900A-7A21-4280-A0F2-8FFE435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4BFC-92D8-46A4-AB2E-BE30E2E6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63E4-4A50-4C35-822E-536D1B7E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5C05-4846-4162-B939-05666E97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D77-0D04-4CD2-A442-6240FA56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8371-E67C-483D-BEA4-90D48CD1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9775-74A1-40CD-A034-087388C0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D7A7-8205-43C4-BF38-B24B4364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7A65-49A4-4C86-A149-534ED3D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E9B4-FA12-404B-927B-2768BC5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1DD7-8D1F-433B-BB31-886B4EA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EEE1-73BE-42F2-9F6C-1947DF41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B9C-60BC-470B-A89C-C6C527979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80AF-32D6-42B3-A997-670E4A341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Georgia"/>
              </a:rPr>
              <a:t>Урок русского язык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Georgia"/>
              </a:rPr>
              <a:t>в 9 класс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Определите разновидность подчинительной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Русский язык так богат и гибок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нам нечего брать у тех, кто бед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нас.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0310e"/>
                </a:solidFill>
                <a:latin typeface="Times New Roman"/>
              </a:rPr>
              <a:t>(И. С. Турген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23744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7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Цель нашего 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99cc"/>
                </a:solidFill>
                <a:latin typeface="Verdana"/>
              </a:rPr>
              <a:t>                 </a:t>
            </a:r>
            <a:r>
              <a:rPr b="1" i="1" lang="en-US" sz="3300" spc="-1" strike="noStrike">
                <a:solidFill>
                  <a:srgbClr val="9999cc"/>
                </a:solidFill>
                <a:latin typeface="Verdana"/>
              </a:rPr>
              <a:t>Задачи урока</a:t>
            </a: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Учиться самостоятельно решать поставленные проблемы путем  наблюдения за языковыми фа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доказывать, что язык развив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что наша речь бог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объяснять значения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проследить  роль языка в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12536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Познакомиться с   активными процессами, происходящими в   лексике, морфологии и  орфоэпии русского  языка (устаревшие формы слов, нормы орфоэпии, архаиз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историзмы, неологизмы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:\флеш-8г\2009\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68360" y="55296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10e"/>
                </a:solidFill>
                <a:latin typeface="Times New Roman"/>
                <a:ea typeface="Times New Roman"/>
              </a:rPr>
              <a:t>Невозможно определить сколько языков существует в мире, ввиду условности различия между разными языками, как невозможно провести границу между мор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564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6840" cy="564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бота над новым материалом.</a:t>
            </a:r>
            <a:br>
              <a:rPr sz="2000"/>
            </a:br>
            <a:br>
              <a:rPr sz="2000"/>
            </a:b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Изменения орфоэпических нор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01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70310e"/>
                </a:solidFill>
                <a:latin typeface="Arial"/>
              </a:rPr>
              <a:t>Амфора, английский, библиотека, заслуженный, индустрия, климат, музыка, паспорт, профи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Сравните с устаревшими норм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Амф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ра, 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нглийский, библи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тека, заслуж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Е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нный, инд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стрия, клим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т, муз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Ы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ка, пасп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рт, проф</a:t>
            </a:r>
            <a:r>
              <a:rPr b="1" i="1" lang="ru-RU" sz="3600" spc="-1" strike="noStrike">
                <a:solidFill>
                  <a:srgbClr val="dd0946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70310e"/>
                </a:solidFill>
                <a:latin typeface="Arial"/>
              </a:rPr>
              <a:t>ль</a:t>
            </a:r>
            <a:r>
              <a:rPr b="0" i="1" lang="ru-RU" sz="3600" spc="-1" strike="noStrike">
                <a:solidFill>
                  <a:srgbClr val="70310e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Вспомните строчки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70310e"/>
                </a:solidFill>
                <a:latin typeface="Arial"/>
              </a:rPr>
              <a:t>« Гремит музыка полковая…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10e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70310e"/>
                </a:solidFill>
                <a:latin typeface="Arial"/>
              </a:rPr>
              <a:t>« Недуг, которому причину давно бы отыскать пора, подобный английскому сплину, короче: русская хандра им овладела понемног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5861880"/>
            <a:ext cx="72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Во времена Пушкина эти ударения были норм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Изменение грамматических </a:t>
            </a:r>
            <a:br>
              <a:rPr sz="3600"/>
            </a:b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форм сл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000" spc="-1" strike="noStrike">
                <a:solidFill>
                  <a:srgbClr val="70310e"/>
                </a:solidFill>
                <a:latin typeface="Arial"/>
              </a:rPr>
              <a:t>Шумит порывный ветр между дерев нагих</a:t>
            </a:r>
            <a:br>
              <a:rPr sz="3000"/>
            </a:br>
            <a:br>
              <a:rPr sz="3000"/>
            </a:br>
            <a:r>
              <a:rPr b="1" i="1" lang="ru-RU" sz="3000" spc="-1" strike="noStrike">
                <a:solidFill>
                  <a:srgbClr val="70310e"/>
                </a:solidFill>
                <a:latin typeface="Arial"/>
              </a:rPr>
              <a:t>И, желтый лист крутя, далеко завевает.</a:t>
            </a:r>
            <a:br>
              <a:rPr sz="3000"/>
            </a:br>
            <a:br>
              <a:rPr sz="3000"/>
            </a:br>
            <a:r>
              <a:rPr b="1" i="1" lang="ru-RU" sz="2400" spc="-1" strike="noStrike">
                <a:solidFill>
                  <a:srgbClr val="70310e"/>
                </a:solidFill>
                <a:latin typeface="Arial"/>
              </a:rPr>
              <a:t>                                                       (Н. И. Гнедич. «Осень»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995640" y="1341360"/>
          <a:ext cx="5148360" cy="5556240"/>
        </p:xfrm>
        <a:graphic>
          <a:graphicData uri="http://schemas.openxmlformats.org/drawingml/2006/table">
            <a:tbl>
              <a:tblPr/>
              <a:tblGrid>
                <a:gridCol w="2106720"/>
                <a:gridCol w="3041640"/>
              </a:tblGrid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потребляется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А.С. Пушк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Современная нор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79280" y="1341360"/>
          <a:ext cx="3816360" cy="553248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13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Часть ре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существ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Дее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числ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прилаг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Местоим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763640" y="347760"/>
            <a:ext cx="58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7d"/>
                </a:solidFill>
                <a:latin typeface="Arial"/>
              </a:rPr>
              <a:t>Заполните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564000" y="476280"/>
          <a:ext cx="5580000" cy="5473800"/>
        </p:xfrm>
        <a:graphic>
          <a:graphicData uri="http://schemas.openxmlformats.org/drawingml/2006/table">
            <a:tbl>
              <a:tblPr/>
              <a:tblGrid>
                <a:gridCol w="2303280"/>
                <a:gridCol w="3276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потребляется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А.С. Пушк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Современная нор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 посте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В пос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Воспом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Вспомн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ьмна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Восемна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Д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Даль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79280" y="476280"/>
          <a:ext cx="3384720" cy="54738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Часть реч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существ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Дее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числ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мя прилаг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Местоим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348000" y="1341000"/>
            <a:ext cx="54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«Язык есть самая живая, самая обильная и прочная связь, соединяющая отжившие, живущие и будущие поколения народа в одно великое, историческое живое целое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Times New Roman"/>
              </a:rPr>
              <a:t>Константин Дмитриевич Ушинск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0974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Происхождение и употребление слов в современном русском язы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ка с точки зрения происхождения и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Organization Chart 4"/>
          <p:cNvGrpSpPr/>
          <p:nvPr/>
        </p:nvGrpSpPr>
        <p:grpSpPr>
          <a:xfrm>
            <a:off x="755640" y="2421000"/>
            <a:ext cx="7848000" cy="3816000"/>
            <a:chOff x="755640" y="2421000"/>
            <a:chExt cx="7848000" cy="3816000"/>
          </a:xfrm>
        </p:grpSpPr>
        <p:cxnSp>
          <p:nvCxnSpPr>
            <p:cNvPr id="160" name="_s64518"/>
            <p:cNvCxnSpPr>
              <a:stCxn id="161" idx="1"/>
              <a:endCxn id="162" idx="2"/>
            </p:cNvCxnSpPr>
            <p:nvPr/>
          </p:nvCxnSpPr>
          <p:spPr>
            <a:xfrm rot="10800000">
              <a:off x="2650680" y="3805920"/>
              <a:ext cx="271080" cy="202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4519"/>
            <p:cNvCxnSpPr>
              <a:stCxn id="164" idx="3"/>
              <a:endCxn id="162" idx="2"/>
            </p:cNvCxnSpPr>
            <p:nvPr/>
          </p:nvCxnSpPr>
          <p:spPr>
            <a:xfrm flipV="1">
              <a:off x="2381400" y="3805920"/>
              <a:ext cx="270360" cy="202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4520"/>
            <p:cNvCxnSpPr>
              <a:stCxn id="166" idx="1"/>
              <a:endCxn id="162" idx="2"/>
            </p:cNvCxnSpPr>
            <p:nvPr/>
          </p:nvCxnSpPr>
          <p:spPr>
            <a:xfrm rot="10800000">
              <a:off x="2650680" y="3805920"/>
              <a:ext cx="27108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4521"/>
            <p:cNvCxnSpPr>
              <a:stCxn id="168" idx="3"/>
              <a:endCxn id="162" idx="2"/>
            </p:cNvCxnSpPr>
            <p:nvPr/>
          </p:nvCxnSpPr>
          <p:spPr>
            <a:xfrm flipV="1">
              <a:off x="2381400" y="3806280"/>
              <a:ext cx="27036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4522"/>
            <p:cNvCxnSpPr>
              <a:stCxn id="170" idx="3"/>
              <a:endCxn id="171" idx="2"/>
            </p:cNvCxnSpPr>
            <p:nvPr/>
          </p:nvCxnSpPr>
          <p:spPr>
            <a:xfrm flipV="1">
              <a:off x="6439320" y="3805920"/>
              <a:ext cx="271080" cy="202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64523"/>
            <p:cNvCxnSpPr>
              <a:stCxn id="173" idx="1"/>
              <a:endCxn id="171" idx="2"/>
            </p:cNvCxnSpPr>
            <p:nvPr/>
          </p:nvCxnSpPr>
          <p:spPr>
            <a:xfrm rot="10800000">
              <a:off x="6709320" y="3805920"/>
              <a:ext cx="27036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4524"/>
            <p:cNvCxnSpPr>
              <a:stCxn id="175" idx="3"/>
              <a:endCxn id="171" idx="2"/>
            </p:cNvCxnSpPr>
            <p:nvPr/>
          </p:nvCxnSpPr>
          <p:spPr>
            <a:xfrm flipV="1">
              <a:off x="6439320" y="3806280"/>
              <a:ext cx="27108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4525"/>
            <p:cNvCxnSpPr>
              <a:stCxn id="171" idx="0"/>
              <a:endCxn id="177" idx="2"/>
            </p:cNvCxnSpPr>
            <p:nvPr/>
          </p:nvCxnSpPr>
          <p:spPr>
            <a:xfrm flipV="1" rot="16200000">
              <a:off x="5493600" y="2099520"/>
              <a:ext cx="403920" cy="2029680"/>
            </a:xfrm>
            <a:prstGeom prst="bentConnector3">
              <a:avLst>
                <a:gd name="adj1" fmla="val 404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64526"/>
            <p:cNvCxnSpPr>
              <a:stCxn id="162" idx="0"/>
              <a:endCxn id="177" idx="2"/>
            </p:cNvCxnSpPr>
            <p:nvPr/>
          </p:nvCxnSpPr>
          <p:spPr>
            <a:xfrm flipH="1" flipV="1" rot="5400000">
              <a:off x="3463920" y="2099520"/>
              <a:ext cx="403920" cy="2030040"/>
            </a:xfrm>
            <a:prstGeom prst="bentConnector3">
              <a:avLst>
                <a:gd name="adj1" fmla="val 404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64527"/>
            <p:cNvSpPr/>
            <p:nvPr/>
          </p:nvSpPr>
          <p:spPr>
            <a:xfrm>
              <a:off x="3579840" y="2421000"/>
              <a:ext cx="2202120" cy="489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Лекс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4528"/>
            <p:cNvSpPr/>
            <p:nvPr/>
          </p:nvSpPr>
          <p:spPr>
            <a:xfrm>
              <a:off x="1550160" y="3316320"/>
              <a:ext cx="2202120" cy="489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щеупотребительск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4529"/>
            <p:cNvSpPr/>
            <p:nvPr/>
          </p:nvSpPr>
          <p:spPr>
            <a:xfrm>
              <a:off x="5608800" y="3316320"/>
              <a:ext cx="2202120" cy="489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грани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 употребл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4530"/>
            <p:cNvSpPr/>
            <p:nvPr/>
          </p:nvSpPr>
          <p:spPr>
            <a:xfrm>
              <a:off x="4815720" y="421128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алект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4531"/>
            <p:cNvSpPr/>
            <p:nvPr/>
          </p:nvSpPr>
          <p:spPr>
            <a:xfrm>
              <a:off x="6980040" y="421128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фесси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л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термин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4532"/>
            <p:cNvSpPr/>
            <p:nvPr/>
          </p:nvSpPr>
          <p:spPr>
            <a:xfrm>
              <a:off x="4815720" y="542700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жаргон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4533"/>
            <p:cNvSpPr/>
            <p:nvPr/>
          </p:nvSpPr>
          <p:spPr>
            <a:xfrm>
              <a:off x="757800" y="421128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рха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4534"/>
            <p:cNvSpPr/>
            <p:nvPr/>
          </p:nvSpPr>
          <p:spPr>
            <a:xfrm>
              <a:off x="2922120" y="421128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еолог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4535"/>
            <p:cNvSpPr/>
            <p:nvPr/>
          </p:nvSpPr>
          <p:spPr>
            <a:xfrm>
              <a:off x="755640" y="5427000"/>
              <a:ext cx="162612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имствов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4536"/>
            <p:cNvSpPr/>
            <p:nvPr/>
          </p:nvSpPr>
          <p:spPr>
            <a:xfrm>
              <a:off x="2922120" y="5427000"/>
              <a:ext cx="1623600" cy="810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9999cc"/>
                </a:solidFill>
                <a:latin typeface="Verdana"/>
              </a:rPr>
              <a:t>Исследования лексики язы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ексик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совокупность всех слов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риз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 слова, обозначающие предметы, вещи, явления, которые не существуют в современной дей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рха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устаревшие слова, у которых есть современные синонимы, заменившие их в язык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олог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это вновь образован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635280" y="1341360"/>
          <a:ext cx="5221440" cy="758880"/>
        </p:xfrm>
        <a:graphic>
          <a:graphicData uri="http://schemas.openxmlformats.org/drawingml/2006/table">
            <a:tbl>
              <a:tblPr/>
              <a:tblGrid>
                <a:gridCol w="2521080"/>
                <a:gridCol w="270036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50920" y="1341360"/>
          <a:ext cx="3384360" cy="7462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А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468360" y="40464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Заполните таблицу. 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Распределите слова с точки зрения  их происхождения и употребления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70310e"/>
                </a:solidFill>
                <a:latin typeface="Arial"/>
              </a:rPr>
              <a:t>Интернет,  зреть,  верста,  дщерь, теневая  экономика, баярин,  пиит,  чело, модератор,  забрало,  редут,  пищаль, горячая линия,  компьютер,  ланиты, сайт,   вран ,  огнь,  админ,  юзер,  кольчуга,  латы,  хит,  биополе, зело,  пуд,  фунт,  наличка,  десница, банкомат,  вершок,  саммит,  имиджмейкер,  сажень,  лат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d4041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7d"/>
                </a:solidFill>
                <a:latin typeface="Arial"/>
              </a:rPr>
              <a:t>Упр. 261, 26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62000" y="-138240"/>
            <a:ext cx="946800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10e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Русский язык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Национальный, основ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Является, практикуется, забывается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Единственный государственный язык России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лавя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10e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Русский язык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Распространённый, слож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Обучает, тренирует, развивает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Не каждый может его выучить.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Росс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10e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Times New Roman"/>
              </a:rPr>
              <a:t>п.20., упр. 264, 273(устн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«Берегите наш язык, наш прекрасный русский язык, этот клад, это достояние, переданное нам нашими предшественниками. Обращайтесь почтительно с этим могущественным орудием, в руках умелых оно в состоянии совершить чудеса!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2880000" cy="3456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952600" y="349992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Times New Roman"/>
              </a:rPr>
              <a:t>И. С. Турге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55964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7d"/>
                </a:solidFill>
                <a:latin typeface="Georgia"/>
              </a:rPr>
              <a:t>«Язык как развивающееся явление».</a:t>
            </a:r>
            <a:r>
              <a:rPr b="0" lang="en-US" sz="7200" spc="-1" strike="noStrike">
                <a:solidFill>
                  <a:srgbClr val="00007d"/>
                </a:solidFill>
                <a:latin typeface="Georgi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40464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10e"/>
                </a:solidFill>
                <a:latin typeface="Times New Roman"/>
              </a:rPr>
              <a:t>Шестое ма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10e"/>
                </a:solidFill>
                <a:latin typeface="Times New Roman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4147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Мы должны быть благодарны предшествующим поколениям, которые донесли до нас это наследие – образный, ёмкий, умный язык. В нем самом есть уже элементы искусства: и стройная синтаксическая архитектура, и музыка слова, и словесная живопись». (С.Я.Марш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«В языке одухотворяется весь народ и вся его родина; в нем претворяется творческой силой народного духа в мысль, картину и звук небо отчизны, ее воздух, физические явления, ее климат, ее поля, горы и долины, ее леса и реки, ее бури и грозы – весь тот глубокий, полный мысли и чувства голос родной природы, который говорит так громко о любви человека к его иногда суровой родине…». (К.Д.Ушинск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«Язык живет вместе с жизнью народа». (В.Г.Бели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«Язык видоизменяется с каждым поколением. Только в суете быта люди не замечают пришельцев. Но пусть будут они достойны великого языка, данного великому народу. Прекрасен русский язык, и на нем скажут лучшие мысли о будущем». (Н.Рер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«Язык – лучший посредник для установления дружбы и согласия». (Эразм Роттердам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«Истинная любовь к своей стране немыслима без любви к своему языку». (К.Г.Пауст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10e"/>
                </a:solidFill>
                <a:latin typeface="Verdana"/>
              </a:rPr>
              <a:t>Наблюдения над многозначностью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907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1. Язык – подвижный мышечный орган в полости 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2. Язык – исторически сложившаяся система звуковых словарных, грамматических средств, объективирующая работу мышления и являющаяся орудием общения, обмена мыслями и взаимного понимания людей в обществе.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3. Язык – это народ, н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Орфоэпическая минутка Расставьте удар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70310e"/>
                </a:solidFill>
                <a:latin typeface="Arial"/>
              </a:rPr>
              <a:t>Договор, столяр, предположить, красивее, начал, партер, алфавит, ржаветь, позвонит, облегчить, торты, досуг, кухонный, балованный, жалюзи, завидно, ломоть, бармен, форзац, средства, слив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Фонетический раз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10e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70310e"/>
                </a:solidFill>
                <a:latin typeface="Arial"/>
              </a:rPr>
              <a:t>Язык, рукописи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Определите способ связи словосочет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Язык Пушкина,  древнегреческий язы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современный язык,  языковые явл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укоротить язык,  </a:t>
            </a:r>
            <a:r>
              <a:rPr b="1" i="1" lang="en-US" sz="3200" spc="-1" strike="noStrike">
                <a:solidFill>
                  <a:srgbClr val="70310e"/>
                </a:solidFill>
                <a:latin typeface="Arial"/>
              </a:rPr>
              <a:t>хорошо говорить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10e"/>
                </a:solidFill>
                <a:latin typeface="Times New Roman"/>
              </a:rPr>
              <a:t>тянуть за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Синтаксический разбор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10e"/>
                </a:solidFill>
                <a:latin typeface="Arial"/>
              </a:rPr>
              <a:t>Я утром должен быть увере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10e"/>
                </a:solidFill>
                <a:latin typeface="Arial"/>
              </a:rPr>
              <a:t>что с вами днем увижусь 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10e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Определите вид придаточного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1000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1.И нет величия там, где нет простоты, добра и правды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(Л.Н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2.Чтобы много знать, надо много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3.В русский язык по  необходимости вошло множ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иностранных слов, потому что в русскую жизнь во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множество иностранных понятий.   (В. Бели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4. Мир, в котором мы живем, может быть понят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результат неразберихи и случ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(Рассел Бертран Артур Уилья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10e"/>
                </a:solidFill>
                <a:latin typeface="Times New Roman"/>
              </a:rPr>
              <a:t>5. Все счастливые семьи похожи друг на друга, каждая несчастливая семья несчастлива по-своему.(Л. Толстой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18:22Z</dcterms:created>
  <dc:creator>1</dc:creator>
  <dc:description/>
  <dc:language>en-US</dc:language>
  <cp:lastModifiedBy>1</cp:lastModifiedBy>
  <dcterms:modified xsi:type="dcterms:W3CDTF">2014-03-05T11:12:05Z</dcterms:modified>
  <cp:revision>29</cp:revision>
  <dc:subject/>
  <dc:title>Слайд 1</dc:title>
</cp:coreProperties>
</file>