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306-3AD8-4352-B5DB-BBEE9A7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561-37D6-4F47-BE23-BF2AD2DA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E0B-4675-4666-A0FE-42712643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C4E-C446-4DC0-906F-76FB9C02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510-A880-4DC9-B4D8-E8BB9327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D92-2695-42B4-AB8C-5E9547C5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E82-6AFC-4372-AE6F-F1C567FD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B4F-CF8F-4C72-9AD8-99542E7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F43-F96F-4F05-AAAC-D8B079B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65E-9CC9-47D2-924D-CE37480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3A0-CDDD-4D4E-ACB2-80BA318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C03-2DDF-4E13-837E-2BEE40E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66ff99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2F7-F1AE-4482-B0ED-66166143E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66ff"/>
                </a:solidFill>
                <a:latin typeface="Franklin Gothic Medium Cond"/>
              </a:rPr>
              <a:t>Корни с чередованием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к- путеше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187280" y="0"/>
            <a:ext cx="7129800" cy="79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КЛЮЧ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ВЩ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ЛА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0211584.wav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4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j0251301"/>
          <p:cNvPicPr/>
          <p:nvPr/>
        </p:nvPicPr>
        <p:blipFill>
          <a:blip r:embed="rId1"/>
          <a:stretch/>
        </p:blipFill>
        <p:spPr>
          <a:xfrm>
            <a:off x="179280" y="2492280"/>
            <a:ext cx="4103640" cy="4027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 rot="543600">
            <a:off x="3485880" y="736200"/>
            <a:ext cx="576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Script MT Bold"/>
              </a:rPr>
              <a:t>Переулок        </a:t>
            </a:r>
            <a:r>
              <a:rPr b="0" i="1" lang="ru-RU" sz="6600" spc="-1" strike="noStrike">
                <a:solidFill>
                  <a:srgbClr val="ff0000"/>
                </a:solidFill>
                <a:latin typeface="Script MT Bold"/>
              </a:rPr>
              <a:t>ЛЕКСИ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слова в два столбика.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 сочетаниям слов подбери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инони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83664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к журналу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134136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Частый и густой кустарник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1773360"/>
            <a:ext cx="49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Догадка, предварительная мысль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0" y="22050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дно из составляющих суммы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0" y="263700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Молодой лес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0" y="29973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Устроиться на отдых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0" y="33577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Становиться гуще, больше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0" y="378936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Отдельная область науки, производства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422100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Вид письменной работы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о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99564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932360" y="177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о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4643280" y="2205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а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е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268360" y="2637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3276720" y="2997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о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4067280" y="33577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579600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3851280" y="422100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ло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6659640" y="4724280"/>
            <a:ext cx="24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7" descr="j0299125"/>
          <p:cNvPicPr/>
          <p:nvPr/>
        </p:nvPicPr>
        <p:blipFill>
          <a:blip r:embed="rId1"/>
          <a:stretch/>
        </p:blipFill>
        <p:spPr>
          <a:xfrm>
            <a:off x="7020000" y="4797360"/>
            <a:ext cx="143820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179280" y="3789360"/>
            <a:ext cx="896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ощадь Орфографии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Picture 5" descr="AG00170_"/>
          <p:cNvPicPr/>
          <p:nvPr/>
        </p:nvPicPr>
        <p:blipFill>
          <a:blip r:embed="rId1"/>
          <a:stretch/>
        </p:blipFill>
        <p:spPr>
          <a:xfrm>
            <a:off x="1692360" y="189000"/>
            <a:ext cx="4967280" cy="335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260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писать, вставив пропущенные буквы. Выделить корни с чередов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9280" y="2349360"/>
            <a:ext cx="8569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Без дождя и трава не р-ст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Дело отл-жил, а там и забы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Умный пол-гается на себя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упый – на на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Не от еды ребёнок выр-с, а от рад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08000" y="2133720"/>
            <a:ext cx="9036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Без дождя и трава 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Дело от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л</a:t>
            </a:r>
            <a:r>
              <a:rPr b="0" lang="ru-RU" sz="3600" spc="-1" strike="noStrike" u="sng">
                <a:solidFill>
                  <a:srgbClr val="0066ff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, а там и забы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Умный п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ется на себя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упый– на на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Не от еды ребёнок вы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ро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а от рад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aptop"/>
          <p:cNvSpPr/>
          <p:nvPr/>
        </p:nvSpPr>
        <p:spPr>
          <a:xfrm>
            <a:off x="3419640" y="189000"/>
            <a:ext cx="2232000" cy="1800000"/>
          </a:xfrm>
          <a:custGeom>
            <a:avLst/>
            <a:gdLst>
              <a:gd name="textAreaLeft" fmla="*/ 459360 w 2232000"/>
              <a:gd name="textAreaRight" fmla="*/ 1788840 w 2232000"/>
              <a:gd name="textAreaTop" fmla="*/ 154800 h 1800000"/>
              <a:gd name="textAreaBottom" fmla="*/ 1027080 h 1800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547640" y="765000"/>
            <a:ext cx="6264360" cy="215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роспект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826920" y="4076640"/>
            <a:ext cx="74170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Times New Roman"/>
              </a:rPr>
              <a:t>Творчества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Times New Roman"/>
              <a:ea typeface="Times New Roman"/>
            </a:endParaRPr>
          </a:p>
        </p:txBody>
      </p:sp>
      <p:pic>
        <p:nvPicPr>
          <p:cNvPr id="99" name="Picture 6" descr="j0216516"/>
          <p:cNvPicPr/>
          <p:nvPr/>
        </p:nvPicPr>
        <p:blipFill>
          <a:blip r:embed="rId1"/>
          <a:stretch/>
        </p:blipFill>
        <p:spPr>
          <a:xfrm>
            <a:off x="3348000" y="1628640"/>
            <a:ext cx="3167280" cy="345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0"/>
            <a:ext cx="8893080" cy="9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думать по картине 3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дложений, использу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лова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с чередующими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корня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4284720" y="5084640"/>
            <a:ext cx="1655640" cy="1513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46836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CEAN_01.MID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остроухов первая зел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4313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ock"/>
          <p:cNvSpPr/>
          <p:nvPr/>
        </p:nvSpPr>
        <p:spPr>
          <a:xfrm>
            <a:off x="468360" y="3645000"/>
            <a:ext cx="1224000" cy="1584360"/>
          </a:xfrm>
          <a:custGeom>
            <a:avLst/>
            <a:gdLst>
              <a:gd name="textAreaLeft" fmla="*/ 42120 w 1224000"/>
              <a:gd name="textAreaRight" fmla="*/ 1197720 w 1224000"/>
              <a:gd name="textAreaTop" fmla="*/ 726480 h 1584360"/>
              <a:gd name="textAreaBottom" fmla="*/ 1125000 h 15843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333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только буквы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щенные в сло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564000" y="981000"/>
            <a:ext cx="4897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- ст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- с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одор- 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отр- с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ыр- 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л- 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едл- 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j0149407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9"/>
          <p:cNvSpPr/>
          <p:nvPr/>
        </p:nvSpPr>
        <p:spPr>
          <a:xfrm>
            <a:off x="324000" y="189000"/>
            <a:ext cx="8208720" cy="1225440"/>
          </a:xfrm>
          <a:custGeom>
            <a:avLst/>
            <a:gdLst>
              <a:gd name="textAreaLeft" fmla="*/ 2052000 w 8208720"/>
              <a:gd name="textAreaRight" fmla="*/ 6156720 w 8208720"/>
              <a:gd name="textAreaTop" fmla="*/ 0 h 1225440"/>
              <a:gd name="textAreaBottom" fmla="*/ 82008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4453"/>
                </a:moveTo>
                <a:lnTo>
                  <a:pt x="8100" y="19813"/>
                </a:lnTo>
                <a:cubicBezTo>
                  <a:pt x="8100" y="20707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374"/>
                </a:lnTo>
                <a:lnTo>
                  <a:pt x="0" y="7147"/>
                </a:lnTo>
                <a:lnTo>
                  <a:pt x="5400" y="7147"/>
                </a:lnTo>
                <a:lnTo>
                  <a:pt x="5400" y="1787"/>
                </a:lnTo>
                <a:cubicBezTo>
                  <a:pt x="5400" y="893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893"/>
                  <a:pt x="16200" y="1787"/>
                </a:cubicBezTo>
                <a:lnTo>
                  <a:pt x="16200" y="7147"/>
                </a:lnTo>
                <a:lnTo>
                  <a:pt x="21600" y="7147"/>
                </a:lnTo>
                <a:lnTo>
                  <a:pt x="18850" y="14374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7"/>
                  <a:pt x="13500" y="19813"/>
                </a:cubicBezTo>
                <a:lnTo>
                  <a:pt x="13500" y="14453"/>
                </a:lnTo>
                <a:close/>
              </a:path>
              <a:path fill="darkenLess" w="21600" h="21600">
                <a:moveTo>
                  <a:pt x="8100" y="14453"/>
                </a:moveTo>
                <a:lnTo>
                  <a:pt x="8100" y="19813"/>
                </a:lnTo>
                <a:cubicBezTo>
                  <a:pt x="8100" y="18920"/>
                  <a:pt x="7680" y="18027"/>
                  <a:pt x="7260" y="18027"/>
                </a:cubicBezTo>
                <a:lnTo>
                  <a:pt x="6240" y="18027"/>
                </a:lnTo>
                <a:cubicBezTo>
                  <a:pt x="5820" y="18027"/>
                  <a:pt x="5400" y="17133"/>
                  <a:pt x="5400" y="16240"/>
                </a:cubicBezTo>
                <a:cubicBezTo>
                  <a:pt x="5400" y="15346"/>
                  <a:pt x="5820" y="14453"/>
                  <a:pt x="6240" y="14453"/>
                </a:cubicBezTo>
                <a:close/>
              </a:path>
              <a:path fill="darkenLess" w="21600" h="21600">
                <a:moveTo>
                  <a:pt x="13500" y="14453"/>
                </a:moveTo>
                <a:lnTo>
                  <a:pt x="13500" y="19813"/>
                </a:lnTo>
                <a:cubicBezTo>
                  <a:pt x="13500" y="18920"/>
                  <a:pt x="13920" y="18027"/>
                  <a:pt x="14340" y="18027"/>
                </a:cubicBezTo>
                <a:lnTo>
                  <a:pt x="15360" y="18027"/>
                </a:lnTo>
                <a:cubicBezTo>
                  <a:pt x="15780" y="18027"/>
                  <a:pt x="16200" y="17133"/>
                  <a:pt x="16200" y="16240"/>
                </a:cubicBezTo>
                <a:cubicBezTo>
                  <a:pt x="16200" y="15346"/>
                  <a:pt x="15780" y="14453"/>
                  <a:pt x="15360" y="14453"/>
                </a:cubicBezTo>
                <a:close/>
              </a:path>
              <a:path fill="darkenLess" w="21600" h="21600">
                <a:moveTo>
                  <a:pt x="5400" y="16240"/>
                </a:moveTo>
                <a:lnTo>
                  <a:pt x="5400" y="7147"/>
                </a:lnTo>
              </a:path>
              <a:path fill="darkenLess" w="21600" h="21600">
                <a:moveTo>
                  <a:pt x="16200" y="16240"/>
                </a:moveTo>
                <a:lnTo>
                  <a:pt x="16200" y="714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tura MT Script Capitals"/>
              </a:rPr>
              <a:t>Корнеград</a:t>
            </a:r>
            <a:r>
              <a:rPr b="1" lang="ru-RU" sz="4800" spc="-1" strike="noStrike">
                <a:solidFill>
                  <a:srgbClr val="000000"/>
                </a:solidFill>
                <a:latin typeface="Matura MT Script Capital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 rot="20935800">
            <a:off x="468360" y="836640"/>
            <a:ext cx="49672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726000"/>
                </a:gradFill>
                <a:latin typeface="Impact"/>
              </a:rPr>
              <a:t>Ключ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726000"/>
              </a:gradFill>
              <a:latin typeface="Impact"/>
              <a:ea typeface="Impact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219640" y="170028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684360" y="333360"/>
            <a:ext cx="813564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stellar"/>
              </a:rPr>
              <a:t>Домашнее задание на выб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gency FB"/>
              </a:rPr>
              <a:t>1.Придумать сказку «Жили-были исключен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gency FB"/>
              </a:rPr>
              <a:t>2.Найти 4 пословицы или загадки, где есть слова с чередующимися корн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gency FB"/>
              </a:rPr>
              <a:t>3.  С.199 ,№ 514(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 rot="21247200">
            <a:off x="1476000" y="549000"/>
            <a:ext cx="6120000" cy="45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ачи!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55640" y="105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332000" y="1413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524720" y="5084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1979640" y="58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133200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529272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7812000" y="227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227640" y="58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260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-л</a:t>
            </a:r>
            <a:r>
              <a:rPr b="0" lang="ru-RU" sz="8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г – л</a:t>
            </a:r>
            <a:r>
              <a:rPr b="0" lang="ru-RU" sz="8800" spc="-1" strike="noStrike" u="sng">
                <a:solidFill>
                  <a:srgbClr val="0066ff"/>
                </a:solidFill>
                <a:uFillTx/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ж-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11280" y="2133720"/>
            <a:ext cx="85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-р</a:t>
            </a:r>
            <a:r>
              <a:rPr b="0" lang="ru-RU" sz="8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т-,-р</a:t>
            </a:r>
            <a:r>
              <a:rPr b="0" lang="ru-RU" sz="8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щ – р</a:t>
            </a:r>
            <a:r>
              <a:rPr b="0" lang="ru-RU" sz="8800" spc="-1" strike="noStrike" u="sng">
                <a:solidFill>
                  <a:srgbClr val="0066ff"/>
                </a:solidFill>
                <a:uFillTx/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-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 rot="20820000">
            <a:off x="2987280" y="5444640"/>
            <a:ext cx="3384720" cy="1224000"/>
          </a:xfrm>
          <a:custGeom>
            <a:avLst/>
            <a:gdLst>
              <a:gd name="textAreaLeft" fmla="*/ 529920 w 3384720"/>
              <a:gd name="textAreaRight" fmla="*/ 2516040 w 3384720"/>
              <a:gd name="textAreaTop" fmla="*/ 163800 h 1224000"/>
              <a:gd name="textAreaBottom" fmla="*/ 10602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67" hR="21600" stAng="10800000" swAng="-5400000"/>
                <a:lnTo>
                  <a:pt x="12673" y="21600"/>
                </a:lnTo>
                <a:arcTo wR="6767" hR="21600" stAng="5400000" swAng="-2492668"/>
                <a:lnTo>
                  <a:pt x="21213" y="7200"/>
                </a:lnTo>
                <a:lnTo>
                  <a:pt x="16487" y="0"/>
                </a:lnTo>
                <a:lnTo>
                  <a:pt x="10987" y="7200"/>
                </a:lnTo>
                <a:lnTo>
                  <a:pt x="13147" y="7200"/>
                </a:lnTo>
                <a:arcTo wR="6767" hR="21600" stAng="2907332" swAng="1974289"/>
                <a:lnTo>
                  <a:pt x="9720" y="19435"/>
                </a:lnTo>
                <a:arcTo wR="6767" hR="21600" stAng="5918379" swAng="4881621"/>
                <a:close/>
              </a:path>
              <a:path fill="darkenLess" w="21600" h="21600">
                <a:moveTo>
                  <a:pt x="0" y="0"/>
                </a:moveTo>
                <a:arcTo wR="6767" hR="21600" stAng="10800000" swAng="-5400000"/>
                <a:lnTo>
                  <a:pt x="12673" y="21600"/>
                </a:lnTo>
                <a:arcTo wR="6767" hR="21600" stAng="5400000" swAng="518379"/>
                <a:lnTo>
                  <a:pt x="9720" y="19435"/>
                </a:lnTo>
                <a:arcTo wR="6767" hR="21600" stAng="5918379" swAng="488162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87280" y="907920"/>
            <a:ext cx="655164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ff0000"/>
                </a:solidFill>
                <a:latin typeface="Arbat"/>
              </a:rPr>
              <a:t>Правило</a:t>
            </a:r>
            <a:endParaRPr b="1" lang="en-US" sz="72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ff0000"/>
              </a:solidFill>
              <a:latin typeface="Arbat"/>
              <a:ea typeface="Arba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411280" y="5084640"/>
            <a:ext cx="5689800" cy="177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хода .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Picture 6" descr="j0195384"/>
          <p:cNvPicPr/>
          <p:nvPr/>
        </p:nvPicPr>
        <p:blipFill>
          <a:blip r:embed="rId1"/>
          <a:stretch/>
        </p:blipFill>
        <p:spPr>
          <a:xfrm>
            <a:off x="3419640" y="2205000"/>
            <a:ext cx="2232000" cy="23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3141720"/>
            <a:ext cx="864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1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Правописание –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лаг- ло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2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- Правописание-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ст-,-ращ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рос-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7698"/>
          <p:cNvPicPr/>
          <p:nvPr/>
        </p:nvPicPr>
        <p:blipFill>
          <a:blip r:embed="rId1"/>
          <a:stretch/>
        </p:blipFill>
        <p:spPr>
          <a:xfrm>
            <a:off x="3203640" y="189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0205462"/>
          <p:cNvPicPr/>
          <p:nvPr/>
        </p:nvPicPr>
        <p:blipFill>
          <a:blip r:embed="rId1"/>
          <a:stretch/>
        </p:blipFill>
        <p:spPr>
          <a:xfrm>
            <a:off x="4500720" y="549360"/>
            <a:ext cx="4464000" cy="5904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395280" y="333360"/>
            <a:ext cx="47530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лица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фоэпии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сать слова в два столби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й-</a:t>
            </a:r>
            <a:br>
              <a:rPr sz="4000"/>
            </a:b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с ударением на 1 слог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ой-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удар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на 2 с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8066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Щавель,торты,бармен, цемент,банты,пальцами,взяла, досуг, заржаветь,  звонит, средства, ножниц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42433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Тор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барме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бан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пальц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средств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ff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bat"/>
              </a:rPr>
              <a:t>ножниц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Щавел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цемен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взя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досу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заржаве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bat"/>
              </a:rPr>
              <a:t>зво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86900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 rot="1043400">
            <a:off x="7548120" y="5087880"/>
            <a:ext cx="1438200" cy="785880"/>
          </a:xfrm>
          <a:prstGeom prst="leftArrow">
            <a:avLst>
              <a:gd name="adj1" fmla="val 50000"/>
              <a:gd name="adj2" fmla="val 45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1187280" y="189000"/>
            <a:ext cx="6193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оверь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 rot="20710800">
            <a:off x="-6120" y="460440"/>
            <a:ext cx="7655040" cy="34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8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Тупик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Исключений.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AutoShape 7">
            <a:hlinkClick r:id="" action="ppaction://hlinkshowjump?jump=firstslide"/>
          </p:cNvPr>
          <p:cNvSpPr/>
          <p:nvPr/>
        </p:nvSpPr>
        <p:spPr>
          <a:xfrm>
            <a:off x="5364000" y="4076640"/>
            <a:ext cx="2521080" cy="2521080"/>
          </a:xfrm>
          <a:custGeom>
            <a:avLst/>
            <a:gdLst>
              <a:gd name="textAreaLeft" fmla="*/ 163080 w 2521080"/>
              <a:gd name="textAreaRight" fmla="*/ 2358000 w 2521080"/>
              <a:gd name="textAreaTop" fmla="*/ 163080 h 2521080"/>
              <a:gd name="textAreaBottom" fmla="*/ 23580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8:17:33Z</dcterms:created>
  <dc:creator>Ляна</dc:creator>
  <dc:description/>
  <dc:language>en-US</dc:language>
  <cp:lastModifiedBy>Андрей</cp:lastModifiedBy>
  <dcterms:modified xsi:type="dcterms:W3CDTF">2013-11-25T15:04:16Z</dcterms:modified>
  <cp:revision>23</cp:revision>
  <dc:subject/>
  <dc:title>Корни с чередованием.</dc:title>
</cp:coreProperties>
</file>