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B5A-C56F-4EB3-9BAC-8C1BD772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ED5-4BB8-4578-A1C8-8845E60E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F5B-873E-4879-A763-B8A761FF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BE2-4F31-4228-8D05-3DC65A7B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56D-AAF3-48B0-9775-C3148B53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24A-7FD8-47A0-8790-6EC4D952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BF4-9C16-4AAF-BF31-30D61F1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AAE-CC25-4613-A1B8-E055D132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EA1-5039-45CA-9D54-FC4F1A56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B39-206D-42B5-B09F-B2B3032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D46-1972-406D-8737-26E95D1E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3EE-F670-4F8D-A812-449E8C0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C682-1841-479A-B037-9A53144AB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 недели психологии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Copperplate Gothic Bold"/>
                <a:ea typeface="Times New Roman"/>
              </a:rPr>
              <a:t>«Радуга толерантност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9000" y="4572000"/>
            <a:ext cx="5500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 БеликоваИ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едагог Королева Т.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619280" y="378360"/>
            <a:ext cx="691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олерантность – это то, что делает возможным достижение мира и ведет от культуры войны к культуре мира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кларации принципов толера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ой генеральной Конференцией ЮНЕСКО в 1995 году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построим дом и  вместе  с друзьями мы  в нём заживём»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для 5-6 классов проводит социальный педагог Королева Т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C:\Users\Ирина\Desktop\фото\DSC02431.JPG"/>
          <p:cNvPicPr/>
          <p:nvPr/>
        </p:nvPicPr>
        <p:blipFill>
          <a:blip r:embed="rId1"/>
          <a:stretch/>
        </p:blipFill>
        <p:spPr>
          <a:xfrm>
            <a:off x="324000" y="162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:\Users\Ирина\Desktop\фото\DSC02444.JPG"/>
          <p:cNvPicPr/>
          <p:nvPr/>
        </p:nvPicPr>
        <p:blipFill>
          <a:blip r:embed="rId2"/>
          <a:stretch/>
        </p:blipFill>
        <p:spPr>
          <a:xfrm>
            <a:off x="3348000" y="162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C:\Users\Ирина\Desktop\фото\DSC02447.JPG"/>
          <p:cNvPicPr/>
          <p:nvPr/>
        </p:nvPicPr>
        <p:blipFill>
          <a:blip r:embed="rId3"/>
          <a:stretch/>
        </p:blipFill>
        <p:spPr>
          <a:xfrm>
            <a:off x="6372360" y="170028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C:\Users\Ирина\Desktop\фото\DSC02454.JPG"/>
          <p:cNvPicPr/>
          <p:nvPr/>
        </p:nvPicPr>
        <p:blipFill>
          <a:blip r:embed="rId4"/>
          <a:stretch/>
        </p:blipFill>
        <p:spPr>
          <a:xfrm>
            <a:off x="3419640" y="450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C:\Users\Ирина\Desktop\фото\DSC02456.JPG"/>
          <p:cNvPicPr/>
          <p:nvPr/>
        </p:nvPicPr>
        <p:blipFill>
          <a:blip r:embed="rId5"/>
          <a:stretch/>
        </p:blipFill>
        <p:spPr>
          <a:xfrm>
            <a:off x="250920" y="4437000"/>
            <a:ext cx="2784240" cy="208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C:\Users\Ирина\Desktop\фото\DSC02460.JPG"/>
          <p:cNvPicPr/>
          <p:nvPr/>
        </p:nvPicPr>
        <p:blipFill>
          <a:blip r:embed="rId6"/>
          <a:stretch/>
        </p:blipFill>
        <p:spPr>
          <a:xfrm>
            <a:off x="6283440" y="4508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ми усилиями дом постро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Users\Ирина\Desktop\фото\DSC02458.JPG"/>
          <p:cNvPicPr/>
          <p:nvPr/>
        </p:nvPicPr>
        <p:blipFill>
          <a:blip r:embed="rId1"/>
          <a:stretch/>
        </p:blipFill>
        <p:spPr>
          <a:xfrm>
            <a:off x="611280" y="1557360"/>
            <a:ext cx="3679560" cy="275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Users\Ирина\Desktop\фото\DSC02465.JPG"/>
          <p:cNvPicPr/>
          <p:nvPr/>
        </p:nvPicPr>
        <p:blipFill>
          <a:blip r:embed="rId2"/>
          <a:stretch/>
        </p:blipFill>
        <p:spPr>
          <a:xfrm>
            <a:off x="4788000" y="3357720"/>
            <a:ext cx="396864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539640" y="692280"/>
            <a:ext cx="8209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КТД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«Я, ты, он, она – вместе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дружная семья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ое занят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Почему нужно быть толерантным 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D:\ФОТО\ШКОЛА\Воспитательная работа 2011-2012 год\2011-11 ноябрь\2011-11-16 день толерантности\DSCF6086.JPG"/>
          <p:cNvPicPr/>
          <p:nvPr/>
        </p:nvPicPr>
        <p:blipFill>
          <a:blip r:embed="rId1"/>
          <a:stretch/>
        </p:blipFill>
        <p:spPr>
          <a:xfrm>
            <a:off x="5003640" y="161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D:\ФОТО\ШКОЛА\Воспитательная работа 2011-2012 год\2011-11 ноябрь\2011-11-16 день толерантности\DSCF6041.JPG"/>
          <p:cNvPicPr/>
          <p:nvPr/>
        </p:nvPicPr>
        <p:blipFill>
          <a:blip r:embed="rId2"/>
          <a:stretch/>
        </p:blipFill>
        <p:spPr>
          <a:xfrm>
            <a:off x="971640" y="141300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D:\ФОТО\ШКОЛА\Воспитательная работа 2011-2012 год\2011-11 ноябрь\2011-11-16 день толерантности\DSCF6056.JPG"/>
          <p:cNvPicPr/>
          <p:nvPr/>
        </p:nvPicPr>
        <p:blipFill>
          <a:blip r:embed="rId3"/>
          <a:stretch/>
        </p:blipFill>
        <p:spPr>
          <a:xfrm>
            <a:off x="1403280" y="4292640"/>
            <a:ext cx="3456000" cy="2379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D:\ФОТО\ШКОЛА\Воспитательная работа 2011-2012 год\2011-11 ноябрь\2011-11-16 день толерантности\DSCF6058.JPG"/>
          <p:cNvPicPr/>
          <p:nvPr/>
        </p:nvPicPr>
        <p:blipFill>
          <a:blip r:embed="rId4"/>
          <a:stretch/>
        </p:blipFill>
        <p:spPr>
          <a:xfrm>
            <a:off x="4932360" y="4292640"/>
            <a:ext cx="36291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Эдвара де Боно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Шесть шляп мышлени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DSCF6068.JPG"/>
          <p:cNvPicPr/>
          <p:nvPr/>
        </p:nvPicPr>
        <p:blipFill>
          <a:blip r:embed="rId1"/>
          <a:stretch/>
        </p:blipFill>
        <p:spPr>
          <a:xfrm>
            <a:off x="4788000" y="1125360"/>
            <a:ext cx="3671640" cy="2752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:\ФОТО\ШКОЛА\Воспитательная работа 2011-2012 год\2011-11 ноябрь\2011-11-16 день толерантности\DSCF6069.JPG"/>
          <p:cNvPicPr/>
          <p:nvPr/>
        </p:nvPicPr>
        <p:blipFill>
          <a:blip r:embed="rId2"/>
          <a:stretch/>
        </p:blipFill>
        <p:spPr>
          <a:xfrm>
            <a:off x="1042920" y="3933720"/>
            <a:ext cx="3673440" cy="275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ФОТО\ШКОЛА\Воспитательная работа 2011-2012 год\2011-11 ноябрь\2011-11-16 день толерантности\DSCF6063.JPG"/>
          <p:cNvPicPr/>
          <p:nvPr/>
        </p:nvPicPr>
        <p:blipFill>
          <a:blip r:embed="rId3"/>
          <a:stretch/>
        </p:blipFill>
        <p:spPr>
          <a:xfrm>
            <a:off x="324000" y="1197000"/>
            <a:ext cx="2573280" cy="278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D:\ФОТО\ШКОЛА\Воспитательная работа 2011-2012 год\2011-11 ноябрь\2011-11-16 день толерантности\DSCF6065.JPG"/>
          <p:cNvPicPr/>
          <p:nvPr/>
        </p:nvPicPr>
        <p:blipFill>
          <a:blip r:embed="rId4"/>
          <a:stretch/>
        </p:blipFill>
        <p:spPr>
          <a:xfrm>
            <a:off x="4788000" y="3933720"/>
            <a:ext cx="3647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42483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исьмо – обращен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чему нужно быть толерантн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C:\Users\user\Pictures\img806.jpg"/>
          <p:cNvPicPr/>
          <p:nvPr/>
        </p:nvPicPr>
        <p:blipFill>
          <a:blip r:embed="rId1"/>
          <a:stretch/>
        </p:blipFill>
        <p:spPr>
          <a:xfrm>
            <a:off x="4500720" y="333360"/>
            <a:ext cx="43923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от орлятского отряда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Юнос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user\Pictures\img808.jpg"/>
          <p:cNvPicPr/>
          <p:nvPr/>
        </p:nvPicPr>
        <p:blipFill>
          <a:blip r:embed="rId1"/>
          <a:stretch/>
        </p:blipFill>
        <p:spPr>
          <a:xfrm>
            <a:off x="684360" y="1341360"/>
            <a:ext cx="79912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ы книги «Мы такие разны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ФОТО\ШКОЛА\Воспитательная работа 2011-2012 год\2011-11 ноябрь\2011-11-16 день толерантности\народные игры, мы такие разные\DSCF6016.JPG"/>
          <p:cNvPicPr/>
          <p:nvPr/>
        </p:nvPicPr>
        <p:blipFill>
          <a:blip r:embed="rId1"/>
          <a:stretch/>
        </p:blipFill>
        <p:spPr>
          <a:xfrm>
            <a:off x="611280" y="1557360"/>
            <a:ext cx="2923920" cy="2192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:\ФОТО\ШКОЛА\Воспитательная работа 2011-2012 год\2011-11 ноябрь\2011-11-16 день толерантности\народные игры, мы такие разные\DSCF6037.JPG"/>
          <p:cNvPicPr/>
          <p:nvPr/>
        </p:nvPicPr>
        <p:blipFill>
          <a:blip r:embed="rId2"/>
          <a:stretch/>
        </p:blipFill>
        <p:spPr>
          <a:xfrm>
            <a:off x="4356000" y="1413000"/>
            <a:ext cx="3227400" cy="2420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D:\ФОТО\ШКОЛА\Воспитательная работа 2011-2012 год\2011-11 ноябрь\2011-11-16 день толерантности\народные игры, мы такие разные\DSCF6039.JPG"/>
          <p:cNvPicPr/>
          <p:nvPr/>
        </p:nvPicPr>
        <p:blipFill>
          <a:blip r:embed="rId3"/>
          <a:stretch/>
        </p:blipFill>
        <p:spPr>
          <a:xfrm>
            <a:off x="1619280" y="4005360"/>
            <a:ext cx="57751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народных иг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D:\ФОТО\ШКОЛА\Воспитательная работа 2011-2012 год\2011-11 ноябрь\2011-11-16 день толерантности\народные игры, мы такие разные\DSCF6018.JPG"/>
          <p:cNvPicPr/>
          <p:nvPr/>
        </p:nvPicPr>
        <p:blipFill>
          <a:blip r:embed="rId1"/>
          <a:stretch/>
        </p:blipFill>
        <p:spPr>
          <a:xfrm>
            <a:off x="900000" y="1341360"/>
            <a:ext cx="3743280" cy="280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ФОТО\ШКОЛА\Воспитательная работа 2011-2012 год\2011-11 ноябрь\2011-11-16 день толерантности\народные игры, мы такие разные\DSCF6024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N:\2011 гТОЛЕРАНТНОСТЬ\игры на день толерантности\DSC05068.JPG"/>
          <p:cNvPicPr/>
          <p:nvPr/>
        </p:nvPicPr>
        <p:blipFill>
          <a:blip r:embed="rId3"/>
          <a:stretch/>
        </p:blipFill>
        <p:spPr>
          <a:xfrm>
            <a:off x="1116000" y="4241880"/>
            <a:ext cx="34876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ление национального блю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D:\ФОТО\ШКОЛА\Воспитательная работа 2011-2012 год\2011-11 ноябрь\2011-11-16 день толерантности\DSCF6046.JPG"/>
          <p:cNvPicPr/>
          <p:nvPr/>
        </p:nvPicPr>
        <p:blipFill>
          <a:blip r:embed="rId1"/>
          <a:stretch/>
        </p:blipFill>
        <p:spPr>
          <a:xfrm>
            <a:off x="324000" y="1197000"/>
            <a:ext cx="3206520" cy="2405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:\ФОТО\ШКОЛА\Воспитательная работа 2011-2012 год\2011-11 ноябрь\2011-11-16 день толерантности\DSCF6101.JPG"/>
          <p:cNvPicPr/>
          <p:nvPr/>
        </p:nvPicPr>
        <p:blipFill>
          <a:blip r:embed="rId2"/>
          <a:stretch/>
        </p:blipFill>
        <p:spPr>
          <a:xfrm>
            <a:off x="1547640" y="3789360"/>
            <a:ext cx="3327480" cy="2838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D:\ФОТО\ШКОЛА\Воспитательная работа 2011-2012 год\2011-11 ноябрь\2011-11-16 день толерантности\DSCF6103.JPG"/>
          <p:cNvPicPr/>
          <p:nvPr/>
        </p:nvPicPr>
        <p:blipFill>
          <a:blip r:embed="rId3"/>
          <a:stretch/>
        </p:blipFill>
        <p:spPr>
          <a:xfrm>
            <a:off x="5724360" y="1749600"/>
            <a:ext cx="314820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нкетировани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учение мнения о данном проек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Ирина\Desktop\фото\DSC035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 национального костю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:\ФОТО\ШКОЛА\Воспитательная работа 2011-2012 год\2011-11 ноябрь\2011-11-16 день толерантности\DSCF6096.JPG"/>
          <p:cNvPicPr/>
          <p:nvPr/>
        </p:nvPicPr>
        <p:blipFill>
          <a:blip r:embed="rId1"/>
          <a:stretch/>
        </p:blipFill>
        <p:spPr>
          <a:xfrm>
            <a:off x="1116000" y="1819440"/>
            <a:ext cx="67611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зывы ребят  о  прое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D:\Фото\Уроки ОЗОЖ,занятия,семинар\Неделя психологии 1 день 2010 май\DSC02407.JPG"/>
          <p:cNvPicPr/>
          <p:nvPr/>
        </p:nvPicPr>
        <p:blipFill>
          <a:blip r:embed="rId1"/>
          <a:stretch/>
        </p:blipFill>
        <p:spPr>
          <a:xfrm>
            <a:off x="500040" y="151776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Фото\Уроки ОЗОЖ,занятия,семинар\Неделя психологии 1 день 2010 май\DSC02411.JPG"/>
          <p:cNvPicPr/>
          <p:nvPr/>
        </p:nvPicPr>
        <p:blipFill>
          <a:blip r:embed="rId2"/>
          <a:stretch/>
        </p:blipFill>
        <p:spPr>
          <a:xfrm>
            <a:off x="4714920" y="250020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D:\Фото\Уроки ОЗОЖ,занятия,семинар\Неделя психологии 1 день 2010 май\DSC02409.JPG"/>
          <p:cNvPicPr/>
          <p:nvPr/>
        </p:nvPicPr>
        <p:blipFill>
          <a:blip r:embed="rId3"/>
          <a:stretch/>
        </p:blipFill>
        <p:spPr>
          <a:xfrm>
            <a:off x="428760" y="4357800"/>
            <a:ext cx="31194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адуга настроения»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выбирают цвет  настроения  с каким пришли в школ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 дня  проводится повторная диагност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C:\Users\Ирина\Desktop\фото\DSC02340.JPG"/>
          <p:cNvPicPr/>
          <p:nvPr/>
        </p:nvPicPr>
        <p:blipFill>
          <a:blip r:embed="rId1"/>
          <a:stretch/>
        </p:blipFill>
        <p:spPr>
          <a:xfrm>
            <a:off x="684360" y="2133720"/>
            <a:ext cx="3958920" cy="29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Ирина\Desktop\фото\DSC02335.JPG"/>
          <p:cNvPicPr/>
          <p:nvPr/>
        </p:nvPicPr>
        <p:blipFill>
          <a:blip r:embed="rId2"/>
          <a:stretch/>
        </p:blipFill>
        <p:spPr>
          <a:xfrm>
            <a:off x="4643280" y="378936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 по городу Вежливости с ребятами  2-4 классов проводит педагог-психолог Беликова И.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C:\Users\Ирина\Desktop\фото\DSC02394.JPG"/>
          <p:cNvPicPr/>
          <p:nvPr/>
        </p:nvPicPr>
        <p:blipFill>
          <a:blip r:embed="rId1"/>
          <a:stretch/>
        </p:blipFill>
        <p:spPr>
          <a:xfrm>
            <a:off x="395280" y="1484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Ирина\Desktop\фото\DSC02389.JPG"/>
          <p:cNvPicPr/>
          <p:nvPr/>
        </p:nvPicPr>
        <p:blipFill>
          <a:blip r:embed="rId2"/>
          <a:stretch/>
        </p:blipFill>
        <p:spPr>
          <a:xfrm>
            <a:off x="4572000" y="1484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Ирина\Desktop\фото\DSC02390.JPG"/>
          <p:cNvPicPr/>
          <p:nvPr/>
        </p:nvPicPr>
        <p:blipFill>
          <a:blip r:embed="rId3"/>
          <a:stretch/>
        </p:blipFill>
        <p:spPr>
          <a:xfrm>
            <a:off x="4572000" y="1484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Ирина\Desktop\фото\DSC02386.JPG"/>
          <p:cNvPicPr/>
          <p:nvPr/>
        </p:nvPicPr>
        <p:blipFill>
          <a:blip r:embed="rId4"/>
          <a:stretch/>
        </p:blipFill>
        <p:spPr>
          <a:xfrm>
            <a:off x="2627280" y="4076640"/>
            <a:ext cx="334476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ые задания «самый дружный и творческий клас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Ирина\Desktop\фото\DSC02348.JPG"/>
          <p:cNvPicPr/>
          <p:nvPr/>
        </p:nvPicPr>
        <p:blipFill>
          <a:blip r:embed="rId1"/>
          <a:stretch/>
        </p:blipFill>
        <p:spPr>
          <a:xfrm>
            <a:off x="611280" y="1628640"/>
            <a:ext cx="3679560" cy="276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Ирина\Desktop\фото\DSC02352.JPG"/>
          <p:cNvPicPr/>
          <p:nvPr/>
        </p:nvPicPr>
        <p:blipFill>
          <a:blip r:embed="rId2"/>
          <a:stretch/>
        </p:blipFill>
        <p:spPr>
          <a:xfrm>
            <a:off x="611280" y="1628640"/>
            <a:ext cx="3679560" cy="276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:\Users\Ирина\Desktop\фото\DSC02348.JPG"/>
          <p:cNvPicPr/>
          <p:nvPr/>
        </p:nvPicPr>
        <p:blipFill>
          <a:blip r:embed="rId3"/>
          <a:stretch/>
        </p:blipFill>
        <p:spPr>
          <a:xfrm>
            <a:off x="4643280" y="3357720"/>
            <a:ext cx="368784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еременных заданий, которые ребята получали в конверт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D:\Фото\Неделя правовых знаний\Фото правовая  неделя\2010-2011 Правовая Неделя\DSC03483.JPG"/>
          <p:cNvPicPr/>
          <p:nvPr/>
        </p:nvPicPr>
        <p:blipFill>
          <a:blip r:embed="rId1"/>
          <a:stretch/>
        </p:blipFill>
        <p:spPr>
          <a:xfrm>
            <a:off x="4524480" y="1413000"/>
            <a:ext cx="3263760" cy="244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D:\Фото\Мы все такие разные\DSC03303.JPG"/>
          <p:cNvPicPr/>
          <p:nvPr/>
        </p:nvPicPr>
        <p:blipFill>
          <a:blip r:embed="rId2"/>
          <a:srcRect l="0" t="0" r="88" b="-107"/>
          <a:stretch/>
        </p:blipFill>
        <p:spPr>
          <a:xfrm>
            <a:off x="755640" y="4195800"/>
            <a:ext cx="3456000" cy="2219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Ирина\Desktop\фото\DSC02375.JPG"/>
          <p:cNvPicPr/>
          <p:nvPr/>
        </p:nvPicPr>
        <p:blipFill>
          <a:blip r:embed="rId3"/>
          <a:stretch/>
        </p:blipFill>
        <p:spPr>
          <a:xfrm>
            <a:off x="755640" y="141300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Users\Ирина\Desktop\фото\DSC03353.JPG"/>
          <p:cNvPicPr/>
          <p:nvPr/>
        </p:nvPicPr>
        <p:blipFill>
          <a:blip r:embed="rId4"/>
          <a:stretch/>
        </p:blipFill>
        <p:spPr>
          <a:xfrm>
            <a:off x="4859280" y="4167360"/>
            <a:ext cx="2989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 переменных заданий  оргкомитет  вывешивал  каждый д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Users\Ирина\Desktop\фото\DSC02406.JPG"/>
          <p:cNvPicPr/>
          <p:nvPr/>
        </p:nvPicPr>
        <p:blipFill>
          <a:blip r:embed="rId1"/>
          <a:stretch/>
        </p:blipFill>
        <p:spPr>
          <a:xfrm>
            <a:off x="1476360" y="1773360"/>
            <a:ext cx="6335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крытие стены мечты и пожел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:\Users\Ирина\Desktop\фото\DSC02346.JPG"/>
          <p:cNvPicPr/>
          <p:nvPr/>
        </p:nvPicPr>
        <p:blipFill>
          <a:blip r:embed="rId1"/>
          <a:stretch/>
        </p:blipFill>
        <p:spPr>
          <a:xfrm>
            <a:off x="395280" y="162864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Ирина\Desktop\фото\DSC02355.JPG"/>
          <p:cNvPicPr/>
          <p:nvPr/>
        </p:nvPicPr>
        <p:blipFill>
          <a:blip r:embed="rId2"/>
          <a:stretch/>
        </p:blipFill>
        <p:spPr>
          <a:xfrm>
            <a:off x="4572000" y="3213000"/>
            <a:ext cx="4129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151272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C:\Users\Ирина\Desktop\фото\DSC02359.JPG"/>
          <p:cNvPicPr/>
          <p:nvPr/>
        </p:nvPicPr>
        <p:blipFill>
          <a:blip r:embed="rId1"/>
          <a:stretch/>
        </p:blipFill>
        <p:spPr>
          <a:xfrm>
            <a:off x="4932360" y="371628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Ирина\Desktop\фото\DSC02366.JPG"/>
          <p:cNvPicPr/>
          <p:nvPr/>
        </p:nvPicPr>
        <p:blipFill>
          <a:blip r:embed="rId2"/>
          <a:stretch/>
        </p:blipFill>
        <p:spPr>
          <a:xfrm>
            <a:off x="4915080" y="40464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C:\Users\Ирина\Desktop\фото\DSC02380.JPG"/>
          <p:cNvPicPr/>
          <p:nvPr/>
        </p:nvPicPr>
        <p:blipFill>
          <a:blip r:embed="rId3"/>
          <a:stretch/>
        </p:blipFill>
        <p:spPr>
          <a:xfrm>
            <a:off x="450720" y="333360"/>
            <a:ext cx="3834000" cy="2873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C:\Users\Ирина\Desktop\фото\DSC02369.JPG"/>
          <p:cNvPicPr/>
          <p:nvPr/>
        </p:nvPicPr>
        <p:blipFill>
          <a:blip r:embed="rId4"/>
          <a:stretch/>
        </p:blipFill>
        <p:spPr>
          <a:xfrm>
            <a:off x="539640" y="371628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7:21:46Z</dcterms:created>
  <dc:creator>Ирина</dc:creator>
  <dc:description/>
  <dc:language>en-US</dc:language>
  <cp:lastModifiedBy>Ирина</cp:lastModifiedBy>
  <dcterms:modified xsi:type="dcterms:W3CDTF">2012-04-15T13:36:16Z</dcterms:modified>
  <cp:revision>34</cp:revision>
  <dc:subject/>
  <dc:title>Неделя псих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10000000000010250600207f7000400038000</vt:lpwstr>
  </property>
</Properties>
</file>