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8C1-9BC8-4C63-BCE1-878726BB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2DD-169B-40CC-80E7-6A132DD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56F-E3A8-47D6-876A-FC8A5CFE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8A9-93DE-4F7D-B6A0-56E6BD30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CA7-2B08-4511-929C-84BC173E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A88-0506-4D05-932B-D8F49136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46A-0CE3-413B-A23E-2C7A3355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75F-F26C-4508-B029-9BB3C0B6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687-F1EF-477B-9ACD-8CDC5119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5A9-1B30-4EDD-B58C-438F8EA9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CD5-212C-4BA5-8B4E-F068698B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D13-4A7C-4B4F-812B-F9946AF7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926-D28E-4D3D-AB25-A0284C596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e7d"/>
                </a:solidFill>
                <a:latin typeface="Arial"/>
              </a:rPr>
              <a:t>«Преподавание русского языка и литературы с использованием дистанционных технологий обуч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640" y="4243320"/>
            <a:ext cx="63374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Н. Тихон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тевой преподаватель русского языка и литературы МБОУ «Нижнеуслонская СОШ» Верхнеуслон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9F3-4913-4F39-A0AD-02ADBE3F9C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3708360" y="6380280"/>
            <a:ext cx="158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640" y="-1717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4e7d"/>
                </a:solidFill>
                <a:latin typeface="Arial"/>
              </a:rPr>
              <a:t>Средний балл по прохождению ИИС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47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B703-7762-4344-A139-C488947484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6"/>
          <p:cNvGraphicFramePr/>
          <p:nvPr/>
        </p:nvGraphicFramePr>
        <p:xfrm>
          <a:off x="-396720" y="692280"/>
          <a:ext cx="9720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692280"/>
                    <a:ext cx="972000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1"/>
          <p:cNvSpPr/>
          <p:nvPr/>
        </p:nvSpPr>
        <p:spPr>
          <a:xfrm>
            <a:off x="108000" y="-28584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4e7d"/>
                </a:solidFill>
                <a:latin typeface="Arial"/>
              </a:rPr>
              <a:t>Качество знаний в  10 класс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6"/>
          <p:cNvGraphicFramePr/>
          <p:nvPr/>
        </p:nvGraphicFramePr>
        <p:xfrm>
          <a:off x="0" y="642960"/>
          <a:ext cx="8897760" cy="62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2960"/>
                    <a:ext cx="889776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6"/>
          <p:cNvGraphicFramePr/>
          <p:nvPr/>
        </p:nvGraphicFramePr>
        <p:xfrm>
          <a:off x="0" y="642960"/>
          <a:ext cx="8897760" cy="62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2960"/>
                    <a:ext cx="889776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Заголовок 1"/>
          <p:cNvSpPr/>
          <p:nvPr/>
        </p:nvSpPr>
        <p:spPr>
          <a:xfrm>
            <a:off x="108000" y="-28584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4e7d"/>
                </a:solidFill>
                <a:latin typeface="Arial"/>
              </a:rPr>
              <a:t>Качество знаний в  11 класс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карта"/>
          <p:cNvPicPr/>
          <p:nvPr/>
        </p:nvPicPr>
        <p:blipFill>
          <a:blip r:embed="rId1"/>
          <a:stretch/>
        </p:blipFill>
        <p:spPr>
          <a:xfrm>
            <a:off x="-8748720" y="-2835360"/>
            <a:ext cx="18989640" cy="31322880"/>
          </a:xfrm>
          <a:prstGeom prst="rect">
            <a:avLst/>
          </a:prstGeom>
          <a:ln w="0">
            <a:noFill/>
          </a:ln>
        </p:spPr>
      </p:pic>
      <p:sp>
        <p:nvSpPr>
          <p:cNvPr id="47" name="Oval 7"/>
          <p:cNvSpPr/>
          <p:nvPr/>
        </p:nvSpPr>
        <p:spPr>
          <a:xfrm>
            <a:off x="7812000" y="1773360"/>
            <a:ext cx="1332000" cy="431640"/>
          </a:xfrm>
          <a:prstGeom prst="ellipse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7885080" y="1844640"/>
            <a:ext cx="12225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РХНИЙ УСЛ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7380360" y="5229360"/>
            <a:ext cx="1332000" cy="431640"/>
          </a:xfrm>
          <a:prstGeom prst="ellipse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7451640" y="5300640"/>
            <a:ext cx="12225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ИЖНИЙ УСЛ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144360" y="836640"/>
            <a:ext cx="7523280" cy="2305080"/>
          </a:xfrm>
          <a:prstGeom prst="rightArrowCallout">
            <a:avLst>
              <a:gd name="adj1" fmla="val 19974"/>
              <a:gd name="adj2" fmla="val 25000"/>
              <a:gd name="adj3" fmla="val 57177"/>
              <a:gd name="adj4" fmla="val 39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Верхний Услон"/>
          <p:cNvPicPr/>
          <p:nvPr/>
        </p:nvPicPr>
        <p:blipFill>
          <a:blip r:embed="rId2"/>
          <a:stretch/>
        </p:blipFill>
        <p:spPr>
          <a:xfrm>
            <a:off x="181080" y="849240"/>
            <a:ext cx="2950920" cy="22924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4"/>
          <p:cNvSpPr/>
          <p:nvPr/>
        </p:nvSpPr>
        <p:spPr>
          <a:xfrm>
            <a:off x="144360" y="4292640"/>
            <a:ext cx="7164360" cy="2305080"/>
          </a:xfrm>
          <a:prstGeom prst="rightArrowCallout">
            <a:avLst>
              <a:gd name="adj1" fmla="val 19974"/>
              <a:gd name="adj2" fmla="val 25000"/>
              <a:gd name="adj3" fmla="val 54449"/>
              <a:gd name="adj4" fmla="val 4201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Нижний Услон"/>
          <p:cNvPicPr/>
          <p:nvPr/>
        </p:nvPicPr>
        <p:blipFill>
          <a:blip r:embed="rId3"/>
          <a:stretch/>
        </p:blipFill>
        <p:spPr>
          <a:xfrm>
            <a:off x="149400" y="4292640"/>
            <a:ext cx="2982600" cy="2292480"/>
          </a:xfrm>
          <a:prstGeom prst="rect">
            <a:avLst/>
          </a:prstGeom>
          <a:ln w="0">
            <a:noFill/>
          </a:ln>
        </p:spPr>
      </p:pic>
      <p:sp>
        <p:nvSpPr>
          <p:cNvPr id="55" name="WordArt 16"/>
          <p:cNvSpPr txBox="1"/>
          <p:nvPr/>
        </p:nvSpPr>
        <p:spPr>
          <a:xfrm>
            <a:off x="158760" y="49320"/>
            <a:ext cx="873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хнеуслонский муниципальный район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8CB9-600D-417F-88C2-C16D327E97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179280" y="714240"/>
            <a:ext cx="8713800" cy="57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7d"/>
                </a:solidFill>
                <a:latin typeface="Arial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равного доступа к качественному образованию вне зависимости от территориальной удаленности и размеров населенного пун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7d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предметов школьного курса на основе индивидуального подхода и самостоятельной работы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интеллектуальных и творческих способностей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нсивная углублённая подготовка выпускников к ЕГЭ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ижение финансовых и временных зат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проблемы недостатка учителей в рай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108000" y="-28584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7d"/>
                </a:solidFill>
                <a:latin typeface="Arial"/>
              </a:rPr>
              <a:t>Цели и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1"/>
          <p:cNvSpPr/>
          <p:nvPr/>
        </p:nvSpPr>
        <p:spPr>
          <a:xfrm>
            <a:off x="108000" y="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7d"/>
                </a:solidFill>
                <a:latin typeface="Arial"/>
              </a:rPr>
              <a:t>Организация учебного процесса в Интернет-школе «Просвещ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201600" y="1579680"/>
            <a:ext cx="1535040" cy="4765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6"/>
          <p:cNvSpPr/>
          <p:nvPr/>
        </p:nvSpPr>
        <p:spPr>
          <a:xfrm>
            <a:off x="3071880" y="1357200"/>
            <a:ext cx="5786280" cy="52866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8900000"/>
          </a:gradFill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теоретическ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ение тестовых заданий в режиме онлай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ение домашних зад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онлайн-уро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онлайн- и оффлайн-консультац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над индивидуальными и групповым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дискуссиях и деба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научно-практических видеоконференциях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14"/>
          <p:cNvSpPr/>
          <p:nvPr/>
        </p:nvSpPr>
        <p:spPr>
          <a:xfrm>
            <a:off x="1785960" y="3357720"/>
            <a:ext cx="1214280" cy="100008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кругленный прямоугольник 1" descr=""/>
          <p:cNvPicPr/>
          <p:nvPr/>
        </p:nvPicPr>
        <p:blipFill>
          <a:blip r:embed="rId1"/>
          <a:stretch/>
        </p:blipFill>
        <p:spPr>
          <a:xfrm>
            <a:off x="128520" y="317520"/>
            <a:ext cx="1535040" cy="678492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7486560" y="360360"/>
            <a:ext cx="1535040" cy="6321600"/>
          </a:xfrm>
          <a:prstGeom prst="rect">
            <a:avLst/>
          </a:prstGeom>
          <a:ln w="0">
            <a:noFill/>
          </a:ln>
        </p:spPr>
      </p:pic>
      <p:pic>
        <p:nvPicPr>
          <p:cNvPr id="65" name="Восьмиугольник 3" descr=""/>
          <p:cNvPicPr/>
          <p:nvPr/>
        </p:nvPicPr>
        <p:blipFill>
          <a:blip r:embed="rId3"/>
          <a:stretch/>
        </p:blipFill>
        <p:spPr>
          <a:xfrm>
            <a:off x="2882880" y="2243160"/>
            <a:ext cx="3384720" cy="2878200"/>
          </a:xfrm>
          <a:prstGeom prst="rect">
            <a:avLst/>
          </a:prstGeom>
          <a:ln w="0">
            <a:noFill/>
          </a:ln>
        </p:spPr>
      </p:pic>
      <p:sp>
        <p:nvSpPr>
          <p:cNvPr id="66" name="Двойная стрелка влево/вправо 5"/>
          <p:cNvSpPr/>
          <p:nvPr/>
        </p:nvSpPr>
        <p:spPr>
          <a:xfrm>
            <a:off x="1643040" y="3214800"/>
            <a:ext cx="1214640" cy="785880"/>
          </a:xfrm>
          <a:prstGeom prst="leftRightArrow">
            <a:avLst>
              <a:gd name="adj1" fmla="val 50000"/>
              <a:gd name="adj2" fmla="val 35455"/>
            </a:avLst>
          </a:prstGeom>
          <a:solidFill>
            <a:srgbClr val="ffffff"/>
          </a:solidFill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Двойная стрелка влево/вправо 6"/>
          <p:cNvSpPr/>
          <p:nvPr/>
        </p:nvSpPr>
        <p:spPr>
          <a:xfrm>
            <a:off x="6286680" y="3214800"/>
            <a:ext cx="1214280" cy="785880"/>
          </a:xfrm>
          <a:prstGeom prst="leftRightArrow">
            <a:avLst>
              <a:gd name="adj1" fmla="val 50000"/>
              <a:gd name="adj2" fmla="val 35445"/>
            </a:avLst>
          </a:prstGeom>
          <a:solidFill>
            <a:srgbClr val="ffffff"/>
          </a:solidFill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108000" y="0"/>
            <a:ext cx="8785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e7d"/>
                </a:solidFill>
                <a:latin typeface="Arial"/>
              </a:rPr>
              <a:t>Взаимодейств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e7d"/>
                </a:solidFill>
                <a:latin typeface="Arial"/>
              </a:rPr>
              <a:t>ученик ↔ учи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1"/>
          <p:cNvSpPr/>
          <p:nvPr/>
        </p:nvSpPr>
        <p:spPr>
          <a:xfrm>
            <a:off x="108000" y="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7d"/>
                </a:solidFill>
                <a:latin typeface="Arial"/>
              </a:rPr>
              <a:t>Преимущества для ученика в дистанционном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79280" y="1214280"/>
            <a:ext cx="87138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ви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ние работать с новыми технолог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выбрать индивидуальный темп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я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ирокий выбор источников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стандартные развивающие домашние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озможность интенсивной подготовки к ЕГЭ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ные виды чтения: изучающее, поисковое, ознакомитель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принимать решения, делать осознанный выбор и нести за него ответств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самостоятельно планировать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работать в информационном простран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вык презентации результатов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вык само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0" y="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7d"/>
                </a:solidFill>
                <a:latin typeface="Arial"/>
              </a:rPr>
              <a:t>Проблемы, требующие решения в реализации дистанционных курсов «Русский язык и литерату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79280" y="1500120"/>
            <a:ext cx="87138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теоретического учебного материала учеб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сов среднего зв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ата навыка письма – главной составляющей предм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усский язы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плаг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изация живого общения учителя с ученик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двигательной активности учащихся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м нагрузки на глаза и опорно-двигатель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па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1"/>
          <p:cNvSpPr/>
          <p:nvPr/>
        </p:nvSpPr>
        <p:spPr>
          <a:xfrm>
            <a:off x="108000" y="-7128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7d"/>
                </a:solidFill>
                <a:latin typeface="Arial"/>
              </a:rPr>
              <a:t>Предметно-тематические руб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дзаголовок 2"/>
          <p:cNvSpPr/>
          <p:nvPr/>
        </p:nvSpPr>
        <p:spPr>
          <a:xfrm>
            <a:off x="179280" y="1000080"/>
            <a:ext cx="87138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разделе «Русский язы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Готовимся к ЕГЭ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наменитые лингвисты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териал для углублённого изучени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то интересн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разделе «Литерату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азмин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ловарь понятий и термин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ерсоналии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удиокласс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Школьная картинная галере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наете ли вы, что…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итальный з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640" y="-1717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4e7d"/>
                </a:solidFill>
                <a:latin typeface="Arial"/>
              </a:rPr>
              <a:t>Количество обучающихся, проходящих ИИС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47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C891-F134-40C2-A754-7594F5C9FD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-324000" y="692280"/>
          <a:ext cx="9720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692280"/>
                    <a:ext cx="9720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0:41:41Z</dcterms:created>
  <dc:creator>Першина</dc:creator>
  <dc:description/>
  <dc:language>en-US</dc:language>
  <cp:lastModifiedBy>Гайнан</cp:lastModifiedBy>
  <dcterms:modified xsi:type="dcterms:W3CDTF">2011-03-30T09:55:32Z</dcterms:modified>
  <cp:revision>108</cp:revision>
  <dc:subject/>
  <dc:title>Слайд 1</dc:title>
</cp:coreProperties>
</file>