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BE1-58B7-40BB-9867-FD73FC57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DF4-9256-4AB8-9974-6ED1AB4B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623-43D4-4443-858F-28313658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D9B-8C7B-4593-9B19-A59EC75D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DD87-9E5D-41B4-9795-B3AC42A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EAC2-8C8F-4245-A004-C41C113D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76AC-493A-49E0-BA1A-6E0C2732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C1A1-4CAE-4F54-95AF-B1940D18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4C3F-2E79-4B0D-B424-BEEA561C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1905-8D69-4DCB-9B0B-2D1EADDE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36A3-F810-4F34-BBEF-47DF8CCE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7B4-7B1A-4D1D-8E2A-F59AC0B4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9BE8-0EBE-4F03-81D9-E733A22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CC1A-295C-4E3B-8416-C86DA48F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0030-A27F-4084-A2F6-6C9C84A0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D673-D0CD-4FA7-8282-4F643052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633A-ACE1-4445-858E-5DC5DF60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C25-974D-4D2D-86BE-6F6D605E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8CE-20FD-415B-90A2-BDDA7272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29A-1FED-4C5F-B913-2476162D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316-C4AE-452A-8D3D-C4C011CD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B77-A7DC-46AE-B57A-F683F048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34F-1B2C-4460-AEA8-E129FE97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E52-94BB-48B2-8610-C436B9E8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35D1-D2E8-487F-B413-D2040F77959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3D4E-CE93-478A-B173-4479B93D74C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Категория состояния</a:t>
            </a:r>
            <a:br>
              <a:rPr sz="54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7 клас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до зна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гория состояния может иметь сравнительную степень, как и нареч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годня холоднее, чем вч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6"/>
          <p:cNvSpPr/>
          <p:nvPr/>
        </p:nvSpPr>
        <p:spPr>
          <a:xfrm flipH="1">
            <a:off x="4643280" y="407664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4788000" y="4076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интаксический разбор предлож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годня на улице холо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рфологический разб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лодно – категория состоя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(Каково?) холодно; состояние прир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Неиз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Холо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1476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2268360" y="4797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2268360" y="4941720"/>
            <a:ext cx="179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ите синтаксическую роль выделенных сл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Зимой в лесу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ш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Он заговорил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ш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Музыка становилас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ш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Познакомиться с  новой частью речи – категорией состоя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Отработать умение разбирать категорию состояния морфологичес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Развивать речь через составление высказывания на грамматическую тем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ализ предлож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Церковное пе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оржествен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Его речь звучал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оржествен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В зимнем лесу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оржествен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чу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Пробл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отличать категорию состояния от наречий и краткой формы прилагательного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шение пробле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ить общее значение похожих друг на друга слов и их синтаксическую рол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тегория состоя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Общее значение – самостоятельная часть речи, обозначающая состояние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омнить!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ценка некоторого состоя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жно, нельзя, надо, нужно, необходим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рфологические призна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изменяе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таксическая ро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63272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зуемое в безличных предложениях (в которых нет и не может быть подлежащего), употребляется иногда с глагол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ыть, становиться, делать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чера было ветре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498760" y="4282920"/>
            <a:ext cx="4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219480" y="4941720"/>
            <a:ext cx="23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л.           К.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284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98764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284328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406728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4"/>
          <p:cNvSpPr/>
          <p:nvPr/>
        </p:nvSpPr>
        <p:spPr>
          <a:xfrm flipH="1">
            <a:off x="3924000" y="558972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392436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ч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разных ситуациях слова категории состояния обозначают различное состояние, например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Алексею холодно. (состояние челове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На улице холодно. (состояние сред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Мне с вами холодно и неуютно. (эмоциональное состояние челове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0:36Z</dcterms:created>
  <dc:creator>Grenader</dc:creator>
  <dc:description/>
  <dc:language>en-US</dc:language>
  <cp:lastModifiedBy>Customer</cp:lastModifiedBy>
  <dcterms:modified xsi:type="dcterms:W3CDTF">2012-02-06T11:04:50Z</dcterms:modified>
  <cp:revision>7</cp:revision>
  <dc:subject/>
  <dc:title>Категория состояния</dc:title>
</cp:coreProperties>
</file>