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7C5FD-6BE0-42B0-8A57-B3EE476CF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CAA0C-38B3-4BE9-978C-8DDAD5E2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B68D5-E731-49D1-92E4-E0F744CA8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9EDDE-8691-4EBA-AC3E-9C281A58C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7CDC-8B3A-4420-9AA9-525C3825F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3D8C-FDE8-43F2-9937-12046F70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8A0D-9409-47FA-9E0D-1598EC5B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4B3F-B890-4306-B3B9-43E4EA34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76B8-F933-4EAE-B99D-892F1C81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82D2-6503-4F0F-A826-58F246BD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3D79-06AE-4A66-AF0D-95B40BB2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DD1FA-34CE-4C56-AF99-96757B2A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127B-2F10-4CEB-82BD-23705315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562D-BD0D-4439-B618-08521D5F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6C09-FB65-4E03-9E91-2B337C29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4414-7D37-44C3-908F-EE4AA23A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B6D8-904E-47F1-94E4-EFF5E4815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ABD78-BFEE-47C8-9DE2-86A62A11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B40DB-7313-4F16-94A6-13F66025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7F9DA-9C02-4E93-BC64-629F3416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71EE3-438E-40B6-BACB-35A14F28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EF6A4-2542-4608-B13B-851B4A9A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DE928-93FD-4AB9-B318-DDABCBBD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993A1-CE7B-4BCD-AD62-A854F2F8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C937-56B0-45A2-8F24-157D8E45A0A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1A17-94A0-4436-BECF-BB26448B7AC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600" y="1828800"/>
            <a:ext cx="64771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Работа с трудными детьм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410080" y="4343400"/>
            <a:ext cx="33530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готовил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дагог-психоло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КОУ Смаглеевской СОШ Кантемировского муниципального района Воронеж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ицкая М.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1" descr="Мальчикбезфона"/>
          <p:cNvPicPr/>
          <p:nvPr/>
        </p:nvPicPr>
        <p:blipFill>
          <a:blip r:embed="rId1"/>
          <a:stretch/>
        </p:blipFill>
        <p:spPr>
          <a:xfrm>
            <a:off x="306360" y="990720"/>
            <a:ext cx="2328840" cy="4684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чинами постановки на внутришкольный профилактический учет могут быть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42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рушение Устава школ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истематическое невыполнение домашнего зад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тказ от работы на уро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рушение дисциплины на уро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огулы учебных занят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драки, грубость, сквернослов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ур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употребление спиртных напит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овершение правонарушений с доставкой несовершеннолетнего в органы мили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овершение преступ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истематическая порча государственного и личного имуще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здевательство над учащимися другой национальности, вероисповедания, цвета кожи, над маленькими или более слабыми учащими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единичные случаи нарушения общественного порядка в школе, в результате которого возникла угроза жизни другого челове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 совершение несовершеннолетними правонарушения, за которое установлена административная ответстве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indefinite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3. Постановка на учет возможн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заявлению классного руководите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заявлению администрации шко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езультате совершения несовершеннолетними деяния, за которое установлена административная ответствен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езультате совершения несовершеннолетними деяния, за которое установлена уголовная ответствен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. Предоставление документов для постановки на уче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7975440" cy="4419720"/>
          </a:xfrm>
          <a:prstGeom prst="rect">
            <a:avLst/>
          </a:prstGeom>
          <a:noFill/>
          <a:ln w="9360">
            <a:solidFill>
              <a:srgbClr val="00007d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явление классного руковод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рактеристика на учащего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т посещения на д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я о профилактической работе с несовершеннолетн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иска оценок за текущую четвер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1998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телям отправляется уведомление о приглашении их на заседание Совета профилактики. Если родители не явились, то вопрос все равно рассматривается на засед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ольный Совет профилактики разрабатывает план профилактической работы с данным несовершеннолет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несовершеннолетний ставится на учет по неуспеваемости, то для него может быть разработано индивидуальное расписание дополнительных заня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учащегося заводится учетная карточ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Карточка  учё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КОУ Смаглеевская средняяя общеобразовательная шко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нтемировского муниципального района Воронеж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амилия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мя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ата рождения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дрес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лефон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ИО матери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_________________________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ИО отца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чины постановки на учё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АРТОЧКА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индивидуальной работы с учащимс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2895480"/>
          <a:ext cx="8229600" cy="2702160"/>
        </p:xfrm>
        <a:graphic>
          <a:graphicData uri="http://schemas.openxmlformats.org/drawingml/2006/table">
            <a:tbl>
              <a:tblPr/>
              <a:tblGrid>
                <a:gridCol w="747720"/>
                <a:gridCol w="3741840"/>
                <a:gridCol w="1245960"/>
                <a:gridCol w="1247760"/>
                <a:gridCol w="1246320"/>
              </a:tblGrid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ое мероприя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олагаем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испол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 исполн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heel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Личное дело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учащегося, требующего индивидуального подхода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к обучению и воспитанию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та заполнения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милия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я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чество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та рождения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ость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ашний адрес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 семьи: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.И.О.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то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ец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.И.О.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то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едагогическая характеристик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ая характеристик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ичина постановки на учё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оводимая индивидуальная работ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 кем и что конкретно)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.беседы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ещения на дому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игла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овет профилактики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ДН и ЗП  при администрации  Смаглеевского сельского поселения___________ в КДН  и ЗП  администрации  Кантемировского  района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ДН ОВД  Кантемировского муниципального района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осещение кружков по интересам  и спортивных секц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. Результаты работы Совета профилактики безнадзорности и правонарушени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9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 всех результатах контроля классный руководитель ставит в известность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 результате профилактической работы с несовершеннолетним и его семьей делается вывод о необходимости особой психологической помощи, председатель Совета профилактики обращается с запросом о психологической помощи в психологическую службу школы или рай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ишется заключение, что несовершеннолетнему необходимо всестороннее обследование, родителям предлагается обратиться в школьный консилиум с целью создания индивидуального маршрута психолого-медико-педагогического сопров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родители отказываются письменно от помощи, предлагаемой школой, то школьный Совет выносит решение об обращении с ходатайством в КДНиЗ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14440"/>
            <a:ext cx="822960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6. Снятие учащегося  с ВШ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12880" y="1599840"/>
            <a:ext cx="751824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того, чтобы снять с учета в результате положительной работы необходимо в школьный Совет предостави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явление классного руковод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рактеристику на несовершеннолетн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ю о проделанной профилактической работе с указанием достигнутого результ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иску оценок из классного журн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сихолого-педагогическая  карта  учащего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342880"/>
            <a:ext cx="822960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.И.О.________________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а, класс 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 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ный руководитель 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1295280"/>
            <a:ext cx="7772400" cy="406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Arial"/>
              </a:rPr>
              <a:t>Вот он сидит перед нами, взгляните</a:t>
            </a:r>
            <a:br>
              <a:rPr sz="2600"/>
            </a:br>
            <a:r>
              <a:rPr b="0" i="1" lang="ru-RU" sz="2600" spc="-1" strike="noStrike">
                <a:solidFill>
                  <a:srgbClr val="ff0000"/>
                </a:solidFill>
                <a:latin typeface="Arial"/>
              </a:rPr>
              <a:t>Сжался пружиной, отчаялся он.</a:t>
            </a:r>
            <a:br>
              <a:rPr sz="2600"/>
            </a:br>
            <a:r>
              <a:rPr b="0" i="1" lang="ru-RU" sz="2600" spc="-1" strike="noStrike">
                <a:solidFill>
                  <a:srgbClr val="ff0000"/>
                </a:solidFill>
                <a:latin typeface="Arial"/>
              </a:rPr>
              <a:t>С миром оборваны тонкие нити</a:t>
            </a:r>
            <a:br>
              <a:rPr sz="2600"/>
            </a:br>
            <a:r>
              <a:rPr b="0" i="1" lang="ru-RU" sz="2600" spc="-1" strike="noStrike">
                <a:solidFill>
                  <a:srgbClr val="ff0000"/>
                </a:solidFill>
                <a:latin typeface="Arial"/>
              </a:rPr>
              <a:t>Словно стена без дверей и окон.</a:t>
            </a:r>
            <a:br>
              <a:rPr sz="2600"/>
            </a:br>
            <a:r>
              <a:rPr b="0" i="1" lang="ru-RU" sz="2600" spc="-1" strike="noStrike">
                <a:solidFill>
                  <a:srgbClr val="ff0000"/>
                </a:solidFill>
                <a:latin typeface="Arial"/>
              </a:rPr>
              <a:t>Вот они, главные истины эти:</a:t>
            </a:r>
            <a:br>
              <a:rPr sz="2600"/>
            </a:br>
            <a:r>
              <a:rPr b="0" i="1" lang="ru-RU" sz="2600" spc="-1" strike="noStrike">
                <a:solidFill>
                  <a:srgbClr val="ff0000"/>
                </a:solidFill>
                <a:latin typeface="Arial"/>
              </a:rPr>
              <a:t>Поздно заметили...</a:t>
            </a:r>
            <a:r>
              <a:rPr b="0" i="1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ff0000"/>
                </a:solidFill>
                <a:latin typeface="Arial"/>
              </a:rPr>
              <a:t>Поздно учли..</a:t>
            </a:r>
            <a:br>
              <a:rPr sz="2600"/>
            </a:br>
            <a:r>
              <a:rPr b="0" i="1" lang="ru-RU" sz="2600" spc="-1" strike="noStrike">
                <a:solidFill>
                  <a:srgbClr val="ff0000"/>
                </a:solidFill>
                <a:latin typeface="Arial"/>
              </a:rPr>
              <a:t>Нет!!! Не рождаются трудными дети!</a:t>
            </a:r>
            <a:br>
              <a:rPr sz="2600"/>
            </a:br>
            <a:r>
              <a:rPr b="0" i="1" lang="ru-RU" sz="2600" spc="-1" strike="noStrike">
                <a:solidFill>
                  <a:srgbClr val="ff0000"/>
                </a:solidFill>
                <a:latin typeface="Arial"/>
              </a:rPr>
              <a:t>Просто им вовремя не помогли.</a:t>
            </a:r>
            <a:br>
              <a:rPr sz="2600"/>
            </a:br>
            <a:r>
              <a:rPr b="0" i="1" lang="ru-RU" sz="2600" spc="-1" strike="noStrike">
                <a:solidFill>
                  <a:srgbClr val="ff0000"/>
                </a:solidFill>
                <a:latin typeface="Arial"/>
              </a:rPr>
              <a:t>                                             С.Давидович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бщие правила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ля классного руководит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ственность педагога здесь особенно велика, поскольку от правильности и точности выводов во многом зависит судьба ученика. Любая догадка (например, о необходимости обращения к другим специалистам за помощью) должна быть тщательно проверена в диагностической работе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еобходима особая осторожность и продуманность в тех случаях, когда требуется рассказать другим людям о проблемах ребенка. Для этого следует отказаться от клинико-психологической терминологии и использовать лишь обыденно – житейскую лексику. При этом необходимо давать родителям и другим учителям ясные и точные рекомендации, как помочь ребенку, испытывающему трудности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ледует обращать особое внимание на особенности семейной ситуации. Работа с семьей ребенка «группы риска» оказывается зачастую более важным средством психопрофилактики, чем работа с группой учеников и с учителями. Соблюдение этих условий дает возможность помочь ребенку, создать условия для компенсации трудностей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4304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Мудрые слова подростка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14000"/>
            <a:ext cx="7873920" cy="52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    Не бойся делать то, что не умеешь и чему тебя не учи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    Упал – начни снач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    Без веры в себя нельзя быть сильным. Но вера в себя считается в обществе чем-то нескромным. Уладить это противоречие – одна из труднейших задач человека и его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    В поисках истины свойственно ушибатьс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    Нет никого в этой жизни, кто бы достиг состояния, освобождающего его от необходимости труд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    Новые шансы даются под видом неприятностей. Не упусти их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    Пока ты недоволен жизнью, она проходит мим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.    Если прислушаться к самому себе – можно услышать друг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9.    Не бывает безвыходных ситуаций! Бывают только ситуации, выход из которых нас не устраив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0. Если  человек говорит, что у него нет проблем, стоит проверить его пуль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1. Всем людям свойственно ошибатьс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2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20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20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20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20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2000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aaaj"/>
          <p:cNvPicPr/>
          <p:nvPr/>
        </p:nvPicPr>
        <p:blipFill>
          <a:blip r:embed="rId1"/>
          <a:stretch/>
        </p:blipFill>
        <p:spPr>
          <a:xfrm>
            <a:off x="2133720" y="2971800"/>
            <a:ext cx="4671720" cy="2259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рудный  ребён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209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учащийся, у которого в течение длительного времени (более 3 месяцев) наблюдается одна или несколько проблем в социально-эмоциональной, учебной, мотивационно-волевой сфе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Наиболее рельефно типичные особенности трудного ребенка проявляются в подростковом возрасте"/>
          <p:cNvPicPr/>
          <p:nvPr/>
        </p:nvPicPr>
        <p:blipFill>
          <a:blip r:embed="rId1"/>
          <a:stretch/>
        </p:blipFill>
        <p:spPr>
          <a:xfrm>
            <a:off x="7543800" y="304920"/>
            <a:ext cx="1241280" cy="1676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Это пробл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бучени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взаимоотношении со сверстникам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взаимоотношении с родителям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сковое поведение, в том числе различного рода зависимост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лексные пробле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х проявлением может бы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ушение пове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т замкнутости до агрессии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моциональное неблагополучие (плаксивость, вспышки гнева и т. д.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пуск уроков и учебных дней без уважительной причин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рушение общепринятых норм пове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совершение противоправных действий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21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ное условие предупреждения возникновения у подростка серьезных социально-эмоциональных проблем и попадания его в "группу риска" – правильно организованная досуговая деятельность, которая может включать в себя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68560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ещение кружков и секций (как в школе, так и за ее пределами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классную деятельность в школ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курс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ещение выставок, музеев, театров и т. д.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уристические поход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работе детских и подростковых общественных организаций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Алгоритм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работы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с учащимис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«группы риска»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абота классного руководителя по выявлению «трудных» учащихс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г 1.  Выяснить, кто из ребят относится к «группе риска, по какой прич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г 2.  Выяснить в каких условиях и семьях проживают эти д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г 3.  Обратиться к школьному психологу для оформления запроса по работе с такими детьми (психолог должен дать рекомендац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г 4.  Составить карту учащего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г 5.  Определить формы работы с такими учащими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аждый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лассный руководитель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должен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6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авить план работы по профилактике безнадзорности и правонарушений, в который должны быть обязательно включены:  индивидуальные и групповые профилактические беседы, игры, родительские собрания, посещения на дому, педагогические диагностики и т.д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вести дневник классного руководителя, где на каждого ребенка выделена отдельная страница, на которой фиксируется вся работа, проводимая с ребенком и его родит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ли данная работа не приносит положительного результата, то встает вопрос о постановке ученика на внутришкольный  профилактический уч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шение об этом принимает Совет профилактики шк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на</cp:lastModifiedBy>
  <dcterms:modified xsi:type="dcterms:W3CDTF">2013-12-18T02:27:49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