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9169-A6CE-490D-B1A6-D9FAF9A0A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2986-C038-4D05-A5CD-35BEFDF8A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1E1D-1229-4BBC-9772-76BE3C4E7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A225-A1B2-498C-87E6-0DAC409DF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2C7F8-1C9F-44C7-98FB-C255433BE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50BDC-A96D-4EB3-805A-CF344A3BC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1C7EA-E9EB-48FD-95DC-BEFB70271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33789-34DE-4ADC-805D-C70B8BDB7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36A80-50DC-4C47-A1C5-DA9845418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65CDC-883D-4999-9075-AE831B1A6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EDD49-46F3-47C4-BF04-C31297DC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878C-41C3-4756-A13D-97AA192A0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E1CC5-CCA5-4ED4-81CE-DB087658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5ACF4-D7D3-4677-8CB7-2214141E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27272-8C1E-4304-81CD-933DC6355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A84F0-9B8C-4637-85FA-F4FE678C3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1A17B-7772-4778-89FB-8362E6E8B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8351-B757-4362-AA91-7761F8E3F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C6B9-8035-4663-AC8D-F426F57FE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3AC4-819A-4268-8F81-9A411238E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D83B-A8DD-420E-8C28-C41B674F6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5018-B4C4-49F7-92AB-DA615C6A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FCFD-662F-4E23-89B9-ABE3FB17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2E10-842D-4E42-B334-C7AF3668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7765F-E232-4F37-9557-119976326A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00C2B-621F-468A-B882-6C6D24D041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a47"/>
            </a:gs>
            <a:gs pos="100000">
              <a:srgbClr val="fff5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4"/>
          <p:cNvSpPr txBox="1"/>
          <p:nvPr/>
        </p:nvSpPr>
        <p:spPr>
          <a:xfrm>
            <a:off x="684360" y="1700280"/>
            <a:ext cx="784836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703dff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4000" spc="1" strike="noStrike">
                <a:ln w="9360">
                  <a:solidFill>
                    <a:srgbClr val="703dff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Н-НН </a:t>
            </a:r>
            <a:endParaRPr b="0" lang="en-US" sz="4000" spc="1" strike="noStrike">
              <a:ln w="9360">
                <a:solidFill>
                  <a:srgbClr val="703dff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703dff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В СУФФИКСАХ СТРАДАТЕЛЬНЫХ ПРИЧАСТИЙ </a:t>
            </a:r>
            <a:endParaRPr b="0" lang="en-US" sz="4000" spc="1" strike="noStrike">
              <a:ln w="9360">
                <a:solidFill>
                  <a:srgbClr val="703dff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703dff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ПРОШЕДШЕГО ВРЕМЕНИ.</a:t>
            </a:r>
            <a:endParaRPr b="0" lang="en-US" sz="4000" spc="1" strike="noStrike">
              <a:ln w="9360">
                <a:solidFill>
                  <a:srgbClr val="703dff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703dff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ОДНА  Н</a:t>
            </a:r>
            <a:endParaRPr b="0" lang="en-US" sz="4000" spc="1" strike="noStrike">
              <a:ln w="9360">
                <a:solidFill>
                  <a:srgbClr val="703dff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703dff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4000" spc="1" strike="noStrike">
                <a:ln w="9360">
                  <a:solidFill>
                    <a:srgbClr val="703dff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В ОТГЛАГОЛЬНЫХ ПРИЛАГАТЕЛЬНЫХ</a:t>
            </a:r>
            <a:endParaRPr b="0" lang="en-US" sz="4000" spc="1" strike="noStrike">
              <a:ln w="9360">
                <a:solidFill>
                  <a:srgbClr val="703dff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152" name="WordArt 6"/>
          <p:cNvSpPr txBox="1"/>
          <p:nvPr/>
        </p:nvSpPr>
        <p:spPr>
          <a:xfrm>
            <a:off x="5867280" y="404640"/>
            <a:ext cx="2808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703dff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7 класс</a:t>
            </a:r>
            <a:endParaRPr b="0" lang="en-US" sz="1800" spc="1" strike="noStrike">
              <a:ln w="9360">
                <a:solidFill>
                  <a:srgbClr val="703dff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440" y="259920"/>
            <a:ext cx="806292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ивет, ребята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Зовут меня причасти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Я являюсь самостоятельной частью речи и обозначаю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324000" y="1773360"/>
            <a:ext cx="86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о своему существованию мне всегда приходится отвечать на вопросы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755640" y="256536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начала меня долгое время считали глаголом, так как я имею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250920" y="323676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о потом выяснилось, что я прилагательное,  так как изменяюсь по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250920" y="3860640"/>
            <a:ext cx="8675640" cy="29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Так кто же я на самом деле: прилагательный глагол или глагольное прилагательное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 то и не другое. Я среднее звено в этой цеп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этому меня выгнали из семьи глаголов и из семьи прилагательных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Я существую уже много лет, но меня не волнует  будущее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я живу только настоящим и прошлы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Люблю много путешествоват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468360" y="1341360"/>
            <a:ext cx="82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проявляющийся во времени признак предмета по действию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5221440" y="2060640"/>
            <a:ext cx="36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какой? какая? какое?</a:t>
            </a:r>
            <a:r>
              <a:rPr b="0" lang="en-US" sz="2000" spc="-1" strike="noStrike">
                <a:solidFill>
                  <a:srgbClr val="703d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какие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1258920" y="2997360"/>
            <a:ext cx="7058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2698920" y="2852640"/>
            <a:ext cx="59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вид , время и возвратность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13"/>
          <p:cNvSpPr/>
          <p:nvPr/>
        </p:nvSpPr>
        <p:spPr>
          <a:xfrm>
            <a:off x="1258920" y="3573360"/>
            <a:ext cx="72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родам, числам и падежа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547280" y="5229000"/>
            <a:ext cx="7272360" cy="54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-ущ-, -ющ- и –ащ-, -ящ-; -ом-, -ем- и –им-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755640" y="333360"/>
            <a:ext cx="67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орой я живу в доме с родственниками – зависимыми словами.  Вся наша семья называетс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2556000" y="90792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причастный оборо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395280" y="1197000"/>
            <a:ext cx="820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аши соседи – определяемые слова, когда чем-то недовольны, то ставят нас после себя и на письме отделяются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2050920" y="2924280"/>
            <a:ext cx="5257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6732720" y="1519200"/>
            <a:ext cx="15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запятым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755640" y="1989000"/>
            <a:ext cx="74883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Мне это не нравится, но что поделаеш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611280" y="242100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Когда у меня все нормально – я </a:t>
            </a: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действительное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при этом обозначаю признак, который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468360" y="2887560"/>
            <a:ext cx="820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возник в результате действия самого предмет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 Box 13"/>
          <p:cNvSpPr/>
          <p:nvPr/>
        </p:nvSpPr>
        <p:spPr>
          <a:xfrm>
            <a:off x="539640" y="3357720"/>
            <a:ext cx="77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о чаще я – </a:t>
            </a: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страдательное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поскольку у меня много  разочарований, при этом обозначаю признак,  которы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 Box 14"/>
          <p:cNvSpPr/>
          <p:nvPr/>
        </p:nvSpPr>
        <p:spPr>
          <a:xfrm>
            <a:off x="1187280" y="3860640"/>
            <a:ext cx="66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возник у предмета под действием другого признак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15"/>
          <p:cNvSpPr/>
          <p:nvPr/>
        </p:nvSpPr>
        <p:spPr>
          <a:xfrm>
            <a:off x="755640" y="4221000"/>
            <a:ext cx="748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У меня могут быть разные суффиксы – все зависит от времени и настроения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настоящем времени ко мне присоединяются суффиксы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 Box 16"/>
          <p:cNvSpPr/>
          <p:nvPr/>
        </p:nvSpPr>
        <p:spPr>
          <a:xfrm>
            <a:off x="1908000" y="5911920"/>
            <a:ext cx="25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прошедшем -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Text Box 17"/>
          <p:cNvSpPr/>
          <p:nvPr/>
        </p:nvSpPr>
        <p:spPr>
          <a:xfrm>
            <a:off x="4140360" y="5877000"/>
            <a:ext cx="47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-вш-, -ш-, -енн-, -нн-, -т-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WordArt 4"/>
          <p:cNvSpPr txBox="1"/>
          <p:nvPr/>
        </p:nvSpPr>
        <p:spPr>
          <a:xfrm>
            <a:off x="684360" y="1700280"/>
            <a:ext cx="784836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703dff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4000" spc="1" strike="noStrike">
                <a:ln w="9360">
                  <a:solidFill>
                    <a:srgbClr val="703dff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Н-НН </a:t>
            </a:r>
            <a:endParaRPr b="0" lang="en-US" sz="4000" spc="1" strike="noStrike">
              <a:ln w="9360">
                <a:solidFill>
                  <a:srgbClr val="703dff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703dff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В СУФФИКСАХ СТРАДАТЕЛЬНЫХ ПРИЧАСТИЙ </a:t>
            </a:r>
            <a:endParaRPr b="0" lang="en-US" sz="4000" spc="1" strike="noStrike">
              <a:ln w="9360">
                <a:solidFill>
                  <a:srgbClr val="703dff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703dff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ПРОШЕДШЕГО ВРЕМЕНИ.</a:t>
            </a:r>
            <a:endParaRPr b="0" lang="en-US" sz="4000" spc="1" strike="noStrike">
              <a:ln w="9360">
                <a:solidFill>
                  <a:srgbClr val="703dff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1" strike="noStrike">
              <a:ln w="9360">
                <a:solidFill>
                  <a:srgbClr val="703dff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703dff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ОДНА  Н</a:t>
            </a:r>
            <a:endParaRPr b="0" lang="en-US" sz="4000" spc="1" strike="noStrike">
              <a:ln w="9360">
                <a:solidFill>
                  <a:srgbClr val="703dff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703dff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4000" spc="1" strike="noStrike">
                <a:ln w="9360">
                  <a:solidFill>
                    <a:srgbClr val="703dff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В ОТГЛАГОЛЬНЫХ ПРИЛАГАТЕЛЬНЫХ</a:t>
            </a:r>
            <a:endParaRPr b="0" lang="en-US" sz="4000" spc="1" strike="noStrike">
              <a:ln w="9360">
                <a:solidFill>
                  <a:srgbClr val="703dff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64216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) Владимир ехал полем, пересечённым глубокими оврагам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9" name="Group 7"/>
          <p:cNvGrpSpPr/>
          <p:nvPr/>
        </p:nvGrpSpPr>
        <p:grpSpPr>
          <a:xfrm>
            <a:off x="4067280" y="333360"/>
            <a:ext cx="144000" cy="144360"/>
            <a:chOff x="4067280" y="333360"/>
            <a:chExt cx="144000" cy="144360"/>
          </a:xfrm>
        </p:grpSpPr>
        <p:sp>
          <p:nvSpPr>
            <p:cNvPr id="180" name="Line 4"/>
            <p:cNvSpPr/>
            <p:nvPr/>
          </p:nvSpPr>
          <p:spPr>
            <a:xfrm flipH="1">
              <a:off x="4067280" y="333360"/>
              <a:ext cx="143280" cy="14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" name="Line 6"/>
            <p:cNvSpPr/>
            <p:nvPr/>
          </p:nvSpPr>
          <p:spPr>
            <a:xfrm>
              <a:off x="4096080" y="333360"/>
              <a:ext cx="115200" cy="14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2" name="Line 8"/>
          <p:cNvSpPr/>
          <p:nvPr/>
        </p:nvSpPr>
        <p:spPr>
          <a:xfrm>
            <a:off x="4356000" y="979560"/>
            <a:ext cx="0" cy="28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Line 9"/>
          <p:cNvSpPr/>
          <p:nvPr/>
        </p:nvSpPr>
        <p:spPr>
          <a:xfrm>
            <a:off x="4859280" y="549360"/>
            <a:ext cx="0" cy="28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Freeform 21"/>
          <p:cNvSpPr/>
          <p:nvPr/>
        </p:nvSpPr>
        <p:spPr>
          <a:xfrm>
            <a:off x="611280" y="1268280"/>
            <a:ext cx="3673440" cy="716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Freeform 23"/>
          <p:cNvSpPr/>
          <p:nvPr/>
        </p:nvSpPr>
        <p:spPr>
          <a:xfrm>
            <a:off x="4859280" y="836640"/>
            <a:ext cx="2592360" cy="712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6" name="Group 29"/>
          <p:cNvGrpSpPr/>
          <p:nvPr/>
        </p:nvGrpSpPr>
        <p:grpSpPr>
          <a:xfrm>
            <a:off x="6300720" y="188640"/>
            <a:ext cx="574560" cy="288720"/>
            <a:chOff x="6300720" y="188640"/>
            <a:chExt cx="574560" cy="288720"/>
          </a:xfrm>
        </p:grpSpPr>
        <p:sp>
          <p:nvSpPr>
            <p:cNvPr id="187" name="Line 27"/>
            <p:cNvSpPr/>
            <p:nvPr/>
          </p:nvSpPr>
          <p:spPr>
            <a:xfrm flipV="1">
              <a:off x="6300720" y="188640"/>
              <a:ext cx="287280" cy="288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" name="Line 28"/>
            <p:cNvSpPr/>
            <p:nvPr/>
          </p:nvSpPr>
          <p:spPr>
            <a:xfrm>
              <a:off x="6588000" y="189000"/>
              <a:ext cx="287280" cy="288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9" name="Text Box 30"/>
          <p:cNvSpPr/>
          <p:nvPr/>
        </p:nvSpPr>
        <p:spPr>
          <a:xfrm>
            <a:off x="5003640" y="18900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сов. вид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0" name="Group 37"/>
          <p:cNvGrpSpPr/>
          <p:nvPr/>
        </p:nvGrpSpPr>
        <p:grpSpPr>
          <a:xfrm>
            <a:off x="539640" y="1477800"/>
            <a:ext cx="7056720" cy="671400"/>
            <a:chOff x="539640" y="1477800"/>
            <a:chExt cx="7056720" cy="671400"/>
          </a:xfrm>
        </p:grpSpPr>
        <p:sp>
          <p:nvSpPr>
            <p:cNvPr id="191" name="Text Box 31"/>
            <p:cNvSpPr/>
            <p:nvPr/>
          </p:nvSpPr>
          <p:spPr>
            <a:xfrm>
              <a:off x="539640" y="1628640"/>
              <a:ext cx="705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2) У крыльца стояли оседланные кони.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92" name="Group 32"/>
            <p:cNvGrpSpPr/>
            <p:nvPr/>
          </p:nvGrpSpPr>
          <p:grpSpPr>
            <a:xfrm>
              <a:off x="5508720" y="1557000"/>
              <a:ext cx="358560" cy="216000"/>
              <a:chOff x="5508720" y="1557000"/>
              <a:chExt cx="358560" cy="216000"/>
            </a:xfrm>
          </p:grpSpPr>
          <p:sp>
            <p:nvSpPr>
              <p:cNvPr id="193" name="Line 33"/>
              <p:cNvSpPr/>
              <p:nvPr/>
            </p:nvSpPr>
            <p:spPr>
              <a:xfrm flipV="1">
                <a:off x="5508720" y="1557000"/>
                <a:ext cx="179280" cy="215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4" name="Line 34"/>
              <p:cNvSpPr/>
              <p:nvPr/>
            </p:nvSpPr>
            <p:spPr>
              <a:xfrm>
                <a:off x="5688000" y="1557360"/>
                <a:ext cx="179280" cy="215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95" name="Text Box 35"/>
            <p:cNvSpPr/>
            <p:nvPr/>
          </p:nvSpPr>
          <p:spPr>
            <a:xfrm>
              <a:off x="4427640" y="1477800"/>
              <a:ext cx="1079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сов. вид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6" name="Group 51"/>
          <p:cNvGrpSpPr/>
          <p:nvPr/>
        </p:nvGrpSpPr>
        <p:grpSpPr>
          <a:xfrm>
            <a:off x="179280" y="2205000"/>
            <a:ext cx="8496360" cy="1595880"/>
            <a:chOff x="179280" y="2205000"/>
            <a:chExt cx="8496360" cy="1595880"/>
          </a:xfrm>
        </p:grpSpPr>
        <p:sp>
          <p:nvSpPr>
            <p:cNvPr id="197" name="Text Box 38"/>
            <p:cNvSpPr/>
            <p:nvPr/>
          </p:nvSpPr>
          <p:spPr>
            <a:xfrm>
              <a:off x="179280" y="2205000"/>
              <a:ext cx="8496360" cy="159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3) Погода утихла, тучи расходились, перед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ним лежала равнина,  устланная белым волнистым ковром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98" name="Group 50"/>
            <p:cNvGrpSpPr/>
            <p:nvPr/>
          </p:nvGrpSpPr>
          <p:grpSpPr>
            <a:xfrm>
              <a:off x="2771640" y="2709720"/>
              <a:ext cx="5185080" cy="1079640"/>
              <a:chOff x="2771640" y="2709720"/>
              <a:chExt cx="5185080" cy="1079640"/>
            </a:xfrm>
          </p:grpSpPr>
          <p:sp>
            <p:nvSpPr>
              <p:cNvPr id="199" name="Freeform 26"/>
              <p:cNvSpPr/>
              <p:nvPr/>
            </p:nvSpPr>
            <p:spPr>
              <a:xfrm flipV="1">
                <a:off x="4859280" y="3283920"/>
                <a:ext cx="3097440" cy="730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00" name="Group 39"/>
              <p:cNvGrpSpPr/>
              <p:nvPr/>
            </p:nvGrpSpPr>
            <p:grpSpPr>
              <a:xfrm>
                <a:off x="3924360" y="2781360"/>
                <a:ext cx="144000" cy="144360"/>
                <a:chOff x="3924360" y="2781360"/>
                <a:chExt cx="144000" cy="144360"/>
              </a:xfrm>
            </p:grpSpPr>
            <p:sp>
              <p:nvSpPr>
                <p:cNvPr id="201" name="Line 40"/>
                <p:cNvSpPr/>
                <p:nvPr/>
              </p:nvSpPr>
              <p:spPr>
                <a:xfrm flipH="1">
                  <a:off x="3924360" y="2781360"/>
                  <a:ext cx="143280" cy="144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2" name="Line 41"/>
                <p:cNvSpPr/>
                <p:nvPr/>
              </p:nvSpPr>
              <p:spPr>
                <a:xfrm>
                  <a:off x="3953160" y="2781360"/>
                  <a:ext cx="115200" cy="144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03" name="Line 42"/>
              <p:cNvSpPr/>
              <p:nvPr/>
            </p:nvSpPr>
            <p:spPr>
              <a:xfrm>
                <a:off x="6156360" y="3355920"/>
                <a:ext cx="0" cy="28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4" name="Line 43"/>
              <p:cNvSpPr/>
              <p:nvPr/>
            </p:nvSpPr>
            <p:spPr>
              <a:xfrm>
                <a:off x="4859280" y="2997360"/>
                <a:ext cx="0" cy="288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5" name="Freeform 45"/>
              <p:cNvSpPr/>
              <p:nvPr/>
            </p:nvSpPr>
            <p:spPr>
              <a:xfrm>
                <a:off x="2771640" y="3718080"/>
                <a:ext cx="3313080" cy="71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06" name="Group 46"/>
              <p:cNvGrpSpPr/>
              <p:nvPr/>
            </p:nvGrpSpPr>
            <p:grpSpPr>
              <a:xfrm>
                <a:off x="5940360" y="2781000"/>
                <a:ext cx="358560" cy="216000"/>
                <a:chOff x="5940360" y="2781000"/>
                <a:chExt cx="358560" cy="216000"/>
              </a:xfrm>
            </p:grpSpPr>
            <p:sp>
              <p:nvSpPr>
                <p:cNvPr id="207" name="Line 47"/>
                <p:cNvSpPr/>
                <p:nvPr/>
              </p:nvSpPr>
              <p:spPr>
                <a:xfrm flipV="1">
                  <a:off x="5940360" y="2781000"/>
                  <a:ext cx="179280" cy="2156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8" name="Line 48"/>
                <p:cNvSpPr/>
                <p:nvPr/>
              </p:nvSpPr>
              <p:spPr>
                <a:xfrm>
                  <a:off x="6119640" y="2781360"/>
                  <a:ext cx="179280" cy="2156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09" name="Text Box 49"/>
              <p:cNvSpPr/>
              <p:nvPr/>
            </p:nvSpPr>
            <p:spPr>
              <a:xfrm>
                <a:off x="4859280" y="2709720"/>
                <a:ext cx="1079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сов. вид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10" name="Group 57"/>
          <p:cNvGrpSpPr/>
          <p:nvPr/>
        </p:nvGrpSpPr>
        <p:grpSpPr>
          <a:xfrm>
            <a:off x="611280" y="3789360"/>
            <a:ext cx="8532720" cy="1091520"/>
            <a:chOff x="611280" y="3789360"/>
            <a:chExt cx="8532720" cy="1091520"/>
          </a:xfrm>
        </p:grpSpPr>
        <p:sp>
          <p:nvSpPr>
            <p:cNvPr id="211" name="Text Box 52"/>
            <p:cNvSpPr/>
            <p:nvPr/>
          </p:nvSpPr>
          <p:spPr>
            <a:xfrm>
              <a:off x="611280" y="3933720"/>
              <a:ext cx="8532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4) Последняя туча рассеянной бури! Одна ты несешься по ясной лазури.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2" name="Text Box 53"/>
            <p:cNvSpPr/>
            <p:nvPr/>
          </p:nvSpPr>
          <p:spPr>
            <a:xfrm>
              <a:off x="3995640" y="3789360"/>
              <a:ext cx="107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сов. вид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13" name="Group 54"/>
            <p:cNvGrpSpPr/>
            <p:nvPr/>
          </p:nvGrpSpPr>
          <p:grpSpPr>
            <a:xfrm>
              <a:off x="5148360" y="3860280"/>
              <a:ext cx="358560" cy="216000"/>
              <a:chOff x="5148360" y="3860280"/>
              <a:chExt cx="358560" cy="216000"/>
            </a:xfrm>
          </p:grpSpPr>
          <p:sp>
            <p:nvSpPr>
              <p:cNvPr id="214" name="Line 55"/>
              <p:cNvSpPr/>
              <p:nvPr/>
            </p:nvSpPr>
            <p:spPr>
              <a:xfrm flipV="1">
                <a:off x="5148360" y="3860280"/>
                <a:ext cx="179280" cy="215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5" name="Line 56"/>
              <p:cNvSpPr/>
              <p:nvPr/>
            </p:nvSpPr>
            <p:spPr>
              <a:xfrm>
                <a:off x="5327640" y="3860640"/>
                <a:ext cx="179280" cy="215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16" name="Group 80"/>
          <p:cNvGrpSpPr/>
          <p:nvPr/>
        </p:nvGrpSpPr>
        <p:grpSpPr>
          <a:xfrm>
            <a:off x="395280" y="4869000"/>
            <a:ext cx="8137440" cy="996480"/>
            <a:chOff x="395280" y="4869000"/>
            <a:chExt cx="8137440" cy="996480"/>
          </a:xfrm>
        </p:grpSpPr>
        <p:sp>
          <p:nvSpPr>
            <p:cNvPr id="217" name="Text Box 58"/>
            <p:cNvSpPr/>
            <p:nvPr/>
          </p:nvSpPr>
          <p:spPr>
            <a:xfrm>
              <a:off x="395280" y="4869000"/>
              <a:ext cx="813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5) Марья Ивановна явилась к ужину бледная и заплаканная.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" name="Text Box 59"/>
            <p:cNvSpPr/>
            <p:nvPr/>
          </p:nvSpPr>
          <p:spPr>
            <a:xfrm>
              <a:off x="3419640" y="5222880"/>
              <a:ext cx="1079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сов. вид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19" name="Group 60"/>
            <p:cNvGrpSpPr/>
            <p:nvPr/>
          </p:nvGrpSpPr>
          <p:grpSpPr>
            <a:xfrm>
              <a:off x="4788000" y="5300280"/>
              <a:ext cx="287280" cy="144720"/>
              <a:chOff x="4788000" y="5300280"/>
              <a:chExt cx="287280" cy="144720"/>
            </a:xfrm>
          </p:grpSpPr>
          <p:sp>
            <p:nvSpPr>
              <p:cNvPr id="220" name="Line 61"/>
              <p:cNvSpPr/>
              <p:nvPr/>
            </p:nvSpPr>
            <p:spPr>
              <a:xfrm flipV="1">
                <a:off x="4788000" y="5300280"/>
                <a:ext cx="143640" cy="144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1" name="Line 62"/>
              <p:cNvSpPr/>
              <p:nvPr/>
            </p:nvSpPr>
            <p:spPr>
              <a:xfrm>
                <a:off x="4931640" y="5300640"/>
                <a:ext cx="143640" cy="144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22" name="Group 79"/>
          <p:cNvGrpSpPr/>
          <p:nvPr/>
        </p:nvGrpSpPr>
        <p:grpSpPr>
          <a:xfrm>
            <a:off x="900000" y="5661000"/>
            <a:ext cx="8028000" cy="1020240"/>
            <a:chOff x="900000" y="5661000"/>
            <a:chExt cx="8028000" cy="1020240"/>
          </a:xfrm>
        </p:grpSpPr>
        <p:grpSp>
          <p:nvGrpSpPr>
            <p:cNvPr id="223" name="Group 74"/>
            <p:cNvGrpSpPr/>
            <p:nvPr/>
          </p:nvGrpSpPr>
          <p:grpSpPr>
            <a:xfrm>
              <a:off x="900000" y="5661000"/>
              <a:ext cx="8028000" cy="1020240"/>
              <a:chOff x="900000" y="5661000"/>
              <a:chExt cx="8028000" cy="1020240"/>
            </a:xfrm>
          </p:grpSpPr>
          <p:sp>
            <p:nvSpPr>
              <p:cNvPr id="224" name="Text Box 63"/>
              <p:cNvSpPr/>
              <p:nvPr/>
            </p:nvSpPr>
            <p:spPr>
              <a:xfrm>
                <a:off x="900000" y="5734080"/>
                <a:ext cx="80280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6) Здесь увидел Михаила Пущина, раненного в прошлом году</a:t>
                </a: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25" name="Group 73"/>
              <p:cNvGrpSpPr/>
              <p:nvPr/>
            </p:nvGrpSpPr>
            <p:grpSpPr>
              <a:xfrm>
                <a:off x="2484360" y="5661000"/>
                <a:ext cx="4824360" cy="1008000"/>
                <a:chOff x="2484360" y="5661000"/>
                <a:chExt cx="4824360" cy="1008000"/>
              </a:xfrm>
            </p:grpSpPr>
            <p:grpSp>
              <p:nvGrpSpPr>
                <p:cNvPr id="226" name="Group 64"/>
                <p:cNvGrpSpPr/>
                <p:nvPr/>
              </p:nvGrpSpPr>
              <p:grpSpPr>
                <a:xfrm>
                  <a:off x="7020000" y="5661000"/>
                  <a:ext cx="144000" cy="144360"/>
                  <a:chOff x="7020000" y="5661000"/>
                  <a:chExt cx="144000" cy="144360"/>
                </a:xfrm>
              </p:grpSpPr>
              <p:sp>
                <p:nvSpPr>
                  <p:cNvPr id="227" name="Line 65"/>
                  <p:cNvSpPr/>
                  <p:nvPr/>
                </p:nvSpPr>
                <p:spPr>
                  <a:xfrm flipH="1">
                    <a:off x="7020000" y="5661000"/>
                    <a:ext cx="143280" cy="144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28" name="Line 66"/>
                  <p:cNvSpPr/>
                  <p:nvPr/>
                </p:nvSpPr>
                <p:spPr>
                  <a:xfrm>
                    <a:off x="7048800" y="5661000"/>
                    <a:ext cx="115200" cy="144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29" name="Group 72"/>
                <p:cNvGrpSpPr/>
                <p:nvPr/>
              </p:nvGrpSpPr>
              <p:grpSpPr>
                <a:xfrm>
                  <a:off x="2484360" y="6308640"/>
                  <a:ext cx="4824360" cy="360360"/>
                  <a:chOff x="2484360" y="6308640"/>
                  <a:chExt cx="4824360" cy="360360"/>
                </a:xfrm>
              </p:grpSpPr>
              <p:sp>
                <p:nvSpPr>
                  <p:cNvPr id="230" name="Freeform 44"/>
                  <p:cNvSpPr/>
                  <p:nvPr/>
                </p:nvSpPr>
                <p:spPr>
                  <a:xfrm>
                    <a:off x="2556000" y="6597720"/>
                    <a:ext cx="4537080" cy="71280"/>
                  </a:xfrm>
                  <a:prstGeom prst="pie">
                    <a:avLst/>
                  </a:pr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31" name="Line 70"/>
                  <p:cNvSpPr/>
                  <p:nvPr/>
                </p:nvSpPr>
                <p:spPr>
                  <a:xfrm>
                    <a:off x="2484360" y="6308640"/>
                    <a:ext cx="0" cy="2890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32" name="Line 71"/>
                  <p:cNvSpPr/>
                  <p:nvPr/>
                </p:nvSpPr>
                <p:spPr>
                  <a:xfrm>
                    <a:off x="7308720" y="6308640"/>
                    <a:ext cx="0" cy="2890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</p:grpSp>
        <p:grpSp>
          <p:nvGrpSpPr>
            <p:cNvPr id="233" name="Group 75"/>
            <p:cNvGrpSpPr/>
            <p:nvPr/>
          </p:nvGrpSpPr>
          <p:grpSpPr>
            <a:xfrm>
              <a:off x="3203640" y="6165360"/>
              <a:ext cx="502560" cy="143280"/>
              <a:chOff x="3203640" y="6165360"/>
              <a:chExt cx="502560" cy="143280"/>
            </a:xfrm>
          </p:grpSpPr>
          <p:sp>
            <p:nvSpPr>
              <p:cNvPr id="234" name="Line 76"/>
              <p:cNvSpPr/>
              <p:nvPr/>
            </p:nvSpPr>
            <p:spPr>
              <a:xfrm flipV="1">
                <a:off x="3203640" y="6165360"/>
                <a:ext cx="251280" cy="142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5" name="Line 77"/>
              <p:cNvSpPr/>
              <p:nvPr/>
            </p:nvSpPr>
            <p:spPr>
              <a:xfrm>
                <a:off x="3454920" y="6165720"/>
                <a:ext cx="251280" cy="142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36" name="Text Box 78"/>
            <p:cNvSpPr/>
            <p:nvPr/>
          </p:nvSpPr>
          <p:spPr>
            <a:xfrm>
              <a:off x="2195640" y="6021360"/>
              <a:ext cx="1079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сов. вид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WordArt 4"/>
          <p:cNvSpPr txBox="1"/>
          <p:nvPr/>
        </p:nvSpPr>
        <p:spPr>
          <a:xfrm>
            <a:off x="684360" y="1700280"/>
            <a:ext cx="784836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703dff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4000" spc="1" strike="noStrike">
                <a:ln w="9360">
                  <a:solidFill>
                    <a:srgbClr val="703dff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Н-НН </a:t>
            </a:r>
            <a:endParaRPr b="0" lang="en-US" sz="4000" spc="1" strike="noStrike">
              <a:ln w="9360">
                <a:solidFill>
                  <a:srgbClr val="703dff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703dff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В СУФФИКСАХ СТРАДАТЕЛЬНЫХ ПРИЧАСТИЙ </a:t>
            </a:r>
            <a:endParaRPr b="0" lang="en-US" sz="4000" spc="1" strike="noStrike">
              <a:ln w="9360">
                <a:solidFill>
                  <a:srgbClr val="703dff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703dff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ПРОШЕДШЕГО ВРЕМЕНИ.</a:t>
            </a:r>
            <a:endParaRPr b="0" lang="en-US" sz="4000" spc="1" strike="noStrike">
              <a:ln w="9360">
                <a:solidFill>
                  <a:srgbClr val="703dff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1" strike="noStrike">
              <a:ln w="9360">
                <a:solidFill>
                  <a:srgbClr val="703dff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703dff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ОДНА  Н</a:t>
            </a:r>
            <a:endParaRPr b="0" lang="en-US" sz="4000" spc="1" strike="noStrike">
              <a:ln w="9360">
                <a:solidFill>
                  <a:srgbClr val="703dff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703dff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4000" spc="1" strike="noStrike">
                <a:ln w="9360">
                  <a:solidFill>
                    <a:srgbClr val="703dff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В ОТГЛАГОЛЬНЫХ ПРИЛАГАТЕЛЬНЫХ</a:t>
            </a:r>
            <a:endParaRPr b="0" lang="en-US" sz="4000" spc="1" strike="noStrike">
              <a:ln w="9360">
                <a:solidFill>
                  <a:srgbClr val="703dff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687096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Проверь себя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050920" y="1052640"/>
          <a:ext cx="5832720" cy="5719680"/>
        </p:xfrm>
        <a:graphic>
          <a:graphicData uri="http://schemas.openxmlformats.org/drawingml/2006/table">
            <a:tbl>
              <a:tblPr/>
              <a:tblGrid>
                <a:gridCol w="2917800"/>
                <a:gridCol w="2914920"/>
              </a:tblGrid>
              <a:tr h="55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I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 вариа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II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 вариа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6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7345440" cy="121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703dff"/>
                </a:solidFill>
                <a:latin typeface="Comic Sans MS"/>
              </a:rPr>
              <a:t>Домашнее задание:</a:t>
            </a:r>
            <a:endParaRPr b="0" lang="en-US" sz="5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468360" y="2276640"/>
            <a:ext cx="7848720" cy="23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новной уровень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упражнение 119, выучить правил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двинутый уровень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ставьте словарный диктант по теме «Написание н-нн в суффиксах страдательных причастий прошедшего времени. Н в отглагольных прилагательных»;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учить правил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ровень повышенной сложности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ставьте текстовый диктант (100-110 слов) по теме «Написание н-нн в суффиксах страдательных причастий прошедшего времени. Н в отглагольных прилагательных»; выучить правил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4T11:42:53Z</dcterms:created>
  <dc:creator>Name</dc:creator>
  <dc:description/>
  <dc:language>en-US</dc:language>
  <cp:lastModifiedBy>Admin</cp:lastModifiedBy>
  <dcterms:modified xsi:type="dcterms:W3CDTF">2008-10-21T13:05:35Z</dcterms:modified>
  <cp:revision>27</cp:revision>
  <dc:subject/>
  <dc:title>Слайд 1</dc:title>
</cp:coreProperties>
</file>