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408-6224-4CAD-8D5A-EB5EEA74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931-FF94-4E3A-AC21-91385030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663-0D59-4EB6-8079-0217EE3D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53F-50F6-4E49-82D1-A89C1BDD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D0AA0-5CC0-42DE-BB8A-9D4ADB8C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BC67A-B053-4D8E-81A1-22B2AD29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624BB-5C1D-4DBE-9AD5-902C7582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2A6A0-A905-48D2-985B-9084ABFE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877E-FB0B-4310-AEE7-5F97B676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4E36C-AC00-4A3D-9BC2-608DDAD6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5556-F10C-4B8B-8EAB-A0DF4F6E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70E-DCC2-4BC1-8405-C6888485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D3D50-F0A9-45C8-8323-BE41AE7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2E6E-33AE-4E1B-8481-307DDDB9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4BF49-5FD2-4839-8242-AA97640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57993-6C5A-4A05-963A-F4E53703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AFF45-083E-4C8D-A4DB-740311B1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B734-B8A6-4545-A4B4-0CD5BF6D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007F-7FBE-4F8F-9515-7E479276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D46F-E119-4CC0-A403-D58D424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79D2-7ADB-42E5-BA62-AC2F3D66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EAF5-5912-402E-BB0D-B88FC4BD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322-15B9-4B31-B5E7-682F31FE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F37A-A5BD-428F-8FC6-7C1A1B0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1707-1964-4AF9-AC4B-36923CB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B4E2-1FA5-49C5-BFC9-2BA69B29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6ADF-D937-4DD3-B472-9DF7AE8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1510-69F6-4D4A-845C-93D5DFC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FA2D-FBB8-47F8-84FA-11686D45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5808-624E-40D1-A050-4D825A38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98E7C-2C8F-49AD-9605-83D1D90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ED3DF-C356-40A8-B740-E4C5DD3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BBC8A-09B8-4AF1-BFA6-F700A90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3C7-6304-4DF4-8124-D32F8EC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C6228-0F6C-4D0D-8119-2905861B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6410E-BE48-407B-94DF-B92F39EB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5A39A-DA4B-4268-AEBE-956968F4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B1374-31C5-471D-8DAA-A81B7337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A001A-5446-43BC-8064-0954184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8B6E0-0A30-472C-AB27-478FEF8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95043-1742-4680-93FD-2AD8F400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CC8D1-46BB-4372-9A72-4927FCE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5C7A0-2119-4A75-82C5-8D6092DD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71A-F82F-4878-A67A-84E6EB64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84B-BCBC-46D1-9C11-B082DE0D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8F5-1A46-4A54-BF58-17226B07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F53-5B49-4C0E-ABFC-F4C2F02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C43-3B3C-4560-A784-7CA638AA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109-E8B8-48E4-B58E-77E7930749D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56CD-950F-4E2B-9991-BB8071D83A3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BDF3-6FEB-444A-996C-A05249F91C0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F839-EA3D-4007-AF6E-ED1217838DC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838080" y="1295280"/>
            <a:ext cx="7712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Times New Roman"/>
              </a:rPr>
              <a:t>Повторение и обобщ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Times New Roman"/>
              </a:rPr>
              <a:t>изученного о предлог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4460760" y="4419720"/>
            <a:ext cx="403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подготовлен учителем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№ 497  г. С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ченко В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"/>
          <p:cNvSpPr/>
          <p:nvPr/>
        </p:nvSpPr>
        <p:spPr>
          <a:xfrm>
            <a:off x="152280" y="1522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оставьте связный текст, укажите производные и непроизводные пред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52280" y="1905120"/>
            <a:ext cx="899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Тихо, в, старый, сосновый, 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Ручей, лесной, струится, неторопливо, по, чистое д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, течение, много, кам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Берег, вдоль, лежат, деревья, повале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А, вокруг, могучие сосны, возвышается, н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Высокая, стройная, из-за, выглядывают, сосна, медвежата, смеш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15228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Проверьте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52280" y="1295280"/>
            <a:ext cx="8823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ихо в старом сосновом бору. Лесной ручей неторопливо струится по чистому дну. В течении много камней. Вдоль берега лежат поваленные деревья. А вокруг них возвышаются могучие сосны. Из-за высокой ,стройной сосны выглядывают смешные медвеж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168120" y="5029200"/>
            <a:ext cx="867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Задание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. Укажите стиль тек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2. Найдите и выпишите эпит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0" y="457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лова какой части речи выделены? Измените предложения так, чтобы выделенные слова стали предлог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216000" y="25146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были спортсмены-лыжн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осредине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стоит памятник поэ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роснувшись, я вспомнил, что произошло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накануне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457200" y="3160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роверьте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304920" y="114300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Впереди меня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были спортсмены-лыжни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Посредине площади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тоит памятник поэт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Проснувшись, я вспомнил, что произошло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акануне праздника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14400" y="3794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152280" y="22096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Упр. № 308 (по заданию учебника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Составить кроссворд по                      упражнению № 30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44440" y="1133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систематизировать знания о предл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04920" y="1593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совершенствовать навык правопис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изводных  предл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47680" y="24098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совершенствовать навык различения производных  предлогов  и других частей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68640" y="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Цели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304920" y="70164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Образовательна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457200" y="324180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Развивающа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395280" y="3672000"/>
            <a:ext cx="74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азвивать связную речь учащихся, внимание, умение сравнивать, обобщ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33520" y="450360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оспитательна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95280" y="4964040"/>
            <a:ext cx="80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ктивизировать познавательную деятельность, воспитывать интерес к языку и речевой куль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5"/>
          <p:cNvSpPr/>
          <p:nvPr/>
        </p:nvSpPr>
        <p:spPr>
          <a:xfrm>
            <a:off x="1384200" y="152280"/>
            <a:ext cx="6553440" cy="2210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ы предлог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259092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4e3b30"/>
                          </a:solidFill>
                          <a:latin typeface="Times New Roman"/>
                        </a:rPr>
                        <a:t>по происхождени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e3b3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4e3b30"/>
                          </a:solidFill>
                          <a:latin typeface="Times New Roman"/>
                        </a:rPr>
                        <a:t>по состав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AutoShape 11"/>
          <p:cNvSpPr/>
          <p:nvPr/>
        </p:nvSpPr>
        <p:spPr>
          <a:xfrm>
            <a:off x="838080" y="4343400"/>
            <a:ext cx="3048120" cy="17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д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оизв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5105520" y="4343400"/>
            <a:ext cx="2971800" cy="17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6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6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Прямая со стрелкой 7"/>
          <p:cNvCxnSpPr/>
          <p:nvPr/>
        </p:nvCxnSpPr>
        <p:spPr>
          <a:xfrm>
            <a:off x="6172200" y="2286000"/>
            <a:ext cx="419760" cy="4579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186" name="Прямая со стрелкой 11"/>
          <p:cNvCxnSpPr/>
          <p:nvPr/>
        </p:nvCxnSpPr>
        <p:spPr>
          <a:xfrm flipH="1">
            <a:off x="2307960" y="2228760"/>
            <a:ext cx="413280" cy="496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187" name="Прямая со стрелкой 17"/>
          <p:cNvCxnSpPr/>
          <p:nvPr/>
        </p:nvCxnSpPr>
        <p:spPr>
          <a:xfrm>
            <a:off x="2361960" y="3276720"/>
            <a:ext cx="1080" cy="915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188" name="Прямая со стрелкой 21"/>
          <p:cNvCxnSpPr/>
          <p:nvPr/>
        </p:nvCxnSpPr>
        <p:spPr>
          <a:xfrm>
            <a:off x="6590880" y="3276720"/>
            <a:ext cx="1080" cy="915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191" name="_s1028"/>
            <p:cNvCxnSpPr>
              <a:stCxn id="192" idx="0"/>
              <a:endCxn id="193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29"/>
            <p:cNvCxnSpPr>
              <a:stCxn id="195" idx="0"/>
              <a:endCxn id="196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7" name="_s1030"/>
            <p:cNvCxnSpPr>
              <a:stCxn id="193" idx="1"/>
              <a:endCxn id="198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1031"/>
            <p:cNvCxnSpPr>
              <a:stCxn id="196" idx="3"/>
              <a:endCxn id="198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8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fefa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ffffff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ffffff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ffffff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8600" y="1371600"/>
          <a:ext cx="8610480" cy="485316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433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</a:t>
                      </a:r>
                      <a:r>
                        <a:rPr b="1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(=по причин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</a:t>
                      </a:r>
                      <a:r>
                        <a:rPr b="1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(=подобн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</a:t>
                      </a:r>
                      <a:r>
                        <a:rPr b="1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(=врод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</a:t>
                      </a:r>
                      <a:r>
                        <a:rPr b="1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(=з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 (=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 (=из-з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 (=вопрек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</a:t>
                      </a:r>
                      <a:r>
                        <a:rPr b="1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(=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1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 следствии по дел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а подобие треуголь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а счет фир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Иметь в вид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е смотря на клавиш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 течении ре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 продолжении расска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последств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01" name="AutoShape 32" descr=""/>
          <p:cNvPicPr/>
          <p:nvPr/>
        </p:nvPicPr>
        <p:blipFill>
          <a:blip r:embed="rId1"/>
          <a:stretch/>
        </p:blipFill>
        <p:spPr>
          <a:xfrm>
            <a:off x="2060640" y="298440"/>
            <a:ext cx="51814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52280" y="3128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авило-помощ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1136520" y="18637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изводный предлог можно заменить непроизводным предлог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411120" y="35402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жду непроизводным предлогом и самостоятельной частью речи можно вставить вопрос или другое сло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711360" y="5638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речие можно изъять из предложения, не исказив его смысл, а предлог нельз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низ 9"/>
          <p:cNvSpPr/>
          <p:nvPr/>
        </p:nvSpPr>
        <p:spPr>
          <a:xfrm>
            <a:off x="4257720" y="944640"/>
            <a:ext cx="237960" cy="7268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трелка вниз 10"/>
          <p:cNvSpPr/>
          <p:nvPr/>
        </p:nvSpPr>
        <p:spPr>
          <a:xfrm>
            <a:off x="4268880" y="2835360"/>
            <a:ext cx="245880" cy="7221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трелка вниз 11"/>
          <p:cNvSpPr/>
          <p:nvPr/>
        </p:nvSpPr>
        <p:spPr>
          <a:xfrm>
            <a:off x="4329000" y="4937040"/>
            <a:ext cx="243000" cy="70164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одержимое 2"/>
          <p:cNvSpPr/>
          <p:nvPr/>
        </p:nvSpPr>
        <p:spPr>
          <a:xfrm>
            <a:off x="0" y="22860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ить ошибку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? следстви…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...сеян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ить ошибку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? следстви…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уголовному дел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монтировали дом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должени…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сяц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должени…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мана встретились старые геро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го брош?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?подобие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?виду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ка времени не будем откл…няться от тем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ы имеете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?виду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?смотря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не?погоду он бежал через парк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? смотря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 ноги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?встречу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лючения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1295280" y="304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еред</a:t>
            </a:r>
            <a:r>
              <a:rPr b="0" lang="ru-RU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ами</a:t>
            </a:r>
            <a:r>
              <a:rPr b="0" lang="ru-RU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нонимичные</a:t>
            </a:r>
            <a:r>
              <a:rPr b="0" lang="ru-RU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конструкции</a:t>
            </a:r>
            <a:r>
              <a:rPr b="0" lang="ru-RU" sz="2800" spc="-1" strike="noStrike">
                <a:solidFill>
                  <a:srgbClr val="fcf0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-914400" y="1752480"/>
            <a:ext cx="118872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318960" y="285840"/>
            <a:ext cx="844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И. Шишкин 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новый б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295280" y="1360440"/>
            <a:ext cx="66294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 Гориченко</dc:creator>
  <dc:description/>
  <dc:language>en-US</dc:language>
  <cp:lastModifiedBy>Дмитрий Гориченко</cp:lastModifiedBy>
  <cp:lastPrinted>2014-02-23T11:18:52Z</cp:lastPrinted>
  <dcterms:modified xsi:type="dcterms:W3CDTF">2014-12-07T13:38:11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