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120B-1120-43D8-AC5E-71A1044F74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3787-39EE-4364-9A86-8B3A92EBEE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15FD-68A1-4E94-B22D-93B236169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6AC3-2728-4C54-B8B3-CF356FD2B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10AA-3EB2-40E2-9202-64EDE23422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3547-E907-4859-92E6-AE3472DA4F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BBBC-F667-494F-9A72-4A6F8FE71C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8BDF-D984-4820-A5C3-61F87C44C4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8565-CC57-46AC-8AD9-A2C2889D4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98B7-AB76-44F3-9AD1-DF8B5FEC1F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8902-3D33-441B-AD0F-3B8FB6654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2EE6-674D-4DD9-BEAC-2F43013E66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CDF3-6665-4A70-B024-59677C52A1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601C-8435-4B0C-8A08-79DCD59C1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8EDF-9A44-44BD-B65D-C7205C3C4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53C4-B569-4F44-B332-B9A4D1B53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CF17-3EA0-44BE-9FE3-6FA91BB11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E006-550A-4A28-8395-BC3A6984CD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3E90-E963-49DE-AA71-D632C6DAD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2500-0512-4B11-A0F6-FEDF83C7D6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DA49-6DED-4065-A8E9-0A1C62DFC4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8B30-A679-47E8-8527-2E391E8656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27B4-E2E0-4609-B3DC-8276A1DCBE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926B-841A-4D04-A8AC-1F5E00A3A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41C4-05AB-451D-B62F-43E923504D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8E3B-514C-4F14-B67F-AC2EC77CF8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1203-3EBF-4B6A-8D3A-B62F36D2C3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59CA-6D0C-4D92-A776-E27795248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31E3-CFA2-4480-BC41-11226A42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A1E-85E2-4BFA-A1EC-09768629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3A6-8999-4ACD-83F1-D77BA55E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786-66BB-47A4-91FC-4E45A029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E2E7-4EBE-4D17-905D-E2E4F8F7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2287-FAAA-42B6-9900-5EBD9BD6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EEA-9005-48A6-BF09-82362761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1B0-6F17-41BD-B78B-F8046D74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1E3-C25F-4A05-B998-3E88B27F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A19-E149-4151-BAA0-1AC74857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B78-61E7-43BF-BD09-30954357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E49-7DB1-40B6-875B-68FF8F08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DFED-29D3-4983-B4A0-A68B297582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Готовимся к ЕГЭ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04920" y="1371600"/>
            <a:ext cx="847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Грамматическая  основа  предложения (ОГЭ,  задание В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581280" y="762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(шабл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2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8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7. Укажи правильный  вариант грамматической основы в предложении «Есть немало здоровых, успешных людей, уделяющих этим развлечениям  довольно много времени </a:t>
            </a: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ло здоровых люд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немало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 уделя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яющих мног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08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Rectangle 7"/>
          <p:cNvSpPr/>
          <p:nvPr/>
        </p:nvSpPr>
        <p:spPr>
          <a:xfrm>
            <a:off x="228600" y="228600"/>
            <a:ext cx="84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8. Правильный вариант грамматической основы в предложении  «Этот аквариум привезли из Москвы и поставили в спальню девоче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вариум привез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вариум привезли и постав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зли и постав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или в спаль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9. Грамматическая  основа  предложения  «Этот  молодой  человек  был нанят  как  обычный  провод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молодой  человек  был нан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человек 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молодой  человек 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человек  был нан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4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0. В предложении «Он всегда готов  помочь каждому нуждающемуся»  грамматическая осн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готов  помочь кажд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го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готов  помочь каждому нуждающему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готов пом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>
            <a:hlinkClick r:id="rId1" action="ppaction://hlinksldjump"/>
          </p:cNvPr>
          <p:cNvSpPr/>
          <p:nvPr/>
        </p:nvSpPr>
        <p:spPr>
          <a:xfrm>
            <a:off x="1295280" y="18828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>
            <a:hlinkClick r:id="rId2" action="ppaction://hlinksldjump"/>
          </p:cNvPr>
          <p:cNvSpPr/>
          <p:nvPr/>
        </p:nvSpPr>
        <p:spPr>
          <a:xfrm>
            <a:off x="1295280" y="3330720"/>
            <a:ext cx="7010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69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274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8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Указать правильный вариант  грамматической основы предложения «Здесь скоро мост через овраг построя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мост  постро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через овраг постро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скоро мост постро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Rectangle 7"/>
          <p:cNvSpPr/>
          <p:nvPr/>
        </p:nvSpPr>
        <p:spPr>
          <a:xfrm>
            <a:off x="228600" y="228600"/>
            <a:ext cx="847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Грамматическая  основа  предложения «В спине его серой, в чернеющей загорелой шее, в стриженом  затылке чудилось мне всесокрушающее  презр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чудилось  през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всесокрушающее  през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чудилось м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чуди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228600" y="228600"/>
            <a:ext cx="847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Вариант правильно указанной грамматической основы в предложении  «Доехав до места, мы пошли быстро по знакомым местам, поёживаясь и засунув руки в карман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мы пош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мы пошли быс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мы пошли поёживая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пошли быс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3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Укажи  грамматическую  основу  предложения «И убивать её мы не буд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мы не будем   уби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её   уби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убивать её мы не буд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мы не буд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31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58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году тебе предстоит сдавать Единый государственный экзамен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данной теме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емся, что эти занятия помогут тебе успешно подготовиться к ЕГЭ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елаем удачи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5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7"/>
          <p:cNvSpPr/>
          <p:nvPr/>
        </p:nvSpPr>
        <p:spPr>
          <a:xfrm>
            <a:off x="228600" y="228600"/>
            <a:ext cx="847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5050"/>
                </a:solidFill>
                <a:latin typeface="Times New Roman"/>
              </a:rPr>
              <a:t>Укажи  правильный  вариант грамматической основы  в предложении «Мой слуга, шедший впереди,  вдруг нагнулся и, восторженно вскрикнув, позвал меня»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Слуга   нагнулся  и  поз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2"/>
          <p:cNvSpPr/>
          <p:nvPr/>
        </p:nvSpPr>
        <p:spPr>
          <a:xfrm>
            <a:off x="457200" y="1752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слуга, шедший впере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восторженно вскрикну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5"/>
          <p:cNvSpPr/>
          <p:nvPr/>
        </p:nvSpPr>
        <p:spPr>
          <a:xfrm>
            <a:off x="99072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Слуга нагну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20"/>
          <p:cNvSpPr/>
          <p:nvPr/>
        </p:nvSpPr>
        <p:spPr>
          <a:xfrm>
            <a:off x="8458200" y="1676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385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409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43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7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7"/>
          <p:cNvSpPr/>
          <p:nvPr/>
        </p:nvSpPr>
        <p:spPr>
          <a:xfrm>
            <a:off x="228600" y="228600"/>
            <a:ext cx="847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5050"/>
                </a:solidFill>
                <a:latin typeface="Times New Roman"/>
              </a:rPr>
              <a:t>Укажи  грамматическую  основу  в  предложении «Её поддержка иногда казалась  мне  очень  ненадёжной  и сомнительной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поддержка казалась  ненадёжной  и сомните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поддержка иногда каз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поддержка  казалась  очень  ненадёж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поддержка  каз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482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506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9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7"/>
          <p:cNvSpPr/>
          <p:nvPr/>
        </p:nvSpPr>
        <p:spPr>
          <a:xfrm>
            <a:off x="228600" y="228600"/>
            <a:ext cx="84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Укажи  правильный  вариант грамматической основы  предложении  «Может  ли  герцогиня  де Шеврез  принять  графа  де  Ля Ф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герцогиня  может  при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Может  ли  герцоги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Может  герцогиня  принять  гра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99072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Может  ли  герцогиня  де Шевр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57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1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7"/>
          <p:cNvSpPr/>
          <p:nvPr/>
        </p:nvSpPr>
        <p:spPr>
          <a:xfrm>
            <a:off x="228600" y="228600"/>
            <a:ext cx="847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5050"/>
                </a:solidFill>
                <a:latin typeface="Times New Roman"/>
              </a:rPr>
              <a:t>Укажи  правильный  вариант грамматической основы  в предложении  «Сад  до  сих  пор  не  был  приведён  в  порядок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Сад  не  был  приведён в  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Сад  не  был  привед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приведён в  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Сад  не 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652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676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700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724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3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можно было пон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всё  можно по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можно бы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Всё  можно было по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228600" y="228600"/>
            <a:ext cx="847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кажи  правильный  вариант грамматической основы  в предложении  «По  выражению  её  лица  всё  можно было понять»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749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773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79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821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7"/>
          <p:cNvSpPr/>
          <p:nvPr/>
        </p:nvSpPr>
        <p:spPr>
          <a:xfrm>
            <a:off x="228600" y="228600"/>
            <a:ext cx="84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5050"/>
                </a:solidFill>
                <a:latin typeface="Times New Roman"/>
              </a:rPr>
              <a:t>Укажи  грамматическую  основу  предложения  «</a:t>
            </a: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Сначала эти семь длинных  свечей  показались  мне  знаком  милосердия, белыми стройными  ангелами</a:t>
            </a:r>
            <a:r>
              <a:rPr b="1" lang="ru-RU" sz="2200" spc="-1" strike="noStrike">
                <a:solidFill>
                  <a:srgbClr val="505050"/>
                </a:solidFill>
                <a:latin typeface="Times New Roman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семь  свечей  показались знаком  милосердия, анге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казались знаком  милосер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семь  свечей  показа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5"/>
          <p:cNvSpPr/>
          <p:nvPr/>
        </p:nvSpPr>
        <p:spPr>
          <a:xfrm>
            <a:off x="1066680" y="1371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семь  свечей  показались зна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870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472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00"/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93"/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94"/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1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торим 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609480" y="5943600"/>
            <a:ext cx="35816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3"/>
          <p:cNvSpPr/>
          <p:nvPr/>
        </p:nvSpPr>
        <p:spPr>
          <a:xfrm>
            <a:off x="6019920" y="5943600"/>
            <a:ext cx="28191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ГИА 2010. Русский язык. 9 класс. Типовые тестовые задания / Г.Т. ЕгораеваЗ. – М.: Издательство «Экзамен, 2010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ГИА 2014. Русский язык. 9 класс. 30 вариантов  типовых тестовых заданий /Ю.Н. Гостева, И.П. Васильевых, Г.Т. ЕгораеваЗ. – М.: Издательство «Экзамен, 2014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3. ГИА. Практикум по русскому языку/ Т.Н. Назарова, Е.Н. Скрипка. – М.: Издательство «Экзамен, 2014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блон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харова Т.А.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етодист Рязанского института развития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йдакова Т. Б.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читель русского языка и литератур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У СОШ № 3 г.Амурска Хабаровского кра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75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. В предложении «И мне захотелось бежать из детдома куда-нибудь»  грамматическая осн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е захотелось бе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оте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отелось бе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жать из дет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94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2. В предложении «В доме стало подчёркнуто тихо»  грамматическая осн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о ти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о подчёркнуто ти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13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9"/>
          <p:cNvSpPr/>
          <p:nvPr/>
        </p:nvSpPr>
        <p:spPr>
          <a:xfrm>
            <a:off x="228600" y="228600"/>
            <a:ext cx="847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Грамматическая  основа  предложения «Полетишь на космическом  корабле  астрономом, инженером  или  врач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106668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Полетишь  астрономом, инженером  или  врач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457200" y="1676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т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тишь  на кораб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тишь врач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8458200" y="1676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32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9"/>
          <p:cNvSpPr/>
          <p:nvPr/>
        </p:nvSpPr>
        <p:spPr>
          <a:xfrm>
            <a:off x="228600" y="228600"/>
            <a:ext cx="847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4. Укажи  грамматическую  основу  в  предложении «Иногда ты кажешься очень  хитры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еш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кажеш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ешься  хитр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кажешься  хитр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51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5. Правильный вариант грамматической основы в предложении «Их мужья были живы и здоров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жья бы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 ж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ья были живы и здор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ья живы и здор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7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228600" y="228600"/>
            <a:ext cx="84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6. Вариант правильно указанной грамматической основы в предложении «От обиды у неё на миг вдруг перехватило дых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ватило дых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ват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ё перехвати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вдруг перехват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Admin</cp:lastModifiedBy>
  <dcterms:modified xsi:type="dcterms:W3CDTF">2014-11-15T10:03:1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