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223F-0169-45BA-BE07-3751ABE05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азмещение в сети Интернет вариантов КИ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2 случ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городский район, г. Дзержинск – физика, резервный день, 19.06.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аннулированы. Составлены протоколы об административной ответств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з объяснительной следует, что воспользоваться помощью в решении задач в обоих случаях не удалось. Но последствия – необрат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 нарушения процедуры проведения экзамена может свидетельствовать о некачественной работе организаторов и руководителя ППЭ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равки: в 3-х регионах возбуждены дела об административных правонарушениях по отношению к организаторам экзаменов, допустивших нарушение порядка проведения ЕГЭ: Белгородская, Липецкая и Ульяновская области. Отстранены от проведения ЕГЭ организаторы из  г. Москвы, Республики Тыва, Ханты-Мансийского автономного ок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8DDA-B1C4-4676-A8C8-03E356A8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FF94-7EEF-4C75-907B-CBF434FD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3C4C-031B-4E9B-ACBE-B749AD31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19EB-82F6-4582-B779-DA92E769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FEF6-8DE5-4D6B-A857-9DA283B2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F054-3F71-4495-8926-DFA6271A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3031-871C-4685-B99C-D827E36D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A8E1-B7B0-4141-962E-5D8D5050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8907-4B9A-4635-B9C7-7E04D68C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D3D9-A135-4A6F-BF32-2D177795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1983-D86B-4C40-B487-642E7399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B3B60-BD8F-4724-B3E2-0BCA7486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627E-9499-422F-A276-19DDCAC8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6DAF-7EA3-4281-8D31-775BDC52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F99C-DDB1-4DCC-BC65-A49B2097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2F85-C3A0-468C-B7EB-2740F983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22FC-A76F-4957-B76E-F3B4B63A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F73D-86EF-4AC4-9ABA-9E0A06DF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43D6-0C7C-43B3-8FE7-1D9D181F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7824-530F-445C-90E2-AE8673D0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E8CF-1C5F-41B1-8AAD-5ABFFA74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8018-C4F0-418B-9BF1-6B5E97EA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01AE-A58A-4D6D-A5E4-7224FD9A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E8C7-B905-4A7F-A7CE-94ACFC09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40B3-8527-4189-87F4-87484E645B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C0DF-8939-4A7D-BC3D-EF11DDE0A1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. 4 порядка проведения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а, привлекаемые к проведению ЕГЭ, а в период проведения ЕГЭ также лица, сдававшие ЕГЭ, несут в соответствии с законодательством Российской Федерации ответственность за разглашение содержащихся в КИМ све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я участников ЕГЭ данное нарушение грозит аннулированием результатов ЕГЭ без права пересдачи в текущем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6BDF-1D4F-4432-908C-DCFC09DDF6F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3445560"/>
            <a:ext cx="864072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3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арушение порядка проведения ЕГЭ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484280"/>
            <a:ext cx="804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мещение в сети Интернет вариантов КИМ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случ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2997360"/>
            <a:ext cx="8201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ижегородский район, г. Дзержин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19 июня 2012 года, 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E71D-4B7E-44F5-9C9F-E9921E9BD0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1125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:30   ФЦТ  - идентификация КИМ, факт доставки в Нижегородскую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333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:20   Московский институт открытого образования  - незаконная публикация КИМ по физике в социальной сети «В контак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133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:38 МОНО –  сообщение оператора ФЦТ о  номере КИМ, опубликованного в сети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4560" y="2708280"/>
            <a:ext cx="8569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355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:50 РЦОИ –  данные об участнике ЕГЭ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55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55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ПЭ: МБОУ СОШ №19 Нижегород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55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удитории, занимаемо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55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рганизаторы в ауд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55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уководитель ПП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60278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4:00 Комиссия в составе 5 сотрудников МОНО – акт об идентификации КИМ, обнаруженного в Интернете, и КИМ указанного участника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2354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:30 Комиссия в составе 5 сотрудников МОНО – ППЭ, предъявление участнику ЕГЭ распечатки с Интер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061E-097D-4307-B31C-87AA9328DE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42920" y="19162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6 июня – Письмо Минобрнауки РФ о выявлении факта публикации КИМ с приложением изображения КИМ, ФИО участника, ППЭ, организаторов в аудитории, руководителя 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7 июня – Комиссия в составе 3 сотрудников МОНО – акт об идентификации КИМ, обнаруженного в Интернете, и КИМ указанного участника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58136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объяснительной участника ЕГЭ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99"/>
                </a:solidFill>
                <a:latin typeface="Tahoma"/>
              </a:rPr>
              <a:t>«Улучив момент, когда один из организаторов раздавал КИМы, а другой читал инструктаж по заполнению бланков, я сфотографировал страницу с задани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620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Дзержинск, МБОУ СОШ №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1B95-32E6-46A5-8CDE-0B5E069781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79167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буждение дела об административном правонару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министративный штраф в размере 3000 рубле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ена результатов ЕГЭ по физике (43 и 61 бал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3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следствия нару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E1DA-23DF-43F2-A7BE-65DC1D38689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2:15:48Z</dcterms:created>
  <dc:creator>SamLab.ws</dc:creator>
  <dc:description/>
  <dc:language>en-US</dc:language>
  <cp:lastModifiedBy>Света</cp:lastModifiedBy>
  <dcterms:modified xsi:type="dcterms:W3CDTF">2013-02-03T12:11:58Z</dcterms:modified>
  <cp:revision>101</cp:revision>
  <dc:subject/>
  <dc:title>"Организация и нормативное правовое обеспечение государственной (итоговой) аттестации выпускников                               11 (12) классов в форме ЕГЭ в 2011 году"</dc:title>
</cp:coreProperties>
</file>