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A7E7-DDB4-4C02-BE7A-451E0FCF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BDBB-98E8-4744-AD5E-49B77182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C5D4-CEC1-452C-A3D9-8A8798B3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5831-AC72-4B60-A34A-8396D5E9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F7C4-3730-431E-BA3A-E078092E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51FF-56B3-4045-8463-3C8AD49F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19DA-0B32-473E-8541-E7DA0BA9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5FA2-A7DD-40A5-9F51-D6DBEB36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A487-A40D-426C-B801-6EF20BEB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0E84-5477-46D6-9522-1AAB3531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6DF7-2E1C-48A5-BDBC-4ABC6557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CBD5-F496-4DEE-92E4-D0253C73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E8FE-42EF-41B2-92F1-90781D99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2B68-1F25-4FA4-9C74-E129A21C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77F9-85EF-4000-8DB9-3D1F6228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7860-EC8B-4C8E-BED4-371830CDA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509D-265F-4259-911F-D72A81AC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CD0F-4249-4F17-8C64-A2A2A23B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2F3C-3AC6-42D7-B09B-91C13BF1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9A26-D141-4F81-9D53-74E97F9E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28A8-1836-4DF5-94F4-431B0A61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8E39-342C-447D-989D-BACD6E13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49E1-D640-40E2-8305-4558D8DF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2221-90F4-4F04-B320-24EA3537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212B-5F39-4B8D-ABB1-6FC5BF3C08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E8A0-206C-42F2-B550-FECB63D5A5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Doc4.doc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УЧАСТНИК ЕГЭ в аудитории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Проверяет целостность ИК и аккуратно вскрывает конверт!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В конверте должны быть КИМ, бланк регистрации, бланк ответов №1, бланк ответов №2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Проверяет отсутствие типографского брака и наличие всех бланков в конверте!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В случае обнаружения участником ЕГЭ в ИК лишних (или недостающих бланков) ЕГЭ и КИМов, а также наличия в них полиграфических дефектов, необходимо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полностью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заменить ИК. Факт замены следует зафиксировать в протоколе проведения ЕГЭ в аудитории (форма 12-ППЭ)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Совместно с организатором аудитории проверяют, чтобы индивидуальные номера, расположенные на пакете ИК, КИМ и бланке регистрации участника ЕГЭ совпали!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В случае несовпадения указанных цифровых значений штрихкода или типографского брака участник ЕГЭ обращается к организатору и получает другой 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33"/>
                </a:solidFill>
                <a:latin typeface="Times New Roman"/>
              </a:rPr>
              <a:t>ЗАПОЛНЕНИЕ   БЛАНКОВ</a:t>
            </a:r>
            <a:br>
              <a:rPr sz="4000"/>
            </a:br>
            <a:r>
              <a:rPr b="0" lang="ru-RU" sz="1800" spc="-1" strike="noStrike" u="sng">
                <a:solidFill>
                  <a:srgbClr val="330033"/>
                </a:solidFill>
                <a:uFillTx/>
                <a:latin typeface="Times New Roman"/>
              </a:rPr>
              <a:t>Письмо Рособрнадзора от 09.04.2009 № 01- 74/10-01 (п.4)</a:t>
            </a:r>
            <a:br>
              <a:rPr sz="1800"/>
            </a:b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ланки ЕГЭ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заполняются ярким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черны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рнилами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елев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учко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33"/>
                </a:solidFill>
                <a:uFillTx/>
                <a:latin typeface="Times New Roman"/>
              </a:rPr>
              <a:t>Категорически запрещается</a:t>
            </a:r>
            <a:r>
              <a:rPr b="0" lang="ru-RU" sz="2800" spc="-1" strike="noStrike" u="sng">
                <a:solidFill>
                  <a:srgbClr val="990033"/>
                </a:solidFill>
                <a:uFillTx/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лать в полях бланков, вне полей бланков или в полях, заполненных типографским способом, какие-либо записи и пометки, не относящиеся к содержанию полей бланков;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 штрихкоде ничего не пишется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!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для заполнения цветные ручки вместо черной, карандаш, средства для исправления («замазку»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лать пометки о личности участника ЕГЭ на бланках ответов №1 и №2, а также на дополнительном бланке ответов №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Times New Roman"/>
              </a:rPr>
              <a:t>Бланк регистрации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2920" y="1599840"/>
            <a:ext cx="4249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тветственный организатор проводит инструктаж и дает указание участникам ЕГЭ заполнить все пол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ерхней части бланк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регистрации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 помощью заранее подготовленной на доске информаци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кроме полей для служебного использования «Служебная отметка», «Резерв-1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Примечание.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 Каждое поле в бланках заполняется, 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начиная с первой позиции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 (в том числе и поля для занесения фамилии, имени и отчества участника ЕГЭ). Если участник ЕГЭ не имеет информации для заполнения поля, он должен оставить его пустым (не делать прочерков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367200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6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1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6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400" y="249192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д региона – 52 (см. памятку с кодировкой, выданную руководителем ППЭ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д образовательного учреждения (код образовательного учреждения, в котором обучается выпускник (код образовательного учреждения, в котором поступающий получил пропуск на ЕГЭ), см. памятку с кодировкой, выданную руководителем ППЭ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ласс: номер, буква (учащиеся школ указывают, например, 11А, 12Б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д ППЭ (см. памятку с кодировкой, выданную руководителем ППЭ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омер ауди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ата проведения ЕГЭ в клеточках  ДД – пишем день (например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9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 в клеточках ММ – пишем месяц (например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д предмета (в соответствии с принятой кодировкой, см. памятку с кодировкой, выданную руководителем ППЭ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звание предмета (название предмета, по которому проводится ЕГЭ (возможно в сокращении), например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атемати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7497720" cy="2089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E:\мониторинг\Бланки ЕГЭ\2008\Проект\Заполненные\Картинки\Р-1-3-1.jpg"/>
          <p:cNvPicPr/>
          <p:nvPr/>
        </p:nvPicPr>
        <p:blipFill>
          <a:blip r:embed="rId1"/>
          <a:stretch/>
        </p:blipFill>
        <p:spPr>
          <a:xfrm>
            <a:off x="1116000" y="692280"/>
            <a:ext cx="7562880" cy="20764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3141720"/>
            <a:ext cx="806616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Средняя часть бланка</a:t>
            </a:r>
            <a:r>
              <a:rPr b="0" lang="en-US" sz="1800" spc="-1" strike="noStrike">
                <a:solidFill>
                  <a:srgbClr val="330033"/>
                </a:solidFill>
                <a:latin typeface="Times New Roman"/>
              </a:rPr>
              <a:t> заполняется участником ЕГЭ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990033"/>
                </a:solidFill>
                <a:uFillTx/>
                <a:latin typeface="Times New Roman"/>
              </a:rPr>
              <a:t>самостоятельно</a:t>
            </a:r>
            <a:r>
              <a:rPr b="0" lang="en-US" sz="1800" spc="-1" strike="noStrike">
                <a:solidFill>
                  <a:srgbClr val="330033"/>
                </a:solidFill>
                <a:latin typeface="Times New Roman"/>
              </a:rPr>
              <a:t> (</a:t>
            </a:r>
            <a:r>
              <a:rPr b="0" lang="en-US" sz="1400" spc="-1" strike="noStrike">
                <a:solidFill>
                  <a:srgbClr val="330033"/>
                </a:solidFill>
                <a:latin typeface="Times New Roman"/>
              </a:rPr>
              <a:t>кроме полей для служебного использования «Резерв-2», «Резерв-3» и «Резерв-4»</a:t>
            </a:r>
            <a:r>
              <a:rPr b="0" lang="en-US" sz="1800" spc="-1" strike="noStrike">
                <a:solidFill>
                  <a:srgbClr val="330033"/>
                </a:solidFill>
                <a:latin typeface="Times New Roman"/>
              </a:rPr>
              <a:t>). Участник ЕГЭ знакомится с краткой инструкцией по определению целостности индивидуального комплекта участника ЕГЭ (</a:t>
            </a:r>
            <a:r>
              <a:rPr b="0" lang="en-US" sz="1400" spc="-1" strike="noStrike">
                <a:solidFill>
                  <a:srgbClr val="330033"/>
                </a:solidFill>
                <a:latin typeface="Times New Roman"/>
              </a:rPr>
              <a:t>в бланке регистрации начинается со слов: «До начала работы с бланками ответов следует:»</a:t>
            </a:r>
            <a:r>
              <a:rPr b="0" lang="en-US" sz="1800" spc="-1" strike="noStrike">
                <a:solidFill>
                  <a:srgbClr val="330033"/>
                </a:solidFill>
                <a:latin typeface="Times New Roman"/>
              </a:rPr>
              <a:t>)</a:t>
            </a:r>
            <a:r>
              <a:rPr b="0" lang="en-US" sz="1400" spc="-1" strike="noStrike">
                <a:solidFill>
                  <a:srgbClr val="330033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После</a:t>
            </a:r>
            <a:r>
              <a:rPr b="0" lang="en-US" sz="1800" spc="-1" strike="noStrike">
                <a:solidFill>
                  <a:srgbClr val="330033"/>
                </a:solidFill>
                <a:latin typeface="Times New Roman"/>
              </a:rPr>
              <a:t> окончания заполнения бланка регистрации и выполнения всех пунктов краткой инструкции по определению целостности индивидуального комплекта, участник ЕГЭ ставит свою подпись на бланке регистрации в специально отведенном для этого поле.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med">
    <p:strips dir="r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990033"/>
                </a:solidFill>
                <a:uFillTx/>
                <a:latin typeface="Times New Roman"/>
                <a:hlinkClick r:id="rId1"/>
              </a:rPr>
              <a:t>Бланк ответов №1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 выборе ответа на задания типа 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можно выбра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ольк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и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вариант ответа, пометив ег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пользуетс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олько одна метка в столб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шибочно отмеченный отв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меняется в области замены ошибочных ответов на задания типа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003640" y="1773360"/>
            <a:ext cx="3122640" cy="4443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ри ответе на задания типа В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990033"/>
                </a:solidFill>
                <a:uFillTx/>
                <a:latin typeface="Times New Roman"/>
              </a:rPr>
              <a:t>следует соблюдать следующее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473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краткий ответ можно давать только в виде слова, одного целого числа или комбинации букв и циф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если в инструкции по выполнению работы не указано, что ответ можно дать с использованием запятых для записи ответа в виде десятичной дроби или в виде перечисления требуемых в задании пунктов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каждая цифра, буква, запятая или знак минус (если число отрицательное) записывается в отдельную клеточку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строго по образцу из верхней части блан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е разрешается использовать при записи ответа на задания типа В никаких иных символов, кроме символов кириллицы, латиницы, арабских цифр, запятой и знака дефис (минус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если требуется написать термин, состоящий из двух и более слов, то его нужно записать отдельно – через пробел или дефис (как требуют правила правописания)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но не использовать какого-либо разделителя (запятая и пр.)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если в инструкции по выполнению работы не указана другая форма написания ответа на данное задание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Если в таком термине окажется букв больше, чем клеточек в поле для ответа, то вторую часть термина можно писать более убористо. Термин следует писать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полностью. Любые сокращения запрещены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3280" y="1600200"/>
            <a:ext cx="4321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если кратким ответом должно быть слово, пропущенное в некотором предложении, то это слово нужно писать в той форме (род, число, падеж и т.п.), в которой оно должно стоять в предложен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если числовой ответ получается в виде дроби, то ее следует округлить до целого числа по правилам округлени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если в инструкции по выполнению работы не требуется записать ответ в виде десятичной дроби (например: 2, 3 округляется до 2; 2, 5 – до 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в ответе, записанном в виде десятичной дроби, в качестве разделителя следует указывать запятую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писывать ответ в виде математического выражения или формулы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запрещаетс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нельз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писать названия единиц измерения (градусы, проценты, метры, тонны и т.д.),  недопустимы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заголовки или комментарии к ответу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Обязательно </a:t>
            </a:r>
            <a:br>
              <a:rPr sz="4200"/>
            </a:br>
            <a:br>
              <a:rPr sz="4200"/>
            </a:b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выполняй </a:t>
            </a:r>
            <a:r>
              <a:rPr b="1" lang="en-US" sz="4200" spc="-1" strike="noStrike" u="sng">
                <a:solidFill>
                  <a:srgbClr val="ff0000"/>
                </a:solidFill>
                <a:uFillTx/>
                <a:latin typeface="Times New Roman"/>
              </a:rPr>
              <a:t>часть С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707920"/>
            <a:ext cx="777240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райся набрать как можно большее количество балл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1:02:35Z</dcterms:created>
  <dc:creator>irina</dc:creator>
  <dc:description/>
  <dc:language>en-US</dc:language>
  <cp:lastModifiedBy>Света</cp:lastModifiedBy>
  <dcterms:modified xsi:type="dcterms:W3CDTF">2013-02-03T13:35:49Z</dcterms:modified>
  <cp:revision>34</cp:revision>
  <dc:subject/>
  <dc:title>ПАМЯТКА ДЛЯ ОРГАНИЗАТОРОВ АУДИТОРИИ</dc:title>
</cp:coreProperties>
</file>