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0C55-7F8D-4283-AFE9-318156641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результатам рассмотрения обстоятельств удаления решением ГЭК двое из участников ЕГЭ допущены к пересдаче экзамена в текущем учебном год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рое из удалённых участников ЕГЭ не получат аттестат в этом году (это выпускники текущего года, нарушившие порядок проведения экзамена на обязательном экзамене – русском языке), а 4 удалённых – не смогут поступить по выбранному профилю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F08C-A52F-4023-9D1A-63B18BC2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B0E0-3724-460C-8D3F-59EF3D84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581D-DC02-48A2-B78E-9BA65462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FCA9-4485-43F2-91BD-BC6C00BE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9306-0B2A-4510-9F5C-3482475B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774F-87B1-4BE6-A244-81CD2022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0AAD-8684-4084-9172-05911393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7E84-7C71-48B9-A188-BF6B5085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3817-FEF7-4F58-87D9-F46C04AB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2ADB-B690-480B-8938-5EF158C6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36CC-6047-4855-B030-0D8FF7E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1179-23E9-434D-ADF9-1ABFE989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601C-F55A-4E1F-8347-1725B5D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848B-7F95-4213-8B6D-1D00435A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68F8-F46A-4EBF-BF70-3D1460A6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5399-9ED8-4088-95DC-709780C3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0594-57AA-468D-8D2D-E89174C7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52DF-8366-4E74-AD93-F0C82B49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872E-AF77-40F4-90B7-6BF8E53D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923C-A6ED-448D-B012-E280B5D5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3D7F-AFCA-40F6-93B3-34F4164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13A2-CC54-446D-8102-C98E1E26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BC20-EC37-412A-8377-88DE0B62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6F32-8985-4948-A03F-D38B0E54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5CB3-8EB1-466B-83F8-140BFCB2A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A31D-6D5C-41EB-8F03-F9FB5C48E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становлены требования к пунктам проведения ЕГЭ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п.30 Порядка проведения ЕГЭ):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ПЭ – не более 15 участников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Инач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 дополнительные организационные и/или технологические меры для усиления контроля за соблюдением порядка проведения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cc"/>
                </a:solidFill>
                <a:latin typeface="Arial"/>
              </a:rPr>
              <a:t>Дополнительные меры контроля – присутствие уполномоченного ГЭК и общественного наблюдателя в ППЭ </a:t>
            </a:r>
            <a:r>
              <a:rPr b="1" lang="en-US" sz="2600" spc="-1" strike="noStrike">
                <a:solidFill>
                  <a:srgbClr val="9999cc"/>
                </a:solidFill>
                <a:latin typeface="Arial"/>
              </a:rPr>
              <a:t>во время всей процедуры проведения экза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415A-BB02-42FD-845C-CE3D3DD775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332000" y="260280"/>
            <a:ext cx="684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00000" y="1700280"/>
            <a:ext cx="777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говаривать, вставать с ме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сажи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мениваться любыми материалами и предмет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иметь при себе и использовать средства связ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электронно-вычислительную техник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ьзоваться справочными материалами, кроме разрешен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одить по ППЭ во время экзамена без сопров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549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Times New Roman"/>
              </a:rPr>
              <a:t>Участникам ЕГЭ </a:t>
            </a:r>
            <a:r>
              <a:rPr b="1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запрещ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82080" y="5762520"/>
            <a:ext cx="961920" cy="10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76B5-6544-4148-84F1-EB73B56677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.37 Порядка проведения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73536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стник ЕГЭ получает справ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если нарушение было на обязательном экзаме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ли лишается возможности поступления в ВУЗ (экзамен по выбор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628640"/>
            <a:ext cx="3457440" cy="172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аление с экза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за нарушение поря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я ЕГ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1484280"/>
            <a:ext cx="3961080" cy="20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ГЭК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пу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повторной сдаче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20500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7427-FF75-459D-ABD9-816E7D8107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3445560"/>
            <a:ext cx="864072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рушение порядка проведения ЕГЭ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880080"/>
            <a:ext cx="67150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 – не получили аттес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4 удаленных - не смогут поступить по выбранному профилю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00" y="1033560"/>
            <a:ext cx="792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личие и использование мобильного телефо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челов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989000"/>
            <a:ext cx="82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утурлинский, Вознесенский, Канавинский, Краснооктябрьский, Сергачский, Сосновский, Первомайский районы, г. Арзамас, ННГУ им.Лобачевского (2 вол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82080" y="5762520"/>
            <a:ext cx="961920" cy="10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4DA5-73ED-4958-A258-6A56A056123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2:15:48Z</dcterms:created>
  <dc:creator>SamLab.ws</dc:creator>
  <dc:description/>
  <dc:language>en-US</dc:language>
  <cp:lastModifiedBy>школа</cp:lastModifiedBy>
  <dcterms:modified xsi:type="dcterms:W3CDTF">2013-02-06T09:04:27Z</dcterms:modified>
  <cp:revision>102</cp:revision>
  <dc:subject/>
  <dc:title>"Организация и нормативное правовое обеспечение государственной (итоговой) аттестации выпускников                               11 (12) классов в форме ЕГЭ в 2011 году"</dc:title>
</cp:coreProperties>
</file>