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251CD-1A83-4B6F-94D1-729166D5B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DAFD0-04CD-43EF-9AA0-C5AF250D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942AD-A6F7-463A-B329-1296E2A7D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0ED88-390B-4090-ADA7-85DA1818F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08BC-8C34-48C3-A717-8C8143DD2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8BA4-D19D-4AFD-ABBA-F58405CC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FFC0-3A75-4B20-9CCE-1944A16D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778D-2BF0-4B11-A6B3-073183BD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9A2D-A01B-4771-9AC0-8CA70E78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6ACC-CC80-43C6-A1B8-80D12D40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F48B-7B19-44B3-96E0-BFFBA496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BBE1A-049D-4934-8AD3-5851AD43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091A-1235-497A-A0DD-AD304857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C9F0-3369-4144-9456-5EC3450A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80E7-02FC-4DBC-AD37-2E99DB4F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0A9E-75FF-49F0-85B4-BF75706AC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5384-1318-4C07-8861-00819A6C7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B3BA9-16FE-47AF-B9C7-4DD4F896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634B0-ED32-48CB-A28E-A20A5534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821AE-E873-401C-BBD5-BDB9DA85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27F95-862A-4C1B-AF0C-B6BE38B1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EFBFC-83A1-46C6-9AE7-D98EA71B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BFE05-72AC-42D2-8D4C-728FBB27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6A8E7-CED7-4465-8D66-3F6FA6FB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C3F3-FF8A-4852-8A70-58422D7997C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69CD-5355-4286-AB0C-3F77AE168A4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sy.tom.ru/photo/image/food_stuffs.jp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0" y="0"/>
            <a:ext cx="8753400" cy="589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 Эмоции - это ветер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торый надувает парус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н может привести корабль в движение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 может потопить его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280200" y="3860640"/>
            <a:ext cx="210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льт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6200" y="326880"/>
            <a:ext cx="84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60093"/>
                </a:solidFill>
                <a:uFillTx/>
                <a:latin typeface="Arial"/>
              </a:rPr>
              <a:t>Учись на экзамене владеть своими эмоц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1585800" cy="1727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956720" y="5589720"/>
            <a:ext cx="961920" cy="109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3B34E-3152-42F1-94C5-EF7AA42ECE6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i-main-pic" descr="Картинка 149 из 1577"/>
          <p:cNvPicPr/>
          <p:nvPr/>
        </p:nvPicPr>
        <p:blipFill>
          <a:blip r:embed="rId1"/>
          <a:stretch/>
        </p:blipFill>
        <p:spPr>
          <a:xfrm>
            <a:off x="1979640" y="11970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611280" y="3645000"/>
            <a:ext cx="82105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елаем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спешной сдачи экзамен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956720" y="5589720"/>
            <a:ext cx="961920" cy="109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6C43A-626D-4582-8D24-EC095ECAC89F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50760" y="1792440"/>
            <a:ext cx="7366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0"/>
            <a:ext cx="842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ПОДГОТОВИТЬСЯ К ЭКЗАМЕНУ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СИХОЛОГИЧЕС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терять головы и не ставить перед собой сверх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инать готовиться к экзаменам заран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начала повторить то, что даётся легко, затем перейти к более сложн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строить себя на то, что экзамен – необходимость и сдавать его всё равно придётс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956720" y="5589720"/>
            <a:ext cx="961920" cy="1095120"/>
          </a:xfrm>
          <a:prstGeom prst="rect">
            <a:avLst/>
          </a:prstGeom>
          <a:ln w="0">
            <a:noFill/>
          </a:ln>
        </p:spPr>
      </p:pic>
      <p:pic>
        <p:nvPicPr>
          <p:cNvPr id="113" name="i-main-pic" descr="Картинка 170 из 1577"/>
          <p:cNvPicPr/>
          <p:nvPr/>
        </p:nvPicPr>
        <p:blipFill>
          <a:blip r:embed="rId2"/>
          <a:stretch/>
        </p:blipFill>
        <p:spPr>
          <a:xfrm>
            <a:off x="179280" y="549360"/>
            <a:ext cx="2051280" cy="2133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4D1C8-FF02-4CC0-85F3-9D03E9D9779C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69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492360" y="189000"/>
            <a:ext cx="49672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Как поддержать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работоспособ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2205000"/>
            <a:ext cx="7561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редовать умственный и физический тр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речь от переутомления глаза, давать им отд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учиться быстро переключаться с одного вида умственной работы на друг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имум телевизионных пере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имум работы на компьют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ть свои слабые стороны и пытаться их искоренять  (н-р, лень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ть свои сильные стороны и умение их использовать на благо себе(навыки составления плана, зрительная память, слухова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овать своё рабочее место  так, чтобы ник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ничто не отвлекало во время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728720" cy="1800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956720" y="5589720"/>
            <a:ext cx="961920" cy="109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A4D40-FB7D-4EED-A3B1-D52FB8FFA8F3}" type="slidenum">
              <a:t>3</a:t>
            </a:fld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50920" y="476280"/>
            <a:ext cx="727380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Главное условие успеха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вои знания и собран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503600"/>
            <a:ext cx="493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держ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оварищей тоже необход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780000" y="3933720"/>
            <a:ext cx="3528720" cy="2924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956720" y="5589720"/>
            <a:ext cx="961920" cy="109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5C4F2-B516-44FD-9550-B7655517297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68360" y="549360"/>
            <a:ext cx="4751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ита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081160"/>
            <a:ext cx="7200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етырёхразовое, богатое витамин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дпочтение молочным продуктам, овощам, фрукт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ключить в питание белок (мясо и рыб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питаться всухомятку и на скорую ру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лучшает память морковь с растительным мас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ждый день половинку репчатого лука (улучшает снабжение мозга кислород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имон освежает мысли за счёт витамина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пуста снимает нервоз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анан поддержит хорошее настро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Картинка 55 из 3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0"/>
            <a:ext cx="3276720" cy="2421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956720" y="5589720"/>
            <a:ext cx="961920" cy="109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1100D-FF36-41EF-8FC5-23E69FC2F58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908000" y="297000"/>
            <a:ext cx="611532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сихологи советуют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628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оставьте будильник на такое время, чтобы утром вы могли собраться совершенно спокойно и не спеша. Подготовьте заранее одежду и все необходимые принадлеж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1840" y="3135240"/>
            <a:ext cx="7724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8760" y="2997360"/>
            <a:ext cx="8661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Будьте  опрятно одеты и причёс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8760" y="5157720"/>
            <a:ext cx="758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е паникуйте, перед входом в помещение успокойтесь, сделайте упражнения на дыха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глубокий быстрый вдох и медленный выдох через рот /повторить 3 раза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956720" y="5589720"/>
            <a:ext cx="961920" cy="1095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39640" y="2637000"/>
            <a:ext cx="77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 вечера совершите прогулку, хорошо выспитес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3789360"/>
            <a:ext cx="86612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Утром очень легко, но питательно позавтракайте. Избегайте большого количества кофе, колы и никотина, поскольку они могут привести к перевозбужд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021DC-356F-4CC0-A4C5-D2E382234E01}" type="slidenum">
              <a:t>6</a:t>
            </a:fld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На ЕГЭ необходимо взя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умент, удостоверяющий личность участника ЕГЭ (паспорт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пуск участника ЕГЭ, выданный в школ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е гелевые ру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9D561-8C62-438B-8C5B-7863CC68494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908000" y="297000"/>
            <a:ext cx="611532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сихологи советуют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" name=""/>
          <p:cNvSpPr/>
          <p:nvPr/>
        </p:nvSpPr>
        <p:spPr>
          <a:xfrm>
            <a:off x="231840" y="3135240"/>
            <a:ext cx="7724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9400" y="4503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3480" y="2198520"/>
            <a:ext cx="78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осмотрите вопросы и начните с тех, в ответах на которые вы не сомневаете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3120" y="3422520"/>
            <a:ext cx="729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огда приступаете к новому заданию, сосредоточьтесь на нём и временно забудьте о предыдущ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3480" y="5079960"/>
            <a:ext cx="722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бязательно оставьте время для проверки свое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956720" y="5589720"/>
            <a:ext cx="961920" cy="109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40BE3-A88D-4C2C-9C50-E889374E9C25}" type="slidenum">
              <a:t>8</a:t>
            </a:fld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удьте вниматель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блюдайте правила поведения на экзаме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Жесткие рамки времени не должны влиять на качество ответов. Перед тем, как вписать ответ, перечитайте вопрос дважды и убедитесь, что вы правильно поняли, что от вас требу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чните с лег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пускайте трудные или непонятные зад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гда вы видите новое задание, забудьте все, что было в предыдущ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итайте задание до кон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ключайт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гадывайт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планируйте «два круга», проверьте свою работу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956720" y="5589720"/>
            <a:ext cx="961920" cy="109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F16D3-7302-4650-9ACA-1A70A8EDD3C4}" type="slidenum">
              <a:t>9</a:t>
            </a:fld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2:15:48Z</dcterms:created>
  <dc:creator>SamLab.ws</dc:creator>
  <dc:description/>
  <dc:language>en-US</dc:language>
  <cp:lastModifiedBy>Света</cp:lastModifiedBy>
  <dcterms:modified xsi:type="dcterms:W3CDTF">2013-03-29T07:48:08Z</dcterms:modified>
  <cp:revision>91</cp:revision>
  <dc:subject/>
  <dc:title>"Организация и нормативное правовое обеспечение государственной (итоговой) аттестации выпускников                               11 (12) классов в форме ЕГЭ в 2011 году"</dc:title>
</cp:coreProperties>
</file>