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3832-6AB0-41E7-88A7-C54E5B10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157D-7A17-424E-BC23-0548213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9471-6E35-40D2-ADA8-B87A92CE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EC0C-B6E9-4DF6-809F-BAF39105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FF64-290C-40A3-82FB-6A5CDC2C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8848-9E3A-4F3A-B921-CDF82F0E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5B77-0585-4F19-A7F2-ED9199B2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1F1F-C22C-4BFE-B6F9-3917DA6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A5C6-11AF-4819-B416-EE41B37D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E71A-5CF2-4B87-8E3C-FDA268C3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F3D5-C594-4586-8422-98CFA69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B5CB-DB81-4D6A-ABDB-CA84164E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CFEC-0D15-4E0F-8B0E-B3A7B951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08AB-E51E-4B16-99DD-E68D0ED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C28A-82FF-4DBC-882B-AB7DF02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B38F-90A0-4286-B863-3872A5A2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F00F-81AE-46B2-B506-000B0758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23C0-7B6C-427C-969D-BC50502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0891-90F2-48D2-B791-BFE88ED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5562-D92F-4D18-BF09-AE64318A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F2ED-7B10-4B58-8CCD-AAAA9017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C8F0-1B60-42B5-90B8-4A44119E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AD57-D5D4-407F-831B-D2A0296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7719-2D3F-4091-B32F-4A84C1F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581A-BF69-425E-BBE2-38842169A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10A2-933A-4C4C-BFB1-F5FB768CC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ГИА в форме 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государственного выпускного экза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ускники специальных учебно-воспитательных учреждений закрытого типа для детей и подростков с девиантным (общественно опасным) поведе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ускники образовательных учреждений уголовно-исполнительной сис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ускники с ограниченными возможностями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96192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8D6E-D907-4493-B1F3-1BC162112F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Прохождение ГИА в форме ГВЭ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выпускников с ограниченными возможностями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8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а об установлении инвалидности, выданная федеральным государственным учреждением медико-социальной эксперти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л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ключение психолого-медико-педагогической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AA9A-DAC1-4BF3-96D4-C346DB9AB6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сроч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ыпускники с ОВ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езжающие на российские или международные спортивные соревнования, конкурсы, смотры, олимпиады, тренировочные сб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езжающие в иностранное государ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авляемые по медицинским показаниям в ЛПУ или иные учреждения для лечения или реабил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1809-7065-46D3-8C33-DD57E9547F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ВЭ для выпускников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ёт индивидуальных возможностей выпуск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, необходимые выпускнику при сдаче экзамена, определяются на основании заключения ПМПК или справки об инвали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25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замен может проводиться на д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25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экзамена может увеличивается на 1,5 ч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25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присутствие ассист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25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ники могут пользоваться необходимыми им техническими средств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25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иц с нарушениями опорно-двигательного аппарата по желанию экзамены могут проводиться в устной фор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E0C8-0DB8-4D33-9CF2-1AF76C95CE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a13b9"/>
                </a:solidFill>
                <a:latin typeface="Arial"/>
              </a:rPr>
              <a:t>Для организации ГВЭ </a:t>
            </a:r>
            <a:br>
              <a:rPr sz="3800"/>
            </a:br>
            <a:r>
              <a:rPr b="1" lang="en-US" sz="3800" spc="-1" strike="noStrike">
                <a:solidFill>
                  <a:srgbClr val="4a13b9"/>
                </a:solidFill>
                <a:latin typeface="Arial"/>
              </a:rPr>
              <a:t>ежегодно создают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стная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экзаменационная комисс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ижегородской области (вопросы подготовки и проведения процедуры экзамена, контроль за соблюдением установленного порядка, утверждение результатов ГВ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стные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предметные комисс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ластной экзаменационной комиссии Нижегородской области (проверка письменных работ выпускников, уст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стная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конфликтная комисс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ижегородской области (принятие и рассмотрение апелля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855D-C9CD-4313-9E62-29ABC6DF823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15:48Z</dcterms:created>
  <dc:creator>SamLab.ws</dc:creator>
  <dc:description/>
  <dc:language>en-US</dc:language>
  <cp:lastModifiedBy>Света</cp:lastModifiedBy>
  <dcterms:modified xsi:type="dcterms:W3CDTF">2013-02-03T13:06:12Z</dcterms:modified>
  <cp:revision>105</cp:revision>
  <dc:subject/>
  <dc:title>"Организация и нормативное правовое обеспечение государственной (итоговой) аттестации выпускников                               11 (12) классов в форме ЕГЭ в 2011 году"</dc:title>
</cp:coreProperties>
</file>