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E9BB-A9DE-444C-9D53-F6FA9E722D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EB39-BF78-4D17-ACC3-F35142037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обычно наибольшее количество апелляций по математике, русскому языку и обществознанию. Но доля удовлетворённых апелляций с повышением балла остаётся неизменной - около 30%. Средний показатель по России – 31%. Ежегодно в части работ балл уменьшается. Традиционно – это математика. В этом году – это 8 работ – 0,82%. Соответствующий показатель по России – 2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жегодно самый высокий % повышения баллов – по литературе и биологии 89,5 % и 58,8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ый низкий – по математике и обществознанию 11,79% и 16,54%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1B05-2F93-4AE6-A976-76D78B83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аттестации 11-х клас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15 646 выпускников области к ГИА не допущены 14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из них – Кулебакский район (это почти 2% от всех выпускников района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– Нижний Новгород: трое из Советского района, по одному из Сормовского и Ленинск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по одному: Володарский, Сосновский районы, города Дзержинск и С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А не прошли 292 выпускника, все из них в форме ЕГЭ. Таким образом, 306 выпускников закончили обучение со справкой. Это 1,97% Данный показатель несколько лучше, чем в прошлом учебном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лайде использованы гиперссылки(экзамен: успешность его сда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айде использованы гиперссылки по сайтам и «горячей линии» ЕГ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лайде использованы гиперссылки по участникам ЕГЭ и ГВЭ (ЕГЭ, ГВЭ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лайде использованы гиперссылки: единые правила проведения, использование КИМ, использование специальных бланков ЕГ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4DE3-2F92-47D1-81FC-0BFF1273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CA50-A0A9-4102-AFB1-67AEAEA1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5002-AA7D-4389-8145-B12C7A33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960E-C2C3-4A7D-A19A-EDAD421D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B058-E349-4871-B4C7-21894DAF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9F7B-D44B-43EA-BF2B-48D61261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CF5B-647E-49C1-AB1D-33D9B4AA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7885-4BB0-4F2F-B57B-B61EA8CD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06EE-C965-4F25-8ED5-03D6DEC0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B3BC-9024-4F22-A5A4-3D1CB4EC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0853-E76F-4D6C-920E-00320FA0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16A5-1C1A-4943-8A83-D4B744F0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F0AE-BB32-4404-BDC7-2A5E0D82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E89A-73F0-4443-AA57-F34EA26F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D2FC-921F-4484-9087-D32AE1F5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0BA0-8C1C-4427-B26B-9621830A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C757-E86B-4EEB-BEFF-910E5854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24BB-A2A7-420A-89DC-0205537A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04D2-EEE1-45C6-85A5-460FEC9D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CC1B-C6CA-467C-BEB5-B27A8D2A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0D34-AD90-4794-8DB4-A60117AA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4AC7-5263-4479-9BDC-89641B1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C602-7911-4973-909A-4CE0DE29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5823-51AF-4965-9E12-56E9F1B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4AFA-680C-4BEE-8D5B-E1C128A73C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6E7-4363-4EBB-9B3A-C46FBF5A15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45;&#1043;&#1069;.ppt" TargetMode="External"/><Relationship Id="rId2" Type="http://schemas.openxmlformats.org/officeDocument/2006/relationships/hyperlink" Target="file:///&#1043;&#1042;&#1069;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2893-BE7A-43C0-80A8-63FF01959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дготовка выпускников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 (12) классов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 государственной (итоговой)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5" descr="ege"/>
          <p:cNvPicPr/>
          <p:nvPr/>
        </p:nvPicPr>
        <p:blipFill>
          <a:blip r:embed="rId1"/>
          <a:stretch/>
        </p:blipFill>
        <p:spPr>
          <a:xfrm>
            <a:off x="818208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2DF7-D7CC-45EE-9B2D-471693C6D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формирование участников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результатах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entury Gothic"/>
              </a:rPr>
              <a:t>     </a:t>
            </a:r>
            <a:r>
              <a:rPr b="1" lang="en-US" sz="2800" spc="-1" strike="noStrike">
                <a:solidFill>
                  <a:srgbClr val="ffcc66"/>
                </a:solidFill>
                <a:latin typeface="Century Gothic"/>
              </a:rPr>
              <a:t>Списки участников ЕГЭ с результатами поступают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в образовательные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для выпускников текущего го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Ознакомление с результатами проводится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под роспись участника ЕГЭ с указанием даты ознаком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ень появления списко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офици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нь объявления результатов ЕГ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DE3B-6F07-4160-A5F3-28E21D3473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620640"/>
            <a:ext cx="78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Участник ЕГЭ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Arial"/>
              </a:rPr>
              <a:t>имеет право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подать апел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9280" y="2023920"/>
          <a:ext cx="8820360" cy="1768680"/>
        </p:xfrm>
        <a:graphic>
          <a:graphicData uri="http://schemas.openxmlformats.org/drawingml/2006/table">
            <a:tbl>
              <a:tblPr/>
              <a:tblGrid>
                <a:gridCol w="3961080"/>
                <a:gridCol w="4859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- о нарушении установленного порядка проведения ЕГ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ahoma"/>
                        </a:rPr>
                        <a:t>в день экзамена до выхода из ПП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- о несогласии                                    с выставленными балл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по ЕГ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ahoma"/>
                        </a:rPr>
                        <a:t>в течение двух рабочих дней после официального объявления результатов экзамена и ознакомления с ни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56"/>
          <p:cNvSpPr/>
          <p:nvPr/>
        </p:nvSpPr>
        <p:spPr>
          <a:xfrm>
            <a:off x="179280" y="3841560"/>
            <a:ext cx="896472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е принимаются апелля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одержанию и структуре 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вязи с нарушением самим участником ЕГЭ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 поведения на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вязи с нарушением самим участником ЕГЭ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 заполнения бл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1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AD08-39E3-4E67-99D0-BE851295F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 подачи заявки на апелляцию по количеству выставленных баллов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 течение 1-2 дн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сле ознакомления с результатами ЕГЭ по предмету выпускник, согласуя с законным представителем, пишет заявление в 2-х экземплярах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 шко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подачу апел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дставитель О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езет оба заявления в РУО для их регистрации специалистом управления, после чего один экземпляр возвращается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ист РУО с ходатайством от УО централизованно везет заявления в РЦ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ege"/>
          <p:cNvPicPr/>
          <p:nvPr/>
        </p:nvPicPr>
        <p:blipFill>
          <a:blip r:embed="rId1"/>
          <a:stretch/>
        </p:blipFill>
        <p:spPr>
          <a:xfrm>
            <a:off x="8182080" y="5762520"/>
            <a:ext cx="96192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AD78-FA38-4401-B37E-840DB7795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413000"/>
          <a:ext cx="8207280" cy="2530440"/>
        </p:xfrm>
        <a:graphic>
          <a:graphicData uri="http://schemas.openxmlformats.org/drawingml/2006/table">
            <a:tbl>
              <a:tblPr/>
              <a:tblGrid>
                <a:gridCol w="1123920"/>
                <a:gridCol w="1361880"/>
                <a:gridCol w="1310040"/>
                <a:gridCol w="1290600"/>
                <a:gridCol w="961920"/>
                <a:gridCol w="1293840"/>
                <a:gridCol w="865080"/>
              </a:tblGrid>
              <a:tr h="76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но апелля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повыше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без изменен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пониже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Прямоугольник 13"/>
          <p:cNvSpPr/>
          <p:nvPr/>
        </p:nvSpPr>
        <p:spPr>
          <a:xfrm>
            <a:off x="0" y="88920"/>
            <a:ext cx="9144000" cy="676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езультаты работы конфликтной комиссии 2012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0" y="3933720"/>
            <a:ext cx="91440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По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атематика – 44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усский язык – 125       обществознание - 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Удовлетвор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литература – 89,8 %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биология – 58,8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атематика – 11,79 %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бществознание – 16,5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4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3C48-7794-4ABA-933F-57F958655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8218440" cy="922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кументы выпускн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ege"/>
          <p:cNvPicPr/>
          <p:nvPr/>
        </p:nvPicPr>
        <p:blipFill>
          <a:blip r:embed="rId1"/>
          <a:stretch/>
        </p:blipFill>
        <p:spPr>
          <a:xfrm>
            <a:off x="7812000" y="5516640"/>
            <a:ext cx="962280" cy="10951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/>
          <p:cNvSpPr/>
          <p:nvPr/>
        </p:nvSpPr>
        <p:spPr>
          <a:xfrm>
            <a:off x="250920" y="5661000"/>
            <a:ext cx="6697440" cy="1069920"/>
          </a:xfrm>
          <a:prstGeom prst="horizontalScrol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Garamond"/>
              </a:rPr>
              <a:t>Срок действия свидетельства о результатах ЕГЭ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Garamond"/>
              </a:rPr>
              <a:t>до 31 декабря года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Organization Chart 6"/>
          <p:cNvGrpSpPr/>
          <p:nvPr/>
        </p:nvGrpSpPr>
        <p:grpSpPr>
          <a:xfrm>
            <a:off x="324000" y="1916640"/>
            <a:ext cx="8673120" cy="2755800"/>
            <a:chOff x="324000" y="1916640"/>
            <a:chExt cx="8673120" cy="2755800"/>
          </a:xfrm>
        </p:grpSpPr>
        <p:cxnSp>
          <p:nvCxnSpPr>
            <p:cNvPr id="179" name="_s2052"/>
            <p:cNvCxnSpPr>
              <a:stCxn id="180" idx="3"/>
              <a:endCxn id="181" idx="2"/>
            </p:cNvCxnSpPr>
            <p:nvPr/>
          </p:nvCxnSpPr>
          <p:spPr>
            <a:xfrm flipV="1">
              <a:off x="4320360" y="2512080"/>
              <a:ext cx="340200" cy="165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2053"/>
            <p:cNvCxnSpPr>
              <a:stCxn id="183" idx="1"/>
              <a:endCxn id="181" idx="2"/>
            </p:cNvCxnSpPr>
            <p:nvPr/>
          </p:nvCxnSpPr>
          <p:spPr>
            <a:xfrm rot="10800000">
              <a:off x="4659840" y="2512080"/>
              <a:ext cx="340200" cy="57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2054"/>
            <p:cNvCxnSpPr>
              <a:stCxn id="185" idx="3"/>
              <a:endCxn id="181" idx="2"/>
            </p:cNvCxnSpPr>
            <p:nvPr/>
          </p:nvCxnSpPr>
          <p:spPr>
            <a:xfrm flipV="1">
              <a:off x="4320360" y="2512080"/>
              <a:ext cx="340200" cy="57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1" name="_s2055"/>
            <p:cNvSpPr/>
            <p:nvPr/>
          </p:nvSpPr>
          <p:spPr>
            <a:xfrm>
              <a:off x="3641760" y="1916640"/>
              <a:ext cx="2037600" cy="596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entury Gothic"/>
                </a:rPr>
                <a:t>Проше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entury Gothic"/>
                </a:rPr>
                <a:t>ГИА в форме ЕГЭ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6"/>
            <p:cNvSpPr/>
            <p:nvPr/>
          </p:nvSpPr>
          <p:spPr>
            <a:xfrm>
              <a:off x="324000" y="2589120"/>
              <a:ext cx="3996720" cy="1003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c0b"/>
                  </a:solidFill>
                  <a:latin typeface="Century Gothic"/>
                </a:rPr>
                <a:t>Аттестат</a:t>
              </a:r>
              <a:r>
                <a:rPr b="1" lang="en-US" sz="2400" spc="-1" strike="noStrike">
                  <a:solidFill>
                    <a:srgbClr val="ffcc66"/>
                  </a:solidFill>
                  <a:latin typeface="Century Gothic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entury Gothic"/>
                </a:rPr>
                <a:t>о среднем (полном)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entury Gothic"/>
                </a:rPr>
                <a:t>общем образован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entury Gothic"/>
                </a:rPr>
                <a:t>по результатам обучения в школ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2057"/>
            <p:cNvSpPr/>
            <p:nvPr/>
          </p:nvSpPr>
          <p:spPr>
            <a:xfrm>
              <a:off x="5000400" y="2589120"/>
              <a:ext cx="3996720" cy="1003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c0b"/>
                  </a:solidFill>
                  <a:latin typeface="Century Gothic"/>
                </a:rPr>
                <a:t>Справка </a:t>
              </a:r>
              <a:r>
                <a:rPr b="1" lang="en-US" sz="1700" spc="-1" strike="noStrike">
                  <a:solidFill>
                    <a:srgbClr val="000000"/>
                  </a:solidFill>
                  <a:latin typeface="Century Gothic"/>
                </a:rPr>
                <a:t>об обучен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entury Gothic"/>
                </a:rPr>
                <a:t>в образовательном учрежден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entury Gothic"/>
                </a:rPr>
                <a:t>Пересдача через 1 год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2058"/>
            <p:cNvSpPr/>
            <p:nvPr/>
          </p:nvSpPr>
          <p:spPr>
            <a:xfrm>
              <a:off x="324000" y="3668760"/>
              <a:ext cx="3996720" cy="1003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c17"/>
                  </a:solidFill>
                  <a:latin typeface="Century Gothic"/>
                </a:rPr>
                <a:t>Свидетельств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c17"/>
                  </a:solidFill>
                  <a:latin typeface="Century Gothic"/>
                </a:rPr>
                <a:t>о результатах ЕГ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5"/>
          <p:cNvSpPr/>
          <p:nvPr/>
        </p:nvSpPr>
        <p:spPr>
          <a:xfrm>
            <a:off x="6084720" y="2205000"/>
            <a:ext cx="8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1816200" y="2309760"/>
            <a:ext cx="9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685880" y="21337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Garamond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7093800" y="223992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Garamond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107A-0434-4AA4-AA05-64780FDC1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Аттестат и свидетельство о ЕГ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45000" y="1371600"/>
            <a:ext cx="7960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Итоговая отметка в аттестат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среднее арифмет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годовых отметок за 10, 11, 12 клас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ТОЛЬКО ПРИ ПОЛОЖИ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ДАЧЕ ЕГЭ ПО МАТЕМАТИКЕ И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627200" y="4076640"/>
            <a:ext cx="555624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Результат ЕГЭ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отражается в свидетельст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о результатах сданных экзам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3EA7-EA4D-4107-AB95-C6E9BAF2C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повторно допускаются до сдачи ЕГЭ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075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выпускники текущего года, получившие на государственной (итоговой) аттестации в форме ЕГЭ неудовлетворительный результат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о одному из предметов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(русскому языку или математи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не сдававшие ЕГЭ по уважительным причинам (болезнь или иные обстоятельства, подтвержденные документа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не завершившие выполнение экзаменационной работы по уважительным причинам (болезнь или иные обстоятельства, подтвержденные документа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A448-7681-41A3-BF23-CA8733840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6"/>
          <p:cNvSpPr/>
          <p:nvPr/>
        </p:nvSpPr>
        <p:spPr>
          <a:xfrm>
            <a:off x="1463760" y="2925720"/>
            <a:ext cx="733320" cy="1079640"/>
          </a:xfrm>
          <a:custGeom>
            <a:avLst/>
            <a:gdLst>
              <a:gd name="textAreaLeft" fmla="*/ 98280 w 733320"/>
              <a:gd name="textAreaRight" fmla="*/ 635040 w 7333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Минимальное количество баллов ЕГ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760040" y="93348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ahoma"/>
              </a:rPr>
              <a:t>устанавливается </a:t>
            </a:r>
            <a:r>
              <a:rPr b="0" lang="ru-RU" sz="1800" spc="-1" strike="noStrike" u="sng">
                <a:solidFill>
                  <a:srgbClr val="993300"/>
                </a:solidFill>
                <a:uFillTx/>
                <a:latin typeface="Tahoma"/>
              </a:rPr>
              <a:t>ежегодно</a:t>
            </a:r>
            <a:r>
              <a:rPr b="0" lang="ru-RU" sz="1800" spc="-1" strike="noStrike">
                <a:solidFill>
                  <a:srgbClr val="993300"/>
                </a:solidFill>
                <a:latin typeface="Tahoma"/>
              </a:rPr>
              <a:t> Рособрнадз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ahoma"/>
              </a:rPr>
              <a:t>по каждому общеобразовательному 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7760" y="19098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6120" y="29257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77760" y="52243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Вариант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1329840" y="1779480"/>
            <a:ext cx="4347360" cy="6426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Все 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обязательные экза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сданы </a:t>
            </a: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выше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 установленного пор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5796000" y="1917720"/>
            <a:ext cx="431640" cy="358920"/>
          </a:xfrm>
          <a:prstGeom prst="rightArrow">
            <a:avLst>
              <a:gd name="adj1" fmla="val 50000"/>
              <a:gd name="adj2" fmla="val 30065"/>
            </a:avLst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443640" y="1855800"/>
            <a:ext cx="2587680" cy="91692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аттест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и свидетельство               о сдаче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465920" y="2637000"/>
            <a:ext cx="4124880" cy="6426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Один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 обязательный экза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сдан </a:t>
            </a: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ниже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 установленного пор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113200" y="3498840"/>
            <a:ext cx="3992400" cy="91692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Повторно допускается к экзам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в установленные с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(при положительном результа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332360" y="5083200"/>
            <a:ext cx="4303440" cy="6426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Все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 обязательные экза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сданы </a:t>
            </a: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ниже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 установленного пор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1"/>
          <p:cNvSpPr/>
          <p:nvPr/>
        </p:nvSpPr>
        <p:spPr>
          <a:xfrm>
            <a:off x="5796000" y="5232240"/>
            <a:ext cx="504720" cy="358920"/>
          </a:xfrm>
          <a:prstGeom prst="rightArrow">
            <a:avLst>
              <a:gd name="adj1" fmla="val 50000"/>
              <a:gd name="adj2" fmla="val 35155"/>
            </a:avLst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6443640" y="4797360"/>
            <a:ext cx="2587680" cy="91692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справка об обу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в образователь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учре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324000" y="6027840"/>
            <a:ext cx="77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повторное прохождение государственной итоговой аттес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возможно не ранее чем через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6580080" y="2949480"/>
            <a:ext cx="2384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Tahoma"/>
              </a:rPr>
              <a:t>срок действия свидетельства                   о результатах ЕГ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7d"/>
                </a:solidFill>
                <a:latin typeface="Tahoma"/>
              </a:rPr>
              <a:t>до 31 декабря года, следующего  за годом его пол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7"/>
          <p:cNvSpPr/>
          <p:nvPr/>
        </p:nvSpPr>
        <p:spPr>
          <a:xfrm rot="19028400">
            <a:off x="5932440" y="2976480"/>
            <a:ext cx="773280" cy="358920"/>
          </a:xfrm>
          <a:prstGeom prst="rightArrow">
            <a:avLst>
              <a:gd name="adj1" fmla="val 50000"/>
              <a:gd name="adj2" fmla="val 53862"/>
            </a:avLst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2574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8" descr="ege"/>
          <p:cNvPicPr/>
          <p:nvPr/>
        </p:nvPicPr>
        <p:blipFill>
          <a:blip r:embed="rId1"/>
          <a:stretch/>
        </p:blipFill>
        <p:spPr>
          <a:xfrm>
            <a:off x="7956720" y="5805360"/>
            <a:ext cx="96192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EAB4-2949-4CED-996A-7D5DAE722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326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Times New Roman"/>
              </a:rPr>
              <a:t>Количество выпускников – 15 6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Не допущены к ГИА – 14 человек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– Кулебакский, 5 – Н. Новго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оветский – 3, Сормовский – 1, Ленинский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1 – Володарский, Сосновский, Дзержинск, С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Times New Roman"/>
              </a:rPr>
              <a:t>Закончили обучение со справкой – 305 (1,9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6699"/>
                </a:solidFill>
                <a:latin typeface="Times New Roman"/>
              </a:rPr>
              <a:t>(2011 год – 2,15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204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Аттестация 11 (12)-х классов-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ege"/>
          <p:cNvPicPr/>
          <p:nvPr/>
        </p:nvPicPr>
        <p:blipFill>
          <a:blip r:embed="rId1"/>
          <a:stretch/>
        </p:blipFill>
        <p:spPr>
          <a:xfrm>
            <a:off x="8182080" y="5762520"/>
            <a:ext cx="96192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75E3-8B63-4614-A371-A0308A1EF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-во выпускников всего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ом числе получили документ государственного образца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1 (95,35%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щены со справкой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(4,6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676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rial"/>
              </a:rPr>
              <a:t>Аттестация 11 (12) классов-2012 Центр образования </a:t>
            </a:r>
            <a:br>
              <a:rPr sz="3600"/>
            </a:br>
            <a:r>
              <a:rPr b="1" lang="en-US" sz="3600" spc="-1" strike="noStrike">
                <a:solidFill>
                  <a:srgbClr val="99ccff"/>
                </a:solidFill>
                <a:latin typeface="Arial"/>
              </a:rPr>
              <a:t>Москов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5CC9-726B-4A68-B28B-CF5FA035C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Государственная (итоговая) аттестация выпускников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11 (12)</a:t>
            </a: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пускаются обучающиеся, имеющие удовлетворительные итоговые школьные отметки по всем общеобразовательным предметам за 10-11(12)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аз Минобрнауки России от 28.11.2008 № 36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утвержд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ожения о формах и порядке проведения государственной (итоговой) аттестации обучающихся, освоивших основные общеобразовательные программы среднего (полного) общего образования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 ред. приказа от 19.12.2011 №2854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C636-37FE-4714-8243-096AFD5BD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2"/>
          <p:cNvSpPr txBox="1"/>
          <p:nvPr/>
        </p:nvSpPr>
        <p:spPr>
          <a:xfrm>
            <a:off x="3132000" y="189000"/>
            <a:ext cx="5761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замен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шность его с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32000" y="335772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, влияющие на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 flipH="1">
            <a:off x="1835280" y="3933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392436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5148360" y="4005360"/>
            <a:ext cx="1008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03120" y="488952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ень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700360" y="53928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людение правил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6084720" y="467352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сихологическая гот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" descr="2009061915045189740c41d3b4f4b5aa8a01ee8ed26af0de10_t2"/>
          <p:cNvPicPr/>
          <p:nvPr/>
        </p:nvPicPr>
        <p:blipFill>
          <a:blip r:embed="rId1"/>
          <a:stretch/>
        </p:blipFill>
        <p:spPr>
          <a:xfrm>
            <a:off x="0" y="0"/>
            <a:ext cx="298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ege"/>
          <p:cNvPicPr/>
          <p:nvPr/>
        </p:nvPicPr>
        <p:blipFill>
          <a:blip r:embed="rId2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Решение родительского собр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знакомить обучающихся и их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 Порядком проведения ЕГЭ (утв. приказом Минобрнауки РФ от 11.10.2011 №2451 «Об утверждении порядка проведения ЕГЭ») и  Правилами заполнения бланков ЕГЭ (Письмо Рособрнадзора от 09.04.2009 № 01- 74/10-01) под рос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ителям-предметн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илить контроль за выполнением домашних заданий учащими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атически осуществлять подготовку к ЕГЭ на уроках, элективных, индивидуальных занятиях в соответствии с индивидуальными маршрутами подготовки к ЕГЭ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Классным руководителям 11 (12) классов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жедневно контролировать посещаемость и успеваемость обучающихся, работая в тесном контакте с  социальным педагогом и родителями обучаю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ести разъяснительную работу с обучающимися и родителями о выборе предметов ЕГЭ (февра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Зам директора по УВР (Ф.И.О.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жемесячно проводить мониторинг посещаемости и успеваем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илить контроль за индивидуальной работой учителей-предметников по подготовке к ЕГЭ  через посещение уроков, контроль домашних заданий, тренировочных работ, проведения элективных курсов и индивидуальных консульт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ести репетиционные работы для обучающихся по обязательным предметам и предметам по выбору (на основании заявлений выпускников) в марте 2013 г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ести индивидуальные консультации с обучающимися и родителями о выборе предметов ЕГЭ (до 25 февра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Родител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знакомиться под роспись  с результатами диагностических работ обучающихся; индивидуальными маршрутными листами по подготовке к ЕГЭ по предме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жедневно осуществлять контроль за посещаемостью, успеваемостью, выполнением домашних заданий и ходом подготовки к ЕГЭ обучаю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Обучающимся и их родителям до 1 марта окончательно определиться с выбором предметов ЕГЭ, написав заявление на сдачу экзамена в форме 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14A7-374A-4757-9923-010D27D8D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ое обеспечение Е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ЕГ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e.ed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ФИПИ </a:t>
            </a:r>
            <a:r>
              <a:rPr b="1" lang="ru-RU" sz="3200" spc="-1" strike="noStrike" u="sng">
                <a:solidFill>
                  <a:srgbClr val="666699"/>
                </a:solidFill>
                <a:uFillTx/>
                <a:latin typeface="Arial"/>
              </a:rPr>
              <a:t>www.fipi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 НИР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r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no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фоны «Горячей линии» Е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164360" y="1484280"/>
            <a:ext cx="1752480" cy="1663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3"/>
          <a:stretch/>
        </p:blipFill>
        <p:spPr>
          <a:xfrm>
            <a:off x="7956720" y="3573360"/>
            <a:ext cx="901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B46C-D41C-4C5D-8946-3DF72F2B9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3"/>
          <p:cNvSpPr txBox="1"/>
          <p:nvPr/>
        </p:nvSpPr>
        <p:spPr>
          <a:xfrm>
            <a:off x="611280" y="3645000"/>
            <a:ext cx="8210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ешной сдачи экзамен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8" name="Picture 4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pic>
        <p:nvPicPr>
          <p:cNvPr id="249" name="i-main-pic" descr="Картинка 149 из 1577"/>
          <p:cNvPicPr/>
          <p:nvPr/>
        </p:nvPicPr>
        <p:blipFill>
          <a:blip r:embed="rId2"/>
          <a:stretch/>
        </p:blipFill>
        <p:spPr>
          <a:xfrm>
            <a:off x="2987640" y="1197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3515-2473-4ECB-9DE9-1EFEB66DA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560" y="457200"/>
            <a:ext cx="74278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рядок проведения ГИА </a:t>
            </a:r>
            <a:br>
              <a:rPr sz="4000"/>
            </a:b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в 11 (12) классах</a:t>
            </a:r>
            <a:br>
              <a:rPr sz="4000"/>
            </a:b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Organization Chart 3"/>
          <p:cNvGrpSpPr/>
          <p:nvPr/>
        </p:nvGrpSpPr>
        <p:grpSpPr>
          <a:xfrm>
            <a:off x="611280" y="2565360"/>
            <a:ext cx="8281440" cy="4102560"/>
            <a:chOff x="611280" y="2565360"/>
            <a:chExt cx="8281440" cy="4102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941440" y="2723400"/>
              <a:ext cx="479520" cy="2861280"/>
            </a:xfrm>
            <a:prstGeom prst="bentConnector3">
              <a:avLst>
                <a:gd name="adj1" fmla="val 27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5" idx="2"/>
            </p:cNvCxnSpPr>
            <p:nvPr/>
          </p:nvCxnSpPr>
          <p:spPr>
            <a:xfrm flipV="1" rot="16200000">
              <a:off x="4511880" y="4152960"/>
              <a:ext cx="479520" cy="2520"/>
            </a:xfrm>
            <a:prstGeom prst="bentConnector3">
              <a:avLst>
                <a:gd name="adj1" fmla="val 27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0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3082320" y="2725200"/>
              <a:ext cx="479520" cy="2858040"/>
            </a:xfrm>
            <a:prstGeom prst="bentConnector3">
              <a:avLst>
                <a:gd name="adj1" fmla="val 27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1"/>
            <p:cNvSpPr/>
            <p:nvPr/>
          </p:nvSpPr>
          <p:spPr>
            <a:xfrm>
              <a:off x="2255760" y="2565360"/>
              <a:ext cx="4989960" cy="134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Возможные форм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государственной итоговой аттест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2"/>
            <p:cNvSpPr/>
            <p:nvPr/>
          </p:nvSpPr>
          <p:spPr>
            <a:xfrm>
              <a:off x="611280" y="4393800"/>
              <a:ext cx="2563200" cy="227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Arial"/>
                </a:rPr>
                <a:t>Едины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Arial"/>
                </a:rPr>
                <a:t>государственны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Arial"/>
                </a:rPr>
                <a:t>экзамен </a:t>
              </a:r>
              <a:r>
                <a:rPr b="0" lang="en-US" sz="2800" spc="-1" strike="noStrike" u="sng">
                  <a:solidFill>
                    <a:srgbClr val="666699"/>
                  </a:solidFill>
                  <a:uFillTx/>
                  <a:latin typeface="Arial"/>
                  <a:hlinkClick r:id="rId1"/>
                </a:rPr>
                <a:t>ЕГ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3470400" y="4393800"/>
              <a:ext cx="2563200" cy="227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Arial"/>
                </a:rPr>
                <a:t>Государственны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Arial"/>
                </a:rPr>
                <a:t>выпускно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Arial"/>
                </a:rPr>
                <a:t>экзамен </a:t>
              </a:r>
              <a:r>
                <a:rPr b="0" lang="en-US" sz="1900" spc="-1" strike="noStrike" u="sng">
                  <a:solidFill>
                    <a:srgbClr val="666699"/>
                  </a:solidFill>
                  <a:uFillTx/>
                  <a:latin typeface="Arial"/>
                  <a:hlinkClick r:id="rId2"/>
                </a:rPr>
                <a:t>(ГВЭ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4"/>
            <p:cNvSpPr/>
            <p:nvPr/>
          </p:nvSpPr>
          <p:spPr>
            <a:xfrm>
              <a:off x="6329160" y="4393800"/>
              <a:ext cx="2563560" cy="227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Verdana"/>
                </a:rPr>
                <a:t>ГВЭ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Verdana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Verdana"/>
                </a:rPr>
                <a:t>ЕГЭ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1D79-308C-49EB-929B-AAF84170B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зация проведения ЕГЭ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ые правила пр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обрнауки РФ от 11.10.2011 № 245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утвержд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ядка проведения единого государственного экзамен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заданий стандартизированной формы (КИМ), разрабатываются в соответствии с требованиями ФГОС среднего (полного)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торами в ППЭ не могут быть специалисты по данному общеобразовательному предмету, а также  учителя  участников ЕГЭ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. 34 Порядка проведения ЕГЭ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ое распис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специальных бланков для оформления ответов на за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аждому предмету ЕГЭ комиссией по шкалированию Рособрнадзора ежегодно устанавливается минимальное количество баллов, преодоление которого подтверждает освоение основных обще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7ED4-511D-4F13-80B1-700B05EA2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Минимальный порог в 2013 году</a:t>
            </a:r>
            <a:br>
              <a:rPr sz="40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(Распоряжение Рособрнадзора от 29.08.2012 № 3499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усский язык – 36 бал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тематика – 24 бал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изика – 36 бал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ствознание – 39 бал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имия – 36 балл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тика – 40 бал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иология – 36 бал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тория – 32 бал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еография – 37 бал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итература – 32 бал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остранный язык – 20 бал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0205-F4C3-41AA-A4BE-FDBC82896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-27000"/>
          <a:ext cx="8785080" cy="6696000"/>
        </p:xfrm>
        <a:graphic>
          <a:graphicData uri="http://schemas.openxmlformats.org/drawingml/2006/table">
            <a:tbl>
              <a:tblPr/>
              <a:tblGrid>
                <a:gridCol w="1319040"/>
                <a:gridCol w="3237120"/>
                <a:gridCol w="4228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 участников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ый правовой 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документов, удостоверяющих ли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е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 Президента РФ от 13.03.1997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 «Об основном документе, удостоверяющем личность гражданина Российской Федерации на территории Российской Федера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закон от 15.08.1996 №114-ФЗ (ред. от 28.12.2010) «О порядке выезда из Российской Федерации и въезда в Российскую Федерацию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аспорт гражданина Российской   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ипломатический па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лужебный па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аспорт моряка (до 2014 год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гражд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закон от 25.07.2002 №115-ФЗ (ред. от 29.12.2010) «О правовом положении иностранных граждан в Российской Федера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аспорт иностранного гражданина, либо иной документ, установленный ФЗ или признаваемый в соответствии с международным договором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 без гражданства 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документ, выданный иностранным государством и признаваемый в соответствии с международным договором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разрешение на временное прож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вид на ж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ные документы, предусмотренные ФЗ или признаваемые в соответствии с международным договором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жен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закон от 19.02.1993 № 4528-1 (ред. от 28.12.2010) «О беженца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детельство ходатайствующего о признании беженц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стоверение бежен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40" name="Picture 37" descr="ege"/>
          <p:cNvPicPr/>
          <p:nvPr/>
        </p:nvPicPr>
        <p:blipFill>
          <a:blip r:embed="rId1"/>
          <a:stretch/>
        </p:blipFill>
        <p:spPr>
          <a:xfrm>
            <a:off x="8542440" y="6194520"/>
            <a:ext cx="60156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3D2C-094B-41AF-B694-BD7969FA6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Перечень предметов ЕГ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67840" y="1268280"/>
            <a:ext cx="70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обязательные предметы для получения аттест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24000" y="2205000"/>
            <a:ext cx="72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предметы по выбор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би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обще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иностранные языки (английский, немецкий, француз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инфор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90440" y="5300640"/>
            <a:ext cx="8774280" cy="14346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fffff"/>
              </a:gs>
              <a:gs pos="100000">
                <a:srgbClr val="cccce6"/>
              </a:gs>
            </a:gsLst>
            <a:lin ang="189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99"/>
                </a:solidFill>
                <a:uFillTx/>
                <a:latin typeface="Tahoma"/>
              </a:rPr>
              <a:t>До 1 ма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выпускники подают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заявление на участие в ЕГЭ в свое ОУ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указав перечень общеобразовательных предметов ЕГ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п. 8 Порядка проведения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ege"/>
          <p:cNvPicPr/>
          <p:nvPr/>
        </p:nvPicPr>
        <p:blipFill>
          <a:blip r:embed="rId1"/>
          <a:stretch/>
        </p:blipFill>
        <p:spPr>
          <a:xfrm>
            <a:off x="8028000" y="551664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1445-F8A1-42CE-9690-006C008A8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Продолжительность 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единого государствен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8920" y="1268280"/>
            <a:ext cx="59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Начало ЕГЭ по всем общеобразовательным предм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10.00 по местному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1989000"/>
          <a:ext cx="7056720" cy="4013280"/>
        </p:xfrm>
        <a:graphic>
          <a:graphicData uri="http://schemas.openxmlformats.org/drawingml/2006/table">
            <a:tbl>
              <a:tblPr/>
              <a:tblGrid>
                <a:gridCol w="5184720"/>
                <a:gridCol w="1872000"/>
              </a:tblGrid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математика, физика, литература, информатика и информационно-коммуникационные технологии (ИК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3 часа 55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(23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русский язык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история, 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3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(210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биология, география, 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3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(180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иностранные яз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Tahoma"/>
                        </a:rPr>
                        <a:t>1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Picture 31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6E64-4C4E-4CBC-8FA3-85BF07BC2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математика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lang="en-US" sz="2800" spc="-1" strike="noStrike">
                <a:solidFill>
                  <a:srgbClr val="993300"/>
                </a:solidFill>
                <a:latin typeface="Century Gothic"/>
              </a:rPr>
              <a:t>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физика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– линейка и </a:t>
            </a:r>
            <a:r>
              <a:rPr b="1" lang="en-US" sz="2800" spc="-1" strike="noStrike">
                <a:solidFill>
                  <a:srgbClr val="993300"/>
                </a:solidFill>
                <a:latin typeface="Century Gothic"/>
              </a:rPr>
              <a:t>непрограммируемый калькулято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химия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– непрограммируемый калькулято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география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– линейка, </a:t>
            </a:r>
            <a:r>
              <a:rPr b="1" lang="en-US" sz="2800" spc="-1" strike="noStrike">
                <a:solidFill>
                  <a:srgbClr val="993300"/>
                </a:solidFill>
                <a:latin typeface="Century Gothic"/>
              </a:rPr>
              <a:t>транспортир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, непрограммируемый калькуля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На ЕГЭ разрешается пользовать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ege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2:15:48Z</dcterms:created>
  <dc:creator>SamLab.ws</dc:creator>
  <dc:description/>
  <dc:language>en-US</dc:language>
  <cp:lastModifiedBy>Света</cp:lastModifiedBy>
  <dcterms:modified xsi:type="dcterms:W3CDTF">2013-03-29T08:14:14Z</dcterms:modified>
  <cp:revision>121</cp:revision>
  <dc:subject/>
  <dc:title>"Организация и нормативное правовое обеспечение государственной (итоговой) аттестации выпускников                               11 (12) классов в форме ЕГЭ в 2011 году"</dc:title>
</cp:coreProperties>
</file>