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5AE-4C60-4D6E-AC35-CF4E21EE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AC2-79E8-46E3-A508-A8CA7C29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9FE-2707-4DEC-8F32-61B1CD6D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F55-808E-467E-97C7-4C4641EC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3FAA-09D2-4165-964E-FC1CA841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EFB5-6054-43B7-9B18-749064BD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7499-19FB-42DA-AC2E-E8E8E0BE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2B09-13B6-49C0-83BE-F1CE804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D36D-832C-4F44-B155-7999A56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0DA-2A37-406B-B38E-2D440AEE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51D-5B06-4003-934A-62BFE9A6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FE2-4CBD-46F7-9215-D4D32ACE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AADA-5E4F-4A34-97BD-3F4280B9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F31D-E233-4240-AF96-91BF16C6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DAA5-B072-4620-9C06-A8E35F25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FE5F-621B-4BA4-9942-62B1A0F4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84FA-E77C-490D-8A34-4B5FACA4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5B6-5E0A-4B60-A4B1-A24DA779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148-E145-4C2D-9FE9-3B544736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169-CD31-468A-A92E-33B7B642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343-4A56-4856-A517-80ECA799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813-CB88-49B2-87FB-B4A693D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01C-60CE-4A34-B422-5330E0D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019-AD71-453A-BC42-072462FE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4B04-35F1-4925-9942-DE4D63FC3D1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FC8F-040B-4539-AE2A-FEE40A8335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Участники ГИА в форме ЕГЭ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пускники образовательных учреждени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в том числе иностранных граждан, лиц без гражданства, беженцев и вынужденных переселенцев)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освоившие основные общеобразовательные программы среднего (полного) общего образования в очной, вечерней, заочной форм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ица, обучавшиеся в форме экстерната, семейного образования или само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ыпускники текущего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B7C-5C62-4420-A6BA-85F4BF8950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ЕГЭ также сдают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бучающиеся учреждений начального и среднего профессионального образования, освоившие программы среднего (полного) общего образ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раждане, получившие среднее (полное) общее образование в образовательных учреждениях иностранных государ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пускники образовательных учреждений прошлых лет, имеющие документ о среднем (полном) общем, начальном или среднем профессиональном образовании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том числе, у кого срок ранее полученного свидетельства о сдаче ЕГЭ не истё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C8D-6D80-4A32-9075-17FFBFD096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П.32 Порядка проведения ЕГЭ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ПЭ для лиц с ОВЗ  - с учетом их индивидуальных особенност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деляется специализированная аудитор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зможно присутствие ассистента, оказывающего участникам ЕГЭ необходимую помощ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зможно использование необходимых технических средст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могут быть организован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итание и перерывы для проведения необходимых медико-профилактических процедур, время экзамена при этом увеличивается на 1,5 ча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Основание – заключение ПМПК или справка об установлении инвалид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69C-9561-458C-85B4-5213B5CFCDF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2:15:48Z</dcterms:created>
  <dc:creator>SamLab.ws</dc:creator>
  <dc:description/>
  <dc:language>en-US</dc:language>
  <cp:lastModifiedBy>Света</cp:lastModifiedBy>
  <dcterms:modified xsi:type="dcterms:W3CDTF">2013-02-03T13:07:33Z</dcterms:modified>
  <cp:revision>82</cp:revision>
  <dc:subject/>
  <dc:title>"Организация и нормативное правовое обеспечение государственной (итоговой) аттестации выпускников                               11 (12) классов в форме ЕГЭ в 2011 году"</dc:title>
</cp:coreProperties>
</file>