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7EB-9FA0-4F4E-BA5A-4F053DC5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575-F3EC-4164-8D4B-ED189B4F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CDA49-FDDB-4BFF-8CB0-7D692A16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38D0C-3B29-41DE-B13F-569E6C04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AC3C3-E61E-4A19-A995-397FA22D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C2A78-2199-4D10-8091-28B9608A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7991D-F311-41FE-B10A-1039DFB2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955E3-9A64-4C14-901F-4710A741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0E411-43B9-4F68-AF50-AC9D410E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3D681-75B3-4EC9-B8ED-A1D64184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E1DCD-9D8A-48D8-86B8-3299AC58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73585-93EB-4C00-B71E-0E7F0EE3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DC2-DF15-4C79-AD5E-2137A549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747F3-979F-4F25-BCA7-739A8A0F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D3B5D-CD82-42A6-A801-2EA255F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34347-55FF-4872-A5F8-DF0B589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30A1C-C938-4BD7-9607-D88B74FA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93BA5-49E1-4D8D-9251-7F23FD01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B59B0-8AB4-4DF2-BA3C-7B4683FC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DCE45-349C-4940-9E32-0E94D6E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5A180-3979-4318-898B-692755B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7A247-809A-4905-8E43-FDABB3D2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4099E-B4E9-4412-909E-C5AE48D6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48E-4CD3-4794-A0BC-30DDDE45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96C68-D110-450D-A4A2-1E7F8278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68FF7-120C-41CE-902A-70E8054C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971EB-C765-4583-BF65-8E327E0A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A90DB-C8E5-4316-B0A1-C8771A98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9C344-FF9E-4804-A97F-7A1EC2FE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A4327-B898-4BAA-AF28-1748EB83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694FF-BCA0-4C44-8D66-BC1E1BB2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05FEC-AC32-470E-8AC3-BE5470C6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85949-5E94-465D-A915-D064EDA0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F0D00-F58F-4B36-9D65-8CC4426E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BEF0-A365-40A3-B14A-1808F709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BA7F2-86E0-4321-B8E9-9C735BBB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8FEEF-4147-4B5B-B3AE-DCEBAF92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12D9F-8A36-4765-8AFB-4E8684E7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22CDE-931C-4966-96E8-1F1F0479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4381A-481A-436D-86A0-26368221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BECDC-988C-4457-A906-038E80BD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7087A-69C4-4FAD-85E1-FDC372E1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E39C9-1F58-4E7C-BD1E-81025BFC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D58CC-345A-4A89-A628-155B9B3D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6438C-1873-4E68-9941-5BAD150A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AD33-2484-48BC-BFFB-385C25BC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F4289-FB30-4AF5-B611-83B8B989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E1697-50FF-4861-BC32-FB63B94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E757C-9F7F-4F24-880C-507CADCF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748D4-67A0-40B9-903B-FEB6D6C0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4A254-FE55-4B9D-9302-41A402DF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626B-A098-4831-9D7A-D8BE80C7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9EA0-7876-4186-8926-68551398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790C-62D7-462E-B064-E4260014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1026-E5B1-480A-8E6E-05F16ED3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BAFE-EDE6-4281-AF04-0EF9ED6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2E7D-E7A2-4102-9D01-B414E822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68DB-5815-4C38-8033-A1E7037F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EA06-C1A9-4039-AA40-11867DF4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8A46-345F-4A90-8275-8F51FE8A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93E9-A77E-4C32-9B11-41D18886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2CB6-009C-4D9E-9F85-FD4C8019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85EF5-DEFD-4600-8035-97E67621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02AD-DDA0-4503-98ED-824B9603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29CD-DE25-473E-875D-10D8C906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E04B-99E3-419F-8C6D-D9F288C6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EF65-8F68-4D0D-8FA4-4AE909DF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4C24-E7E7-412C-9A03-9F729E92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4A615-DB9F-4357-82AE-7DAE4D4A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F2BB-6514-4D89-9A6C-206E4410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1231F-34D3-43B5-A0F8-FEAF3A7B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01FB1-6439-4CC2-8BE9-A693EBFC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24D31-F90B-4365-83EB-59175381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87CAC-E41F-4131-8653-89044824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57E3-823A-4337-98A1-60B5F868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8EBC-DB0F-4758-8B72-D4A26EC4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D151-D421-4DA5-89EA-752562C6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E0683-70C8-4C3C-AAAA-5913CA97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0C1-A5FA-40C2-BB15-7AFA1EF0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1203-09C3-4F6C-B59B-9386EFA8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B409D-DB37-4731-B06C-1B24590A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7A9C-9E98-46FB-9E25-A432AADC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1380-CE31-4211-A569-AAD24E64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0EBC-6B00-4503-9D01-003BA494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4907B-60E9-4192-B5A9-8A374D5B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EE0B9-4FB3-4C5E-BCEE-62723E3E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6B4A-84E2-4399-8D86-0FE67D24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C655C-A572-4EA4-8387-0A7EA302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0257D-1529-4A8A-B5C4-D2F9FAEA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4F3-9B49-4CD3-9842-B6430230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04A7D-92DE-4088-964A-5489CC35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3F4B2-478E-4A27-A781-83096EB3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3FD13-00CF-4B18-A6C5-4D9C3C1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624A6-ECEA-4F0E-9E03-B657A0D3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A291C-4E9B-4843-8FEE-BC0563AB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7A92-E150-4E33-9E51-D8691D3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3D817-58B0-4159-8FA8-2ADD21E4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F80A-7745-4939-88BB-DBAD5764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613C0-64FF-47BE-BB13-86E90E51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F462-3EFD-4331-98A0-D4DD1B7F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BBD-DB69-44D1-89AB-9B8885F7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FD7DD-7282-42EF-A284-8333622C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088B3-F26B-4478-B6F8-0AAA7181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22EC-8B7F-4B67-AEB5-373755D5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AE46D-A96F-47F4-AD15-03C1FB68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EC568-8DAB-460B-B260-9EEEBB1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08DD8-9479-4BC9-9B1F-4E403D4F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BE10D-24F8-4E7C-97CA-B7C02CB7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1D3AC-3CFC-40C5-859E-FB2EE65C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7F7DF-9A15-4A0F-9F1B-B452C1CB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FBECD-DA14-4EC9-AA6F-B9F04C33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7D3-A851-494C-9FA3-D7EB431A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C9235-3C32-464F-8CAB-2C9F0CDF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6F214-5BA2-4AB2-B347-E226EE58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2C6FF-ABA7-40DB-B0D6-34D8CDCE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DA17F-46FF-4BED-B5FF-FAC121C0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6ECA7-6A97-40A7-9328-28E0EE2E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C5E3-D980-480F-8364-6AB8E2C0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574FC-E132-44AA-A7C4-B38AF3A1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DDECD-58AB-4502-9CC3-C5D0700E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0553A-B111-4893-BCC0-AB0290BE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2D6AC-E753-4822-B597-16273AE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03F-1086-413C-92C8-5224E089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B5F11-20D2-4ED0-9FA5-E95174AA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47D53-CB0B-4328-A92E-683BC69D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09BC6-062C-4390-B54B-F4AEB323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A1A93-430E-441D-83CE-BAFC11F6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50600-C822-405D-84B1-A5C11A4E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13837-C171-4633-BAD1-82210731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D3020-8B18-40A7-A49A-84850C18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C70C6-9AD0-423B-B37A-FB3701D6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B08E3-7535-412C-B8A9-DCE5ED67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31CA3-5CFC-4F78-97C7-A65A1058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5B4-A5A2-400F-A974-D09DAB6F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FECBD-2191-4646-81FD-C0191F8F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7225C-1501-4F97-A9EF-523A6EDA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C0AB1-36F6-4C07-9E94-06DC5F67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F1391-F68D-415E-9FC8-DC86C2ED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29304-DEA7-4C05-814C-949713F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21686-F7E0-4B0F-AD1C-1A82EADA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D5F53-7DF8-4C00-BD0F-D83B919F7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1B7F1-5456-4FE5-AF7D-DF109973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45F71-0D68-475E-B8E6-E1B84224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AC378-3C4B-400F-8ECE-609FC2B6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3F3A-61C4-4A4B-B5C7-B0D6B3539B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838A-5206-412C-B62C-3034869EDD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B306-E360-4A4A-9FFF-46C1A71458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863F-C397-45F4-8667-7713171FB6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DE00-E561-4FF2-A779-80632B5B12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9D59-A2AF-470E-993E-2CAB8294D6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7B51-5B24-44E7-9F8E-AA0A263382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363C-8677-41BA-B7C4-6ACD875A4A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1D4F-38A5-436A-92B2-62B15C737D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8AFC-343B-4FF9-B34F-C2396C309D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573F-DB26-4689-8E41-A38E6C2AFC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6DF0-8216-4D76-B2AF-55051E2344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400800" cy="838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обовская средняя общеобразовательная школ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яземского района Смоленской област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шкин на уроках русского язык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олнили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ающиеся 9 класс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уководитель: Климова Н.Н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язьма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014 год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84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384" fill="hold"/>
                                        <p:tgtEl>
                                          <p:spTgt spid="10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384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384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те зада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пишите текст, вставьте пропущенные буквы, объясните орфограм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 кому обращается Тургенев в четвертом предложени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ъясните значение слов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ян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ова стилистическая окраска слов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лас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ишите из текста предложение с вводным словом. Придумайте и запишите предложение, в котором слов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конец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не является вводным слов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готовьте сообщение на заданную тем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84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384" fill="hold"/>
                                        <p:tgtEl>
                                          <p:spTgt spid="10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384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384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. Бонди о Пушк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3" name="Picture 4" descr="248029819"/>
          <p:cNvPicPr/>
          <p:nvPr/>
        </p:nvPicPr>
        <p:blipFill>
          <a:blip r:embed="rId1"/>
          <a:stretch/>
        </p:blipFill>
        <p:spPr>
          <a:xfrm>
            <a:off x="2643120" y="1047600"/>
            <a:ext cx="3857760" cy="476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68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68" fill="hold"/>
                                        <p:tgtEl>
                                          <p:spTgt spid="10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68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68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998"/>
                            </p:stCondLst>
                            <p:childTnLst>
                              <p:par>
                                <p:cTn id="3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ишите высказывание о Пушкине известного ученого С.М.Бонд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ушкин писал удивительно сжато, коротко, лаконично. Каждое слово у него полно смысла и поэтичности. Он не любил подробно разъяснять свою мысль, он рассчитывал на внимательного читателя, умеющего разбираться в содержании стихотворения, правильно осмыслить его образы и расшифровать заключающиеся в нем наме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ихи Пушкина необыкновенно богаты и разнообразны по содержанию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384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384" fill="hold"/>
                                        <p:tgtEl>
                                          <p:spTgt spid="10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384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384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те зада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пределите тему, основную мысль тек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ишите из текста слова, в которых букв больше, чем звук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ъясните значение нареч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аконичн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подобрав к нему синонимы. Что достигается благодаря тому, что слова-синонимы используются в качестве однородных членов предложения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ие языковые средства использует автор для выражения своего отношения к поэзии Пушки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одном из предложений замените причастный оборот придаточным предложен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пишите сочинение по данному началу. Озаглавьте свой текс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384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384" fill="hold"/>
                                        <p:tgtEl>
                                          <p:spTgt spid="10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384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384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.А.Жуковский о Пушк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9" name="Picture 4" descr="pushkin_02"/>
          <p:cNvPicPr/>
          <p:nvPr/>
        </p:nvPicPr>
        <p:blipFill>
          <a:blip r:embed="rId1"/>
          <a:stretch/>
        </p:blipFill>
        <p:spPr>
          <a:xfrm>
            <a:off x="1066680" y="1400040"/>
            <a:ext cx="7086600" cy="401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68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68" fill="hold"/>
                                        <p:tgtEl>
                                          <p:spTgt spid="10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68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68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998"/>
                            </p:stCondLst>
                            <p:childTnLst>
                              <p:par>
                                <p:cTn id="4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отрывок из письма В.А.Жуковского, определите тему, основную мысл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Я сделал ещё приятное знакомство с нашим молодым чудотворцем Пушкиным. Милое живое творенье!.. Это надежда нашей словесности. Нам всем надобно соединиться, чтобы помочь вырасти этому будущему гиганту, который всех нас перерастет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768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1" dur="768" fill="hold"/>
                                        <p:tgtEl>
                                          <p:spTgt spid="10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3" dur="768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5" dur="768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998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те зада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окажите, что это связный текст. Какие языковые средства усиливают смысловую связь предложе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ъясните значение сло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гиган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ловеснос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ие языковые средства в высказывании Жуковского помогают выразить чувство восхищения? Какие слова содержат высокую оценку? Какова роль восклицательного предложения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йдите в тексте односоставные предложения, определите их вид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олните разные виды разбор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оставьте схему последнего предложения, произведите его синтаксический разбо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пишите данный отрывок, включив его в предложение с прямой речь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384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384" fill="hold"/>
                                        <p:tgtEl>
                                          <p:spTgt spid="10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384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384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0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0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0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0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0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0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.Северянин о Пушк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5" name="Picture 6" descr="otv_38"/>
          <p:cNvPicPr/>
          <p:nvPr/>
        </p:nvPicPr>
        <p:blipFill>
          <a:blip r:embed="rId1"/>
          <a:stretch/>
        </p:blipFill>
        <p:spPr>
          <a:xfrm>
            <a:off x="3301920" y="1555920"/>
            <a:ext cx="2540160" cy="374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768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768" fill="hold"/>
                                        <p:tgtEl>
                                          <p:spTgt spid="10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7" dur="768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9" dur="768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998"/>
                            </p:stCondLst>
                            <p:childTnLst>
                              <p:par>
                                <p:cTn id="5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ьтесь к выразительному чтению стихотворения И.Северяни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590920" y="12189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н – это чудное мгновенье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печатленное в век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н – воплощенье вдохновенья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перед ним бессилен пр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Лишь он один из всех живущ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е стал, скончавшись, мертвецом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н вечно жив во всех поющи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 смерть здесь не звучит «концом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 его созданьях красота вед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казывает вечный ли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го нам мертвым не представ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ебе, - и этим он вели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768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768" fill="hold"/>
                                        <p:tgtEl>
                                          <p:spTgt spid="10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9" dur="768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1" dur="768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998"/>
                            </p:stCondLst>
                            <p:childTnLst>
                              <p:par>
                                <p:cTn id="5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0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0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0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0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е зада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акова основная мысль текс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ъясните значение сло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дохновень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площенье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ах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пишите ряд синонимов к наречию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чн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Запомните их правописани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изведите разбор по составу употребленных в тексте однокоренных сло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чн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(наречие)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чны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Можно ли эти слова назвать ключевыми для этого текс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олните задание по выбору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) напишите, какие известные орфографические правила можно проиллюстрировать примерами из текст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) подчеркните имена прилагательные как члены предложения. Подготовьтесь рассказать о синтаксической роли полных и кратких прилагательных, используя примеры из текст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) выпишите существительные 2-го склон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6.      Выучите стихотворение наизус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84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384" fill="hold"/>
                                        <p:tgtEl>
                                          <p:spTgt spid="10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384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384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6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7000"/>
                            </p:stCondLst>
                            <p:childTnLst>
                              <p:par>
                                <p:cTn id="6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800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90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.В.Гоголь о Пушк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4" name="Picture 16" descr="pushkin1"/>
          <p:cNvPicPr/>
          <p:nvPr/>
        </p:nvPicPr>
        <p:blipFill>
          <a:blip r:embed="rId1"/>
          <a:stretch/>
        </p:blipFill>
        <p:spPr>
          <a:xfrm>
            <a:off x="2571840" y="949320"/>
            <a:ext cx="4000320" cy="495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лож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АРАФРАЗ(А)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т гр. Paraphrasis) - описательный оборот, описание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Русский национальный поэ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Явление чрезвычайно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Русский человек в его развит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еликий поэ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Русский поэ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олодой чудотворец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илое живое творень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Надежда нашей словесно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Будущий гиган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Чудное мгновень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оплощенье вдохновень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Rectangle 4"/>
          <p:cNvSpPr/>
          <p:nvPr/>
        </p:nvSpPr>
        <p:spPr>
          <a:xfrm>
            <a:off x="1981080" y="76212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варь парафраз о А.С.Пушкин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9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6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800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8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800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800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800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800" fill="hold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800" fill="hold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800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800" fill="hold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800" fill="hold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1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1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1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1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800"/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800"/>
                                        <p:tgtEl>
                                          <p:spTgt spid="10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0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0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0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800"/>
                                        <p:tgtEl>
                                          <p:spTgt spid="10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800" fill="hold"/>
                                        <p:tgtEl>
                                          <p:spTgt spid="10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800" fill="hold"/>
                                        <p:tgtEl>
                                          <p:spTgt spid="10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00" fill="hold"/>
                                        <p:tgtEl>
                                          <p:spTgt spid="10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800"/>
                                        <p:tgtEl>
                                          <p:spTgt spid="10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10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10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800" fill="hold"/>
                                        <p:tgtEl>
                                          <p:spTgt spid="10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800"/>
                                        <p:tgtEl>
                                          <p:spTgt spid="10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800" fill="hold"/>
                                        <p:tgtEl>
                                          <p:spTgt spid="10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0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0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800"/>
                                        <p:tgtEl>
                                          <p:spTgt spid="10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10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10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00" fill="hold"/>
                                        <p:tgtEl>
                                          <p:spTgt spid="10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4" name="Picture 4" descr="74"/>
          <p:cNvPicPr/>
          <p:nvPr/>
        </p:nvPicPr>
        <p:blipFill>
          <a:blip r:embed="rId1"/>
          <a:stretch/>
        </p:blipFill>
        <p:spPr>
          <a:xfrm>
            <a:off x="1979640" y="2205000"/>
            <a:ext cx="3736800" cy="346392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6"/>
          <p:cNvSpPr/>
          <p:nvPr/>
        </p:nvSpPr>
        <p:spPr>
          <a:xfrm rot="20705400">
            <a:off x="4648320" y="1752480"/>
            <a:ext cx="2520720" cy="1368720"/>
          </a:xfrm>
          <a:prstGeom prst="wedgeEllipseCallout">
            <a:avLst>
              <a:gd name="adj1" fmla="val -71009"/>
              <a:gd name="adj2" fmla="val 5156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Text Box 7"/>
          <p:cNvSpPr/>
          <p:nvPr/>
        </p:nvSpPr>
        <p:spPr>
          <a:xfrm>
            <a:off x="4863960" y="24019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Text Box 8"/>
          <p:cNvSpPr/>
          <p:nvPr/>
        </p:nvSpPr>
        <p:spPr>
          <a:xfrm rot="20521200">
            <a:off x="4942440" y="1818000"/>
            <a:ext cx="191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doni MT Black"/>
              </a:rPr>
              <a:t>До свидания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текст, определите его тему, основную мысл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и им..ни Пушкина тотчас осеняет мысль о русском национальном поэте. В самом деле, (н..)кто из поэтов наших не выше его и не может более назва..ся национальным; это право решительно пр..надлежит ему. В нём, как будто в лексиконе, заключилось всё б..гатство, сила и ги..кость нашего языка. Он более всех, он далее раздвинул ему границы и более показал всё его пр..странство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ушкин есть явление чрезвычайное и, может быть, единственное явление русского духа: это русский человек в его развити.., в каком он, может быть, яви..ся через двести лет. В нём русская природа, русская душа, русский язык, русский характер отразились в такой(же) чистоте, в такой очище..ой красоте, в какой отражается ландшафт на выпуклой п..верхности оптического стекл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те зада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ерепишите текст. Вставьте пропущенные буквы, раскройте скобки, выделите орфограм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ишите из текста ключевые слова и словосочет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бъясните значение слов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андшаф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сеняе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В каких значениях они употребляются в текст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берите синоним к слову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отчас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ишите из текста предложение с вводным словом. Произведите его пунктуационный разбор. Придумайте и запишите предложение, в котором слово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ожет быть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не является вводным слов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пишите сочинение-миниатюр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84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84" fill="hold"/>
                                        <p:tgtEl>
                                          <p:spTgt spid="10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384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384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.Герцен о Пушк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0" name="Picture 4" descr="44511881_1243779782_pushkinkiprenskiy"/>
          <p:cNvPicPr/>
          <p:nvPr/>
        </p:nvPicPr>
        <p:blipFill>
          <a:blip r:embed="rId1"/>
          <a:stretch/>
        </p:blipFill>
        <p:spPr>
          <a:xfrm>
            <a:off x="3387600" y="2057400"/>
            <a:ext cx="2368800" cy="274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текст, определите его тему, основную мысл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ушкин как нельзя более национален и в то же время п..нятен для иностранцев. Он ре..ко по..делывает..ся под родной язык русских песен он выражает свою мысль такой какой она возникает у него в уме. Как все великие поэты он всегда на ур..вне своего читателя: он р..стёт, становит..ся мрачен, грозен, трагичен; его стих шумит, как море, как лес, в..лнуемый бурею, но в то же время он ясен, светел, сверкающ, жаждет насл..ждений, душевных в..лнений. Везде русский поэт реален, - в нём нет ничего болезне..ого, ничего из той пр..увеличенной психол..гической патологии, из того абстрактного христианского спиритуализма которые так часто встречают..ся у немецких поэтов. Его муза - не бледное существо, с расстрое..ыми нервами, закута..ое в саван, а пылкая женщина сияющая зд..ровьем слишком богатая подли..ыми чувствами чтобы искать поддельных, и достаточно несчастная чтобы иметь нужду в выдума..ых несчастья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84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384" fill="hold"/>
                                        <p:tgtEl>
                                          <p:spTgt spid="10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384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384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870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ыполните задания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ставьте пропущенные буквы, выделите орфограмм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асставьте недостающие знаки препинания, объясните их постановк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ишите из текста краткие прилагательные. Какую роль они выполняют в текст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ишите из текста причастия, произведите их разбор по состав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полните синтаксический разбор третьего предложения. Расскажите об употреблении двоеточия в бессоюзном сложном предложе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дготовьтесь к выразительному чтению текст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84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384" fill="hold"/>
                                        <p:tgtEl>
                                          <p:spTgt spid="10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384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384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.Тургенев о Пушкин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6" name="Picture 7" descr="590_2-5988"/>
          <p:cNvPicPr/>
          <p:nvPr/>
        </p:nvPicPr>
        <p:blipFill>
          <a:blip r:embed="rId1"/>
          <a:stretch/>
        </p:blipFill>
        <p:spPr>
          <a:xfrm>
            <a:off x="3143160" y="1528920"/>
            <a:ext cx="2857680" cy="38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8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текст. Определите его тему, основную мысл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слуги Пушкина перед Россией велики и достойны народной пр..знательности. Он дал ок..нчательную обработку нашему языку, который теперь по своему богатству, сил.., логик.. и красоте формы признает..ся даже иностранными филологами едва ли н.. первым после древн..греческого; он от..звался типическими образами, бе..смертными звуками на все веяния русской жизни. Он первый, наконец, водрузил могуч..й рукою знамя поэзии глубоко в русскую землю… Сияй же, как он, благородный медный лик, воздвигнутый в самом сердце древн..й столицы, и гласи грядущим п..к..лениям о нашем праве называт..ся великим народом потому, что среди этого народа родился, в ряду других великих, и такой челове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84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384" fill="hold"/>
                                        <p:tgtEl>
                                          <p:spTgt spid="10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384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384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11T17:44:30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