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2412-1E98-4481-82B3-A8AD7884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CB8C-5C5A-4952-A640-A594339F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A40-7BB8-4B8E-8501-FD4F7724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1206-1E4D-4330-8904-187DAFCD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91B3-BE09-45B6-890F-42834DF2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0E90-5D56-4B34-8FEA-30308AC9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634B-15DD-4324-8E36-24740ABF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F655-DE51-4766-9141-7266574E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FD7C-DC50-477A-A5C2-F6634B50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52DE-6616-4D70-A1A7-2AFA90A8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789-FDE4-41E6-9DA5-EF17746F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5F35-71AB-411A-8701-4983D9E7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972F-5CEC-41A7-90D6-B07AD05E3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enagold.ru/" TargetMode="External"/><Relationship Id="rId3" Type="http://schemas.openxmlformats.org/officeDocument/2006/relationships/hyperlink" Target="http://www.lenagold.ru/" TargetMode="External"/><Relationship Id="rId4" Type="http://schemas.openxmlformats.org/officeDocument/2006/relationships/hyperlink" Target="http://www.lenagold.ru/" TargetMode="External"/><Relationship Id="rId5" Type="http://schemas.openxmlformats.org/officeDocument/2006/relationships/hyperlink" Target="http://www.lenagold.ru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273600"/>
            <a:ext cx="6049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Родной мой край! Ты очень слав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Куда ни глянь - леса,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Природа просто распис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И это - Родина мо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хеева 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56000" y="3357720"/>
            <a:ext cx="4392360" cy="2850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Безимени-2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72360" y="260280"/>
            <a:ext cx="792360" cy="3222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Улица «Практическа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Безимени-2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792360" cy="322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Безимени-2тм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308720" y="260280"/>
            <a:ext cx="792360" cy="325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835280" y="147780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Выпишите слова с чередующимися гласными в корне слова. От чего зависит правописание гласны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Выпишите слова с проверяемыми гласными в корне сл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Выпишите слова с непроверяемыми гласными в корне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3350880"/>
            <a:ext cx="612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препол…гали выехать рано, но зад…ржа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доль д…роги, кроме кустарниковой пор…сли, не было видно никакой другой р…стительности. В полд…нь мы распол…жились на отдых у озера, зар…сшего к…мышом. Заг…релые ребятишки плавали на самой его середине на пл…ту. Солнце п…кло так, что к п..ску нельзя было прик…снуться. В лучах солнца оз…ро  бл…стело, как зерк…ло. Дог…рала в…черняя зорька, когда мы вернулись д…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Безимени-2тм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308720" y="260280"/>
            <a:ext cx="792360" cy="325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Безимени-2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72360" y="260280"/>
            <a:ext cx="792360" cy="322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24000" y="76500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0400" y="1608480"/>
            <a:ext cx="5375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едпол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д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ь  (д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жит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д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ь (д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с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ьности         на пл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́ (пл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ь          п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го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 (о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ё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0240" y="3140640"/>
            <a:ext cx="501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е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к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 (зерк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у́ться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няя (в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(д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4581360"/>
            <a:ext cx="32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д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п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к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06640" y="1677960"/>
            <a:ext cx="314280" cy="109440"/>
          </a:xfrm>
          <a:custGeom>
            <a:avLst/>
            <a:gdLst/>
            <a:ahLst/>
            <a:rect l="l" t="t" r="r" b="b"/>
            <a:pathLst>
              <a:path w="198" h="69">
                <a:moveTo>
                  <a:pt x="0" y="35"/>
                </a:moveTo>
                <a:cubicBezTo>
                  <a:pt x="9" y="29"/>
                  <a:pt x="17" y="22"/>
                  <a:pt x="26" y="18"/>
                </a:cubicBezTo>
                <a:cubicBezTo>
                  <a:pt x="43" y="10"/>
                  <a:pt x="78" y="0"/>
                  <a:pt x="78" y="0"/>
                </a:cubicBezTo>
                <a:cubicBezTo>
                  <a:pt x="125" y="6"/>
                  <a:pt x="198" y="3"/>
                  <a:pt x="198" y="6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28920" y="2019240"/>
            <a:ext cx="299880" cy="55800"/>
          </a:xfrm>
          <a:custGeom>
            <a:avLst/>
            <a:gdLst/>
            <a:ahLst/>
            <a:rect l="l" t="t" r="r" b="b"/>
            <a:pathLst>
              <a:path w="189" h="35">
                <a:moveTo>
                  <a:pt x="0" y="18"/>
                </a:moveTo>
                <a:cubicBezTo>
                  <a:pt x="65" y="1"/>
                  <a:pt x="64" y="0"/>
                  <a:pt x="146" y="9"/>
                </a:cubicBezTo>
                <a:cubicBezTo>
                  <a:pt x="152" y="15"/>
                  <a:pt x="157" y="22"/>
                  <a:pt x="164" y="26"/>
                </a:cubicBezTo>
                <a:cubicBezTo>
                  <a:pt x="172" y="31"/>
                  <a:pt x="189" y="35"/>
                  <a:pt x="189" y="3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16080" y="2289240"/>
            <a:ext cx="422280" cy="85680"/>
          </a:xfrm>
          <a:custGeom>
            <a:avLst/>
            <a:gdLst/>
            <a:ahLst/>
            <a:rect l="l" t="t" r="r" b="b"/>
            <a:pathLst>
              <a:path w="266" h="54">
                <a:moveTo>
                  <a:pt x="0" y="54"/>
                </a:moveTo>
                <a:cubicBezTo>
                  <a:pt x="44" y="45"/>
                  <a:pt x="77" y="24"/>
                  <a:pt x="120" y="11"/>
                </a:cubicBezTo>
                <a:cubicBezTo>
                  <a:pt x="238" y="19"/>
                  <a:pt x="212" y="0"/>
                  <a:pt x="266" y="5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0200" y="2560680"/>
            <a:ext cx="355680" cy="128520"/>
          </a:xfrm>
          <a:custGeom>
            <a:avLst/>
            <a:gdLst/>
            <a:ahLst/>
            <a:rect l="l" t="t" r="r" b="b"/>
            <a:pathLst>
              <a:path w="224" h="81">
                <a:moveTo>
                  <a:pt x="0" y="55"/>
                </a:moveTo>
                <a:cubicBezTo>
                  <a:pt x="55" y="0"/>
                  <a:pt x="71" y="22"/>
                  <a:pt x="164" y="29"/>
                </a:cubicBezTo>
                <a:cubicBezTo>
                  <a:pt x="188" y="38"/>
                  <a:pt x="191" y="35"/>
                  <a:pt x="207" y="55"/>
                </a:cubicBezTo>
                <a:cubicBezTo>
                  <a:pt x="214" y="63"/>
                  <a:pt x="224" y="81"/>
                  <a:pt x="224" y="8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92480" y="2886120"/>
            <a:ext cx="287280" cy="88920"/>
          </a:xfrm>
          <a:custGeom>
            <a:avLst/>
            <a:gdLst/>
            <a:ahLst/>
            <a:rect l="l" t="t" r="r" b="b"/>
            <a:pathLst>
              <a:path w="181" h="56">
                <a:moveTo>
                  <a:pt x="0" y="56"/>
                </a:moveTo>
                <a:cubicBezTo>
                  <a:pt x="20" y="25"/>
                  <a:pt x="34" y="16"/>
                  <a:pt x="69" y="5"/>
                </a:cubicBezTo>
                <a:cubicBezTo>
                  <a:pt x="104" y="9"/>
                  <a:pt x="145" y="0"/>
                  <a:pt x="172" y="22"/>
                </a:cubicBezTo>
                <a:cubicBezTo>
                  <a:pt x="179" y="28"/>
                  <a:pt x="181" y="48"/>
                  <a:pt x="181" y="4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06520" y="3213000"/>
            <a:ext cx="300240" cy="88920"/>
          </a:xfrm>
          <a:custGeom>
            <a:avLst/>
            <a:gdLst/>
            <a:ahLst/>
            <a:rect l="l" t="t" r="r" b="b"/>
            <a:pathLst>
              <a:path w="189" h="56">
                <a:moveTo>
                  <a:pt x="0" y="39"/>
                </a:moveTo>
                <a:cubicBezTo>
                  <a:pt x="77" y="0"/>
                  <a:pt x="37" y="3"/>
                  <a:pt x="146" y="13"/>
                </a:cubicBezTo>
                <a:cubicBezTo>
                  <a:pt x="155" y="19"/>
                  <a:pt x="165" y="24"/>
                  <a:pt x="172" y="31"/>
                </a:cubicBezTo>
                <a:cubicBezTo>
                  <a:pt x="179" y="38"/>
                  <a:pt x="189" y="56"/>
                  <a:pt x="189" y="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38360" y="3524400"/>
            <a:ext cx="341280" cy="79200"/>
          </a:xfrm>
          <a:custGeom>
            <a:avLst/>
            <a:gdLst/>
            <a:ahLst/>
            <a:rect l="l" t="t" r="r" b="b"/>
            <a:pathLst>
              <a:path w="215" h="50">
                <a:moveTo>
                  <a:pt x="0" y="50"/>
                </a:moveTo>
                <a:cubicBezTo>
                  <a:pt x="21" y="27"/>
                  <a:pt x="39" y="16"/>
                  <a:pt x="69" y="7"/>
                </a:cubicBezTo>
                <a:cubicBezTo>
                  <a:pt x="130" y="12"/>
                  <a:pt x="174" y="0"/>
                  <a:pt x="215" y="4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84480" y="3789360"/>
            <a:ext cx="517320" cy="114480"/>
          </a:xfrm>
          <a:custGeom>
            <a:avLst/>
            <a:gdLst/>
            <a:ahLst/>
            <a:rect l="l" t="t" r="r" b="b"/>
            <a:pathLst>
              <a:path w="326" h="117">
                <a:moveTo>
                  <a:pt x="0" y="82"/>
                </a:moveTo>
                <a:cubicBezTo>
                  <a:pt x="31" y="72"/>
                  <a:pt x="53" y="56"/>
                  <a:pt x="85" y="48"/>
                </a:cubicBezTo>
                <a:cubicBezTo>
                  <a:pt x="135" y="0"/>
                  <a:pt x="199" y="26"/>
                  <a:pt x="266" y="31"/>
                </a:cubicBezTo>
                <a:cubicBezTo>
                  <a:pt x="301" y="54"/>
                  <a:pt x="326" y="71"/>
                  <a:pt x="326" y="11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1920" y="4118040"/>
            <a:ext cx="299880" cy="112680"/>
          </a:xfrm>
          <a:custGeom>
            <a:avLst/>
            <a:gdLst/>
            <a:ahLst/>
            <a:rect l="l" t="t" r="r" b="b"/>
            <a:pathLst>
              <a:path w="189" h="71">
                <a:moveTo>
                  <a:pt x="0" y="62"/>
                </a:moveTo>
                <a:cubicBezTo>
                  <a:pt x="86" y="0"/>
                  <a:pt x="36" y="17"/>
                  <a:pt x="155" y="28"/>
                </a:cubicBezTo>
                <a:cubicBezTo>
                  <a:pt x="183" y="38"/>
                  <a:pt x="189" y="40"/>
                  <a:pt x="189" y="7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0400" y="1614600"/>
            <a:ext cx="463320" cy="13176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75"/>
                </a:moveTo>
                <a:cubicBezTo>
                  <a:pt x="33" y="42"/>
                  <a:pt x="59" y="28"/>
                  <a:pt x="103" y="15"/>
                </a:cubicBezTo>
                <a:cubicBezTo>
                  <a:pt x="213" y="21"/>
                  <a:pt x="226" y="0"/>
                  <a:pt x="284" y="58"/>
                </a:cubicBezTo>
                <a:cubicBezTo>
                  <a:pt x="287" y="66"/>
                  <a:pt x="292" y="83"/>
                  <a:pt x="292" y="8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76840" y="2001960"/>
            <a:ext cx="353880" cy="85680"/>
          </a:xfrm>
          <a:custGeom>
            <a:avLst/>
            <a:gdLst/>
            <a:ahLst/>
            <a:rect l="l" t="t" r="r" b="b"/>
            <a:pathLst>
              <a:path w="223" h="54">
                <a:moveTo>
                  <a:pt x="0" y="54"/>
                </a:moveTo>
                <a:cubicBezTo>
                  <a:pt x="9" y="46"/>
                  <a:pt x="16" y="35"/>
                  <a:pt x="26" y="29"/>
                </a:cubicBezTo>
                <a:cubicBezTo>
                  <a:pt x="42" y="20"/>
                  <a:pt x="77" y="11"/>
                  <a:pt x="77" y="11"/>
                </a:cubicBezTo>
                <a:cubicBezTo>
                  <a:pt x="212" y="20"/>
                  <a:pt x="168" y="0"/>
                  <a:pt x="223" y="2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94400" y="2319480"/>
            <a:ext cx="607680" cy="96840"/>
          </a:xfrm>
          <a:custGeom>
            <a:avLst/>
            <a:gdLst/>
            <a:ahLst/>
            <a:rect l="l" t="t" r="r" b="b"/>
            <a:pathLst>
              <a:path w="383" h="61">
                <a:moveTo>
                  <a:pt x="0" y="61"/>
                </a:moveTo>
                <a:cubicBezTo>
                  <a:pt x="29" y="19"/>
                  <a:pt x="81" y="13"/>
                  <a:pt x="129" y="0"/>
                </a:cubicBezTo>
                <a:cubicBezTo>
                  <a:pt x="181" y="3"/>
                  <a:pt x="233" y="4"/>
                  <a:pt x="284" y="9"/>
                </a:cubicBezTo>
                <a:cubicBezTo>
                  <a:pt x="383" y="19"/>
                  <a:pt x="280" y="18"/>
                  <a:pt x="318" y="1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81560" y="2565360"/>
            <a:ext cx="533520" cy="136440"/>
          </a:xfrm>
          <a:custGeom>
            <a:avLst/>
            <a:gdLst/>
            <a:ahLst/>
            <a:rect l="l" t="t" r="r" b="b"/>
            <a:pathLst>
              <a:path w="336" h="86">
                <a:moveTo>
                  <a:pt x="0" y="86"/>
                </a:moveTo>
                <a:cubicBezTo>
                  <a:pt x="27" y="58"/>
                  <a:pt x="41" y="55"/>
                  <a:pt x="77" y="43"/>
                </a:cubicBezTo>
                <a:cubicBezTo>
                  <a:pt x="336" y="57"/>
                  <a:pt x="208" y="0"/>
                  <a:pt x="249" y="78"/>
                </a:cubicBezTo>
                <a:cubicBezTo>
                  <a:pt x="251" y="82"/>
                  <a:pt x="255" y="83"/>
                  <a:pt x="258" y="8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08560" y="2905200"/>
            <a:ext cx="463320" cy="69840"/>
          </a:xfrm>
          <a:custGeom>
            <a:avLst/>
            <a:gdLst/>
            <a:ahLst/>
            <a:rect l="l" t="t" r="r" b="b"/>
            <a:pathLst>
              <a:path w="292" h="70">
                <a:moveTo>
                  <a:pt x="0" y="70"/>
                </a:moveTo>
                <a:cubicBezTo>
                  <a:pt x="44" y="41"/>
                  <a:pt x="52" y="14"/>
                  <a:pt x="103" y="1"/>
                </a:cubicBezTo>
                <a:cubicBezTo>
                  <a:pt x="152" y="4"/>
                  <a:pt x="201" y="0"/>
                  <a:pt x="249" y="10"/>
                </a:cubicBezTo>
                <a:cubicBezTo>
                  <a:pt x="271" y="14"/>
                  <a:pt x="292" y="62"/>
                  <a:pt x="292" y="6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81560" y="3176640"/>
            <a:ext cx="709560" cy="208080"/>
          </a:xfrm>
          <a:custGeom>
            <a:avLst/>
            <a:gdLst/>
            <a:ahLst/>
            <a:rect l="l" t="t" r="r" b="b"/>
            <a:pathLst>
              <a:path w="447" h="131">
                <a:moveTo>
                  <a:pt x="0" y="131"/>
                </a:moveTo>
                <a:cubicBezTo>
                  <a:pt x="20" y="101"/>
                  <a:pt x="33" y="82"/>
                  <a:pt x="68" y="71"/>
                </a:cubicBezTo>
                <a:cubicBezTo>
                  <a:pt x="100" y="41"/>
                  <a:pt x="139" y="41"/>
                  <a:pt x="180" y="28"/>
                </a:cubicBezTo>
                <a:cubicBezTo>
                  <a:pt x="191" y="28"/>
                  <a:pt x="409" y="0"/>
                  <a:pt x="447" y="7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27640" y="3500280"/>
            <a:ext cx="517320" cy="114480"/>
          </a:xfrm>
          <a:custGeom>
            <a:avLst/>
            <a:gdLst/>
            <a:ahLst/>
            <a:rect l="l" t="t" r="r" b="b"/>
            <a:pathLst>
              <a:path w="326" h="117">
                <a:moveTo>
                  <a:pt x="0" y="82"/>
                </a:moveTo>
                <a:cubicBezTo>
                  <a:pt x="31" y="72"/>
                  <a:pt x="53" y="56"/>
                  <a:pt x="85" y="48"/>
                </a:cubicBezTo>
                <a:cubicBezTo>
                  <a:pt x="135" y="0"/>
                  <a:pt x="199" y="26"/>
                  <a:pt x="266" y="31"/>
                </a:cubicBezTo>
                <a:cubicBezTo>
                  <a:pt x="301" y="54"/>
                  <a:pt x="326" y="71"/>
                  <a:pt x="326" y="11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789360"/>
            <a:ext cx="299880" cy="112680"/>
          </a:xfrm>
          <a:custGeom>
            <a:avLst/>
            <a:gdLst/>
            <a:ahLst/>
            <a:rect l="l" t="t" r="r" b="b"/>
            <a:pathLst>
              <a:path w="189" h="71">
                <a:moveTo>
                  <a:pt x="0" y="62"/>
                </a:moveTo>
                <a:cubicBezTo>
                  <a:pt x="86" y="0"/>
                  <a:pt x="36" y="17"/>
                  <a:pt x="155" y="28"/>
                </a:cubicBezTo>
                <a:cubicBezTo>
                  <a:pt x="183" y="38"/>
                  <a:pt x="189" y="40"/>
                  <a:pt x="189" y="7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08360" y="4581360"/>
            <a:ext cx="517680" cy="114480"/>
          </a:xfrm>
          <a:custGeom>
            <a:avLst/>
            <a:gdLst/>
            <a:ahLst/>
            <a:rect l="l" t="t" r="r" b="b"/>
            <a:pathLst>
              <a:path w="326" h="117">
                <a:moveTo>
                  <a:pt x="0" y="82"/>
                </a:moveTo>
                <a:cubicBezTo>
                  <a:pt x="31" y="72"/>
                  <a:pt x="53" y="56"/>
                  <a:pt x="85" y="48"/>
                </a:cubicBezTo>
                <a:cubicBezTo>
                  <a:pt x="135" y="0"/>
                  <a:pt x="199" y="26"/>
                  <a:pt x="266" y="31"/>
                </a:cubicBezTo>
                <a:cubicBezTo>
                  <a:pt x="301" y="54"/>
                  <a:pt x="326" y="71"/>
                  <a:pt x="326" y="11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80000" y="4941720"/>
            <a:ext cx="647640" cy="142920"/>
          </a:xfrm>
          <a:custGeom>
            <a:avLst/>
            <a:gdLst/>
            <a:ahLst/>
            <a:rect l="l" t="t" r="r" b="b"/>
            <a:pathLst>
              <a:path w="326" h="117">
                <a:moveTo>
                  <a:pt x="0" y="82"/>
                </a:moveTo>
                <a:cubicBezTo>
                  <a:pt x="31" y="72"/>
                  <a:pt x="53" y="56"/>
                  <a:pt x="85" y="48"/>
                </a:cubicBezTo>
                <a:cubicBezTo>
                  <a:pt x="135" y="0"/>
                  <a:pt x="199" y="26"/>
                  <a:pt x="266" y="31"/>
                </a:cubicBezTo>
                <a:cubicBezTo>
                  <a:pt x="301" y="54"/>
                  <a:pt x="326" y="71"/>
                  <a:pt x="326" y="11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5229360"/>
            <a:ext cx="504720" cy="71280"/>
          </a:xfrm>
          <a:custGeom>
            <a:avLst/>
            <a:gdLst/>
            <a:ahLst/>
            <a:rect l="l" t="t" r="r" b="b"/>
            <a:pathLst>
              <a:path w="326" h="117">
                <a:moveTo>
                  <a:pt x="0" y="82"/>
                </a:moveTo>
                <a:cubicBezTo>
                  <a:pt x="31" y="72"/>
                  <a:pt x="53" y="56"/>
                  <a:pt x="85" y="48"/>
                </a:cubicBezTo>
                <a:cubicBezTo>
                  <a:pt x="135" y="0"/>
                  <a:pt x="199" y="26"/>
                  <a:pt x="266" y="31"/>
                </a:cubicBezTo>
                <a:cubicBezTo>
                  <a:pt x="301" y="54"/>
                  <a:pt x="326" y="71"/>
                  <a:pt x="326" y="11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Улица «Игрова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Безимени-2тм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308720" y="260280"/>
            <a:ext cx="792360" cy="32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Безимени-2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72360" y="260280"/>
            <a:ext cx="792360" cy="322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908000" y="1942200"/>
            <a:ext cx="568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Игра с буквами и сло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до отгадать слова, в которых нет никаких гласных, кроме «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Безимени-2тм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308720" y="260280"/>
            <a:ext cx="792360" cy="325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Безимени-2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72360" y="260280"/>
            <a:ext cx="792360" cy="322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63640" y="692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Улица «Сообразительна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19280" y="134136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Орфоло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771640" y="2060640"/>
          <a:ext cx="3024360" cy="1152360"/>
        </p:xfrm>
        <a:graphic>
          <a:graphicData uri="http://schemas.openxmlformats.org/drawingml/2006/table">
            <a:tbl>
              <a:tblPr/>
              <a:tblGrid>
                <a:gridCol w="1582920"/>
                <a:gridCol w="144144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гор- / -гар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кос- / -кас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ст- / -рос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ер- /-мир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771640" y="3429000"/>
          <a:ext cx="3024360" cy="1093680"/>
        </p:xfrm>
        <a:graphic>
          <a:graphicData uri="http://schemas.openxmlformats.org/drawingml/2006/table">
            <a:tbl>
              <a:tblPr/>
              <a:tblGrid>
                <a:gridCol w="1582920"/>
                <a:gridCol w="1441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лож- / -лаг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пир- / -пер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гор- / -гар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стел- /-стил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771640" y="4797360"/>
          <a:ext cx="3024360" cy="1069920"/>
        </p:xfrm>
        <a:graphic>
          <a:graphicData uri="http://schemas.openxmlformats.org/drawingml/2006/table">
            <a:tbl>
              <a:tblPr/>
              <a:tblGrid>
                <a:gridCol w="1584360"/>
                <a:gridCol w="14400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ир- / -пер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кос- / -кас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лож- / -лаг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гор- /-гар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332000" y="1989000"/>
            <a:ext cx="64800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Безимени-2тм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956720" y="189000"/>
            <a:ext cx="792000" cy="325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Naru\Desktop\00090717_b.jpg"/>
          <p:cNvPicPr/>
          <p:nvPr/>
        </p:nvPicPr>
        <p:blipFill>
          <a:blip r:embed="rId3"/>
          <a:stretch/>
        </p:blipFill>
        <p:spPr>
          <a:xfrm>
            <a:off x="2340000" y="2924280"/>
            <a:ext cx="4753080" cy="3498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050920" y="476280"/>
            <a:ext cx="50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Станция «Конечна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126828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Д/з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30 (правило), упр. 147 (сформулировать правил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10800" y="6048"/>
                </a:moveTo>
                <a:lnTo>
                  <a:pt x="13376" y="8659"/>
                </a:ln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lnTo>
                  <a:pt x="17763" y="13011"/>
                </a:lnTo>
                <a:lnTo>
                  <a:pt x="16109" y="13011"/>
                </a:lnTo>
                <a:lnTo>
                  <a:pt x="16109" y="20200"/>
                </a:lnTo>
                <a:lnTo>
                  <a:pt x="5491" y="20200"/>
                </a:lnTo>
                <a:lnTo>
                  <a:pt x="5491" y="13011"/>
                </a:lnTo>
                <a:lnTo>
                  <a:pt x="3837" y="13011"/>
                </a:lnTo>
                <a:close/>
              </a:path>
              <a:path fill="darkenLess" w="21600" h="26022">
                <a:moveTo>
                  <a:pt x="13376" y="8659"/>
                </a:move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close/>
              </a:path>
              <a:path fill="darkenLess" w="21600" h="26022">
                <a:moveTo>
                  <a:pt x="9877" y="16510"/>
                </a:moveTo>
                <a:lnTo>
                  <a:pt x="11723" y="16510"/>
                </a:lnTo>
                <a:lnTo>
                  <a:pt x="11723" y="20200"/>
                </a:lnTo>
                <a:lnTo>
                  <a:pt x="16109" y="20200"/>
                </a:lnTo>
                <a:lnTo>
                  <a:pt x="16109" y="13011"/>
                </a:lnTo>
                <a:lnTo>
                  <a:pt x="5491" y="13011"/>
                </a:lnTo>
                <a:lnTo>
                  <a:pt x="5491" y="20200"/>
                </a:lnTo>
                <a:lnTo>
                  <a:pt x="9877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979280" y="620280"/>
            <a:ext cx="5329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 можете использовать данное оформление для создания своих презентаций, но в своей презентации вы должны указать источник шабл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Хамадиева Наталья Александровна учитель-логоп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ОУ лицей «Синтон», г Чайковский Пермского края, для сайта </a:t>
            </a:r>
            <a:r>
              <a:rPr b="0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http</a:t>
            </a:r>
            <a:r>
              <a:rPr b="0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://</a:t>
            </a:r>
            <a:r>
              <a:rPr b="0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pedsovet.su</a:t>
            </a:r>
            <a:r>
              <a:rPr b="0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ные ресур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пар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cc3300"/>
                </a:solidFill>
                <a:uFillTx/>
                <a:latin typeface="Arial"/>
                <a:hlinkClick r:id="rId4"/>
              </a:rPr>
              <a:t>www.lenagold.ru</a:t>
            </a:r>
            <a:r>
              <a:rPr b="0" lang="ru-RU" sz="2000" spc="-1" strike="noStrike" u="sng">
                <a:solidFill>
                  <a:srgbClr val="cc3300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н и анимация – авторские (Хамадиева Н.А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Безимени-м с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7"/>
          <p:cNvSpPr txBox="1"/>
          <p:nvPr/>
        </p:nvSpPr>
        <p:spPr>
          <a:xfrm>
            <a:off x="3132000" y="3500280"/>
            <a:ext cx="3888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02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" name="Picture 10" descr="Безимени-2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72360" y="260280"/>
            <a:ext cx="792360" cy="322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Naru\Desktop\Image3.gif"/>
          <p:cNvPicPr/>
          <p:nvPr/>
        </p:nvPicPr>
        <p:blipFill>
          <a:blip r:embed="rId4"/>
          <a:stretch/>
        </p:blipFill>
        <p:spPr>
          <a:xfrm>
            <a:off x="2411280" y="1413000"/>
            <a:ext cx="5400720" cy="3959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Безимени-2тм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308720" y="260280"/>
            <a:ext cx="792360" cy="32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Безимени-2тм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308720" y="260280"/>
            <a:ext cx="792360" cy="325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Безимени-2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72360" y="260280"/>
            <a:ext cx="792360" cy="322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Naru\Desktop\30460041caa3.png"/>
          <p:cNvPicPr/>
          <p:nvPr/>
        </p:nvPicPr>
        <p:blipFill>
          <a:blip r:embed="rId4"/>
          <a:stretch/>
        </p:blipFill>
        <p:spPr>
          <a:xfrm>
            <a:off x="1979640" y="907920"/>
            <a:ext cx="5184720" cy="49244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92000" y="62028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Выпишите слова с пропущенными буквами, вставьте пропущенные гласные, подчеркните и объясните их напис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648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еет с…ло Черноземья,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де р…дился и где я живу.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люблю так его до самозабвенья,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на гор…д большой не смен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е в ст…пной ст…р…не жить приво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вести по-крестьянски д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десь при встрече желают здоров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ждый житель большого с…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д от года оно хорош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гр…бы выр…стают д…м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еет с…ло Чернозем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еет моя ст…р…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Безимени-2тм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308720" y="260280"/>
            <a:ext cx="792360" cy="325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Безимени-2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72360" y="260280"/>
            <a:ext cx="792360" cy="3222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619280" y="549000"/>
            <a:ext cx="684216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ряемые гласные удар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</a:t>
            </a:r>
            <a:r>
              <a:rPr b="1" i="1" lang="en-US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é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ск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ся (р</a:t>
            </a:r>
            <a:r>
              <a:rPr b="1" i="1" lang="en-US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н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й (ст</a:t>
            </a:r>
            <a:r>
              <a:rPr b="1" i="1" lang="en-US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é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(ст</a:t>
            </a:r>
            <a:r>
              <a:rPr b="1" i="1" lang="en-US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оны, стор</a:t>
            </a:r>
            <a:r>
              <a:rPr b="1" i="1" lang="en-US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ы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 (гр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и́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</a:t>
            </a:r>
            <a:r>
              <a:rPr b="1" i="1" lang="en-US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проверяемые гласные удар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Безимени-2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792360" cy="32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Безимени-2тм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308720" y="260280"/>
            <a:ext cx="792360" cy="325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57600" y="1198440"/>
            <a:ext cx="587520" cy="98640"/>
          </a:xfrm>
          <a:custGeom>
            <a:avLst/>
            <a:gdLst/>
            <a:ahLst/>
            <a:rect l="l" t="t" r="r" b="b"/>
            <a:pathLst>
              <a:path w="370" h="62">
                <a:moveTo>
                  <a:pt x="0" y="62"/>
                </a:moveTo>
                <a:cubicBezTo>
                  <a:pt x="17" y="56"/>
                  <a:pt x="36" y="53"/>
                  <a:pt x="52" y="45"/>
                </a:cubicBezTo>
                <a:cubicBezTo>
                  <a:pt x="59" y="41"/>
                  <a:pt x="62" y="31"/>
                  <a:pt x="69" y="27"/>
                </a:cubicBezTo>
                <a:cubicBezTo>
                  <a:pt x="89" y="15"/>
                  <a:pt x="123" y="9"/>
                  <a:pt x="146" y="2"/>
                </a:cubicBezTo>
                <a:cubicBezTo>
                  <a:pt x="186" y="5"/>
                  <a:pt x="228" y="0"/>
                  <a:pt x="267" y="10"/>
                </a:cubicBezTo>
                <a:cubicBezTo>
                  <a:pt x="287" y="15"/>
                  <a:pt x="301" y="33"/>
                  <a:pt x="318" y="45"/>
                </a:cubicBezTo>
                <a:cubicBezTo>
                  <a:pt x="333" y="55"/>
                  <a:pt x="370" y="62"/>
                  <a:pt x="370" y="6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125360"/>
            <a:ext cx="587520" cy="98640"/>
          </a:xfrm>
          <a:custGeom>
            <a:avLst/>
            <a:gdLst/>
            <a:ahLst/>
            <a:rect l="l" t="t" r="r" b="b"/>
            <a:pathLst>
              <a:path w="370" h="62">
                <a:moveTo>
                  <a:pt x="0" y="62"/>
                </a:moveTo>
                <a:cubicBezTo>
                  <a:pt x="17" y="56"/>
                  <a:pt x="36" y="53"/>
                  <a:pt x="52" y="45"/>
                </a:cubicBezTo>
                <a:cubicBezTo>
                  <a:pt x="59" y="41"/>
                  <a:pt x="62" y="31"/>
                  <a:pt x="69" y="27"/>
                </a:cubicBezTo>
                <a:cubicBezTo>
                  <a:pt x="89" y="15"/>
                  <a:pt x="123" y="9"/>
                  <a:pt x="146" y="2"/>
                </a:cubicBezTo>
                <a:cubicBezTo>
                  <a:pt x="186" y="5"/>
                  <a:pt x="228" y="0"/>
                  <a:pt x="267" y="10"/>
                </a:cubicBezTo>
                <a:cubicBezTo>
                  <a:pt x="287" y="15"/>
                  <a:pt x="301" y="33"/>
                  <a:pt x="318" y="45"/>
                </a:cubicBezTo>
                <a:cubicBezTo>
                  <a:pt x="333" y="55"/>
                  <a:pt x="370" y="62"/>
                  <a:pt x="370" y="6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360" y="1773360"/>
            <a:ext cx="587520" cy="98280"/>
          </a:xfrm>
          <a:custGeom>
            <a:avLst/>
            <a:gdLst/>
            <a:ahLst/>
            <a:rect l="l" t="t" r="r" b="b"/>
            <a:pathLst>
              <a:path w="370" h="62">
                <a:moveTo>
                  <a:pt x="0" y="62"/>
                </a:moveTo>
                <a:cubicBezTo>
                  <a:pt x="17" y="56"/>
                  <a:pt x="36" y="53"/>
                  <a:pt x="52" y="45"/>
                </a:cubicBezTo>
                <a:cubicBezTo>
                  <a:pt x="59" y="41"/>
                  <a:pt x="62" y="31"/>
                  <a:pt x="69" y="27"/>
                </a:cubicBezTo>
                <a:cubicBezTo>
                  <a:pt x="89" y="15"/>
                  <a:pt x="123" y="9"/>
                  <a:pt x="146" y="2"/>
                </a:cubicBezTo>
                <a:cubicBezTo>
                  <a:pt x="186" y="5"/>
                  <a:pt x="228" y="0"/>
                  <a:pt x="267" y="10"/>
                </a:cubicBezTo>
                <a:cubicBezTo>
                  <a:pt x="287" y="15"/>
                  <a:pt x="301" y="33"/>
                  <a:pt x="318" y="45"/>
                </a:cubicBezTo>
                <a:cubicBezTo>
                  <a:pt x="333" y="55"/>
                  <a:pt x="370" y="62"/>
                  <a:pt x="370" y="6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19640" y="1700280"/>
            <a:ext cx="587520" cy="98280"/>
          </a:xfrm>
          <a:custGeom>
            <a:avLst/>
            <a:gdLst/>
            <a:ahLst/>
            <a:rect l="l" t="t" r="r" b="b"/>
            <a:pathLst>
              <a:path w="370" h="62">
                <a:moveTo>
                  <a:pt x="0" y="62"/>
                </a:moveTo>
                <a:cubicBezTo>
                  <a:pt x="17" y="56"/>
                  <a:pt x="36" y="53"/>
                  <a:pt x="52" y="45"/>
                </a:cubicBezTo>
                <a:cubicBezTo>
                  <a:pt x="59" y="41"/>
                  <a:pt x="62" y="31"/>
                  <a:pt x="69" y="27"/>
                </a:cubicBezTo>
                <a:cubicBezTo>
                  <a:pt x="89" y="15"/>
                  <a:pt x="123" y="9"/>
                  <a:pt x="146" y="2"/>
                </a:cubicBezTo>
                <a:cubicBezTo>
                  <a:pt x="186" y="5"/>
                  <a:pt x="228" y="0"/>
                  <a:pt x="267" y="10"/>
                </a:cubicBezTo>
                <a:cubicBezTo>
                  <a:pt x="287" y="15"/>
                  <a:pt x="301" y="33"/>
                  <a:pt x="318" y="45"/>
                </a:cubicBezTo>
                <a:cubicBezTo>
                  <a:pt x="333" y="55"/>
                  <a:pt x="370" y="62"/>
                  <a:pt x="370" y="6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64000" y="2276640"/>
            <a:ext cx="833400" cy="190440"/>
          </a:xfrm>
          <a:custGeom>
            <a:avLst/>
            <a:gdLst/>
            <a:ahLst/>
            <a:rect l="l" t="t" r="r" b="b"/>
            <a:pathLst>
              <a:path w="525" h="120">
                <a:moveTo>
                  <a:pt x="0" y="120"/>
                </a:moveTo>
                <a:cubicBezTo>
                  <a:pt x="41" y="79"/>
                  <a:pt x="88" y="59"/>
                  <a:pt x="138" y="34"/>
                </a:cubicBezTo>
                <a:cubicBezTo>
                  <a:pt x="147" y="29"/>
                  <a:pt x="154" y="20"/>
                  <a:pt x="164" y="17"/>
                </a:cubicBezTo>
                <a:cubicBezTo>
                  <a:pt x="194" y="8"/>
                  <a:pt x="227" y="7"/>
                  <a:pt x="258" y="0"/>
                </a:cubicBezTo>
                <a:cubicBezTo>
                  <a:pt x="307" y="6"/>
                  <a:pt x="335" y="11"/>
                  <a:pt x="379" y="25"/>
                </a:cubicBezTo>
                <a:cubicBezTo>
                  <a:pt x="470" y="90"/>
                  <a:pt x="342" y="3"/>
                  <a:pt x="430" y="51"/>
                </a:cubicBezTo>
                <a:cubicBezTo>
                  <a:pt x="463" y="69"/>
                  <a:pt x="491" y="95"/>
                  <a:pt x="525" y="11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35640" y="2205000"/>
            <a:ext cx="833400" cy="190440"/>
          </a:xfrm>
          <a:custGeom>
            <a:avLst/>
            <a:gdLst/>
            <a:ahLst/>
            <a:rect l="l" t="t" r="r" b="b"/>
            <a:pathLst>
              <a:path w="525" h="120">
                <a:moveTo>
                  <a:pt x="0" y="120"/>
                </a:moveTo>
                <a:cubicBezTo>
                  <a:pt x="41" y="79"/>
                  <a:pt x="88" y="59"/>
                  <a:pt x="138" y="34"/>
                </a:cubicBezTo>
                <a:cubicBezTo>
                  <a:pt x="147" y="29"/>
                  <a:pt x="154" y="20"/>
                  <a:pt x="164" y="17"/>
                </a:cubicBezTo>
                <a:cubicBezTo>
                  <a:pt x="194" y="8"/>
                  <a:pt x="227" y="7"/>
                  <a:pt x="258" y="0"/>
                </a:cubicBezTo>
                <a:cubicBezTo>
                  <a:pt x="307" y="6"/>
                  <a:pt x="335" y="11"/>
                  <a:pt x="379" y="25"/>
                </a:cubicBezTo>
                <a:cubicBezTo>
                  <a:pt x="470" y="90"/>
                  <a:pt x="342" y="3"/>
                  <a:pt x="430" y="51"/>
                </a:cubicBezTo>
                <a:cubicBezTo>
                  <a:pt x="463" y="69"/>
                  <a:pt x="491" y="95"/>
                  <a:pt x="525" y="11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2781360"/>
            <a:ext cx="1224000" cy="287280"/>
          </a:xfrm>
          <a:custGeom>
            <a:avLst/>
            <a:gdLst/>
            <a:ahLst/>
            <a:rect l="l" t="t" r="r" b="b"/>
            <a:pathLst>
              <a:path w="525" h="120">
                <a:moveTo>
                  <a:pt x="0" y="120"/>
                </a:moveTo>
                <a:cubicBezTo>
                  <a:pt x="41" y="79"/>
                  <a:pt x="88" y="59"/>
                  <a:pt x="138" y="34"/>
                </a:cubicBezTo>
                <a:cubicBezTo>
                  <a:pt x="147" y="29"/>
                  <a:pt x="154" y="20"/>
                  <a:pt x="164" y="17"/>
                </a:cubicBezTo>
                <a:cubicBezTo>
                  <a:pt x="194" y="8"/>
                  <a:pt x="227" y="7"/>
                  <a:pt x="258" y="0"/>
                </a:cubicBezTo>
                <a:cubicBezTo>
                  <a:pt x="307" y="6"/>
                  <a:pt x="335" y="11"/>
                  <a:pt x="379" y="25"/>
                </a:cubicBezTo>
                <a:cubicBezTo>
                  <a:pt x="470" y="90"/>
                  <a:pt x="342" y="3"/>
                  <a:pt x="430" y="51"/>
                </a:cubicBezTo>
                <a:cubicBezTo>
                  <a:pt x="463" y="69"/>
                  <a:pt x="491" y="95"/>
                  <a:pt x="525" y="11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40360" y="2781360"/>
            <a:ext cx="1223640" cy="287280"/>
          </a:xfrm>
          <a:custGeom>
            <a:avLst/>
            <a:gdLst/>
            <a:ahLst/>
            <a:rect l="l" t="t" r="r" b="b"/>
            <a:pathLst>
              <a:path w="525" h="120">
                <a:moveTo>
                  <a:pt x="0" y="120"/>
                </a:moveTo>
                <a:cubicBezTo>
                  <a:pt x="41" y="79"/>
                  <a:pt x="88" y="59"/>
                  <a:pt x="138" y="34"/>
                </a:cubicBezTo>
                <a:cubicBezTo>
                  <a:pt x="147" y="29"/>
                  <a:pt x="154" y="20"/>
                  <a:pt x="164" y="17"/>
                </a:cubicBezTo>
                <a:cubicBezTo>
                  <a:pt x="194" y="8"/>
                  <a:pt x="227" y="7"/>
                  <a:pt x="258" y="0"/>
                </a:cubicBezTo>
                <a:cubicBezTo>
                  <a:pt x="307" y="6"/>
                  <a:pt x="335" y="11"/>
                  <a:pt x="379" y="25"/>
                </a:cubicBezTo>
                <a:cubicBezTo>
                  <a:pt x="470" y="90"/>
                  <a:pt x="342" y="3"/>
                  <a:pt x="430" y="51"/>
                </a:cubicBezTo>
                <a:cubicBezTo>
                  <a:pt x="463" y="69"/>
                  <a:pt x="491" y="95"/>
                  <a:pt x="525" y="11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2708280"/>
            <a:ext cx="1224000" cy="287280"/>
          </a:xfrm>
          <a:custGeom>
            <a:avLst/>
            <a:gdLst/>
            <a:ahLst/>
            <a:rect l="l" t="t" r="r" b="b"/>
            <a:pathLst>
              <a:path w="525" h="120">
                <a:moveTo>
                  <a:pt x="0" y="120"/>
                </a:moveTo>
                <a:cubicBezTo>
                  <a:pt x="41" y="79"/>
                  <a:pt x="88" y="59"/>
                  <a:pt x="138" y="34"/>
                </a:cubicBezTo>
                <a:cubicBezTo>
                  <a:pt x="147" y="29"/>
                  <a:pt x="154" y="20"/>
                  <a:pt x="164" y="17"/>
                </a:cubicBezTo>
                <a:cubicBezTo>
                  <a:pt x="194" y="8"/>
                  <a:pt x="227" y="7"/>
                  <a:pt x="258" y="0"/>
                </a:cubicBezTo>
                <a:cubicBezTo>
                  <a:pt x="307" y="6"/>
                  <a:pt x="335" y="11"/>
                  <a:pt x="379" y="25"/>
                </a:cubicBezTo>
                <a:cubicBezTo>
                  <a:pt x="470" y="90"/>
                  <a:pt x="342" y="3"/>
                  <a:pt x="430" y="51"/>
                </a:cubicBezTo>
                <a:cubicBezTo>
                  <a:pt x="463" y="69"/>
                  <a:pt x="491" y="95"/>
                  <a:pt x="525" y="11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3429000"/>
            <a:ext cx="833400" cy="190440"/>
          </a:xfrm>
          <a:custGeom>
            <a:avLst/>
            <a:gdLst/>
            <a:ahLst/>
            <a:rect l="l" t="t" r="r" b="b"/>
            <a:pathLst>
              <a:path w="525" h="120">
                <a:moveTo>
                  <a:pt x="0" y="120"/>
                </a:moveTo>
                <a:cubicBezTo>
                  <a:pt x="41" y="79"/>
                  <a:pt x="88" y="59"/>
                  <a:pt x="138" y="34"/>
                </a:cubicBezTo>
                <a:cubicBezTo>
                  <a:pt x="147" y="29"/>
                  <a:pt x="154" y="20"/>
                  <a:pt x="164" y="17"/>
                </a:cubicBezTo>
                <a:cubicBezTo>
                  <a:pt x="194" y="8"/>
                  <a:pt x="227" y="7"/>
                  <a:pt x="258" y="0"/>
                </a:cubicBezTo>
                <a:cubicBezTo>
                  <a:pt x="307" y="6"/>
                  <a:pt x="335" y="11"/>
                  <a:pt x="379" y="25"/>
                </a:cubicBezTo>
                <a:cubicBezTo>
                  <a:pt x="470" y="90"/>
                  <a:pt x="342" y="3"/>
                  <a:pt x="430" y="51"/>
                </a:cubicBezTo>
                <a:cubicBezTo>
                  <a:pt x="463" y="69"/>
                  <a:pt x="491" y="95"/>
                  <a:pt x="525" y="11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9640" y="3357720"/>
            <a:ext cx="833400" cy="190440"/>
          </a:xfrm>
          <a:custGeom>
            <a:avLst/>
            <a:gdLst/>
            <a:ahLst/>
            <a:rect l="l" t="t" r="r" b="b"/>
            <a:pathLst>
              <a:path w="525" h="120">
                <a:moveTo>
                  <a:pt x="0" y="120"/>
                </a:moveTo>
                <a:cubicBezTo>
                  <a:pt x="41" y="79"/>
                  <a:pt x="88" y="59"/>
                  <a:pt x="138" y="34"/>
                </a:cubicBezTo>
                <a:cubicBezTo>
                  <a:pt x="147" y="29"/>
                  <a:pt x="154" y="20"/>
                  <a:pt x="164" y="17"/>
                </a:cubicBezTo>
                <a:cubicBezTo>
                  <a:pt x="194" y="8"/>
                  <a:pt x="227" y="7"/>
                  <a:pt x="258" y="0"/>
                </a:cubicBezTo>
                <a:cubicBezTo>
                  <a:pt x="307" y="6"/>
                  <a:pt x="335" y="11"/>
                  <a:pt x="379" y="25"/>
                </a:cubicBezTo>
                <a:cubicBezTo>
                  <a:pt x="470" y="90"/>
                  <a:pt x="342" y="3"/>
                  <a:pt x="430" y="51"/>
                </a:cubicBezTo>
                <a:cubicBezTo>
                  <a:pt x="463" y="69"/>
                  <a:pt x="491" y="95"/>
                  <a:pt x="525" y="11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95640" y="4005360"/>
            <a:ext cx="833400" cy="190440"/>
          </a:xfrm>
          <a:custGeom>
            <a:avLst/>
            <a:gdLst/>
            <a:ahLst/>
            <a:rect l="l" t="t" r="r" b="b"/>
            <a:pathLst>
              <a:path w="525" h="120">
                <a:moveTo>
                  <a:pt x="0" y="120"/>
                </a:moveTo>
                <a:cubicBezTo>
                  <a:pt x="41" y="79"/>
                  <a:pt x="88" y="59"/>
                  <a:pt x="138" y="34"/>
                </a:cubicBezTo>
                <a:cubicBezTo>
                  <a:pt x="147" y="29"/>
                  <a:pt x="154" y="20"/>
                  <a:pt x="164" y="17"/>
                </a:cubicBezTo>
                <a:cubicBezTo>
                  <a:pt x="194" y="8"/>
                  <a:pt x="227" y="7"/>
                  <a:pt x="258" y="0"/>
                </a:cubicBezTo>
                <a:cubicBezTo>
                  <a:pt x="307" y="6"/>
                  <a:pt x="335" y="11"/>
                  <a:pt x="379" y="25"/>
                </a:cubicBezTo>
                <a:cubicBezTo>
                  <a:pt x="470" y="90"/>
                  <a:pt x="342" y="3"/>
                  <a:pt x="430" y="51"/>
                </a:cubicBezTo>
                <a:cubicBezTo>
                  <a:pt x="463" y="69"/>
                  <a:pt x="491" y="95"/>
                  <a:pt x="525" y="11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48360" y="4076640"/>
            <a:ext cx="718920" cy="144360"/>
          </a:xfrm>
          <a:custGeom>
            <a:avLst/>
            <a:gdLst/>
            <a:ahLst/>
            <a:rect l="l" t="t" r="r" b="b"/>
            <a:pathLst>
              <a:path w="525" h="120">
                <a:moveTo>
                  <a:pt x="0" y="120"/>
                </a:moveTo>
                <a:cubicBezTo>
                  <a:pt x="41" y="79"/>
                  <a:pt x="88" y="59"/>
                  <a:pt x="138" y="34"/>
                </a:cubicBezTo>
                <a:cubicBezTo>
                  <a:pt x="147" y="29"/>
                  <a:pt x="154" y="20"/>
                  <a:pt x="164" y="17"/>
                </a:cubicBezTo>
                <a:cubicBezTo>
                  <a:pt x="194" y="8"/>
                  <a:pt x="227" y="7"/>
                  <a:pt x="258" y="0"/>
                </a:cubicBezTo>
                <a:cubicBezTo>
                  <a:pt x="307" y="6"/>
                  <a:pt x="335" y="11"/>
                  <a:pt x="379" y="25"/>
                </a:cubicBezTo>
                <a:cubicBezTo>
                  <a:pt x="470" y="90"/>
                  <a:pt x="342" y="3"/>
                  <a:pt x="430" y="51"/>
                </a:cubicBezTo>
                <a:cubicBezTo>
                  <a:pt x="463" y="69"/>
                  <a:pt x="491" y="95"/>
                  <a:pt x="525" y="11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5084640"/>
            <a:ext cx="833400" cy="190800"/>
          </a:xfrm>
          <a:custGeom>
            <a:avLst/>
            <a:gdLst/>
            <a:ahLst/>
            <a:rect l="l" t="t" r="r" b="b"/>
            <a:pathLst>
              <a:path w="525" h="120">
                <a:moveTo>
                  <a:pt x="0" y="120"/>
                </a:moveTo>
                <a:cubicBezTo>
                  <a:pt x="41" y="79"/>
                  <a:pt x="88" y="59"/>
                  <a:pt x="138" y="34"/>
                </a:cubicBezTo>
                <a:cubicBezTo>
                  <a:pt x="147" y="29"/>
                  <a:pt x="154" y="20"/>
                  <a:pt x="164" y="17"/>
                </a:cubicBezTo>
                <a:cubicBezTo>
                  <a:pt x="194" y="8"/>
                  <a:pt x="227" y="7"/>
                  <a:pt x="258" y="0"/>
                </a:cubicBezTo>
                <a:cubicBezTo>
                  <a:pt x="307" y="6"/>
                  <a:pt x="335" y="11"/>
                  <a:pt x="379" y="25"/>
                </a:cubicBezTo>
                <a:cubicBezTo>
                  <a:pt x="470" y="90"/>
                  <a:pt x="342" y="3"/>
                  <a:pt x="430" y="51"/>
                </a:cubicBezTo>
                <a:cubicBezTo>
                  <a:pt x="463" y="69"/>
                  <a:pt x="491" y="95"/>
                  <a:pt x="525" y="11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907640" y="980640"/>
            <a:ext cx="5472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Чередующиеся глас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ас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Безимени-2тм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308720" y="260280"/>
            <a:ext cx="792360" cy="325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Безимени-2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72360" y="260280"/>
            <a:ext cx="792360" cy="322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162320" y="2224080"/>
            <a:ext cx="736560" cy="136440"/>
          </a:xfrm>
          <a:custGeom>
            <a:avLst/>
            <a:gdLst/>
            <a:ahLst/>
            <a:rect l="l" t="t" r="r" b="b"/>
            <a:pathLst>
              <a:path w="464" h="86">
                <a:moveTo>
                  <a:pt x="0" y="86"/>
                </a:moveTo>
                <a:cubicBezTo>
                  <a:pt x="49" y="10"/>
                  <a:pt x="110" y="8"/>
                  <a:pt x="198" y="0"/>
                </a:cubicBezTo>
                <a:cubicBezTo>
                  <a:pt x="273" y="5"/>
                  <a:pt x="328" y="5"/>
                  <a:pt x="396" y="26"/>
                </a:cubicBezTo>
                <a:cubicBezTo>
                  <a:pt x="418" y="49"/>
                  <a:pt x="436" y="63"/>
                  <a:pt x="464" y="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270828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618920" y="765000"/>
            <a:ext cx="59770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ние: вставить пропущенные буквы, выделить орфограммы, доказать напис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учаем прил…гательные, написали предл…жение, к…снуться истории, южное р…стение, маленький р…сток, ср…слись березки, забл…стали на небе, соб…ру вещи, нат…раю полы, расст…лю постель, к…сатьс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Безимени-2тм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308720" y="260280"/>
            <a:ext cx="792360" cy="325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Безимени-2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72360" y="260280"/>
            <a:ext cx="792360" cy="3222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63280" y="54900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Буквы </a:t>
            </a:r>
            <a:r>
              <a:rPr b="1" i="1" lang="ru-RU" sz="4000" spc="-1" strike="noStrike">
                <a:solidFill>
                  <a:srgbClr val="cc3300"/>
                </a:solidFill>
                <a:latin typeface="Times New Roman"/>
              </a:rPr>
              <a:t>о</a:t>
            </a: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 и </a:t>
            </a:r>
            <a:r>
              <a:rPr b="1" i="1" lang="ru-RU" sz="4000" spc="-1" strike="noStrike">
                <a:solidFill>
                  <a:srgbClr val="cc3300"/>
                </a:solidFill>
                <a:latin typeface="Times New Roman"/>
              </a:rPr>
              <a:t>а</a:t>
            </a: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 в корне </a:t>
            </a:r>
            <a:br>
              <a:rPr sz="4000"/>
            </a:b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-</a:t>
            </a:r>
            <a:r>
              <a:rPr b="1" i="1" lang="ru-RU" sz="4000" spc="-1" strike="noStrike">
                <a:solidFill>
                  <a:srgbClr val="cc3300"/>
                </a:solidFill>
                <a:latin typeface="Times New Roman"/>
              </a:rPr>
              <a:t>гор</a:t>
            </a: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- - -</a:t>
            </a:r>
            <a:r>
              <a:rPr b="1" i="1" lang="ru-RU" sz="4000" spc="-1" strike="noStrike">
                <a:solidFill>
                  <a:srgbClr val="cc3300"/>
                </a:solidFill>
                <a:latin typeface="Times New Roman"/>
              </a:rPr>
              <a:t>гар</a:t>
            </a: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50920" y="1988640"/>
            <a:ext cx="5616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Цель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аким правилом мы буд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уководствоваться пр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аписании гласных а и о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анном корн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Безимени-2тм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308720" y="260280"/>
            <a:ext cx="792360" cy="325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Безимени-2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72360" y="260280"/>
            <a:ext cx="792360" cy="3222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Безимени-2тм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308720" y="260280"/>
            <a:ext cx="792360" cy="325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Безимени-2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72360" y="260280"/>
            <a:ext cx="792360" cy="322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411280" y="476280"/>
            <a:ext cx="50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Деревня   кор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4000" y="1484280"/>
            <a:ext cx="496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141300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Улица «Теоретическа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835280" y="404640"/>
            <a:ext cx="1224000" cy="1116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411280" y="249228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637000"/>
            <a:ext cx="779400" cy="164880"/>
          </a:xfrm>
          <a:custGeom>
            <a:avLst/>
            <a:gdLst/>
            <a:ahLst/>
            <a:rect l="l" t="t" r="r" b="b"/>
            <a:pathLst>
              <a:path w="491" h="104">
                <a:moveTo>
                  <a:pt x="1" y="104"/>
                </a:moveTo>
                <a:cubicBezTo>
                  <a:pt x="31" y="57"/>
                  <a:pt x="0" y="93"/>
                  <a:pt x="52" y="70"/>
                </a:cubicBezTo>
                <a:cubicBezTo>
                  <a:pt x="62" y="66"/>
                  <a:pt x="69" y="57"/>
                  <a:pt x="78" y="52"/>
                </a:cubicBezTo>
                <a:cubicBezTo>
                  <a:pt x="124" y="29"/>
                  <a:pt x="174" y="13"/>
                  <a:pt x="224" y="1"/>
                </a:cubicBezTo>
                <a:cubicBezTo>
                  <a:pt x="312" y="6"/>
                  <a:pt x="352" y="0"/>
                  <a:pt x="422" y="35"/>
                </a:cubicBezTo>
                <a:cubicBezTo>
                  <a:pt x="450" y="78"/>
                  <a:pt x="424" y="49"/>
                  <a:pt x="465" y="70"/>
                </a:cubicBezTo>
                <a:cubicBezTo>
                  <a:pt x="474" y="75"/>
                  <a:pt x="491" y="87"/>
                  <a:pt x="491" y="8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16360" y="2781360"/>
            <a:ext cx="1944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2492280"/>
            <a:ext cx="223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г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á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35640" y="2565360"/>
            <a:ext cx="779400" cy="165240"/>
          </a:xfrm>
          <a:custGeom>
            <a:avLst/>
            <a:gdLst/>
            <a:ahLst/>
            <a:rect l="l" t="t" r="r" b="b"/>
            <a:pathLst>
              <a:path w="491" h="104">
                <a:moveTo>
                  <a:pt x="1" y="104"/>
                </a:moveTo>
                <a:cubicBezTo>
                  <a:pt x="31" y="57"/>
                  <a:pt x="0" y="93"/>
                  <a:pt x="52" y="70"/>
                </a:cubicBezTo>
                <a:cubicBezTo>
                  <a:pt x="62" y="66"/>
                  <a:pt x="69" y="57"/>
                  <a:pt x="78" y="52"/>
                </a:cubicBezTo>
                <a:cubicBezTo>
                  <a:pt x="124" y="29"/>
                  <a:pt x="174" y="13"/>
                  <a:pt x="224" y="1"/>
                </a:cubicBezTo>
                <a:cubicBezTo>
                  <a:pt x="312" y="6"/>
                  <a:pt x="352" y="0"/>
                  <a:pt x="422" y="35"/>
                </a:cubicBezTo>
                <a:cubicBezTo>
                  <a:pt x="450" y="78"/>
                  <a:pt x="424" y="49"/>
                  <a:pt x="465" y="70"/>
                </a:cubicBezTo>
                <a:cubicBezTo>
                  <a:pt x="474" y="75"/>
                  <a:pt x="491" y="87"/>
                  <a:pt x="491" y="8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3500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о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56000" y="3573360"/>
            <a:ext cx="779400" cy="165240"/>
          </a:xfrm>
          <a:custGeom>
            <a:avLst/>
            <a:gdLst/>
            <a:ahLst/>
            <a:rect l="l" t="t" r="r" b="b"/>
            <a:pathLst>
              <a:path w="491" h="104">
                <a:moveTo>
                  <a:pt x="1" y="104"/>
                </a:moveTo>
                <a:cubicBezTo>
                  <a:pt x="31" y="57"/>
                  <a:pt x="0" y="93"/>
                  <a:pt x="52" y="70"/>
                </a:cubicBezTo>
                <a:cubicBezTo>
                  <a:pt x="62" y="66"/>
                  <a:pt x="69" y="57"/>
                  <a:pt x="78" y="52"/>
                </a:cubicBezTo>
                <a:cubicBezTo>
                  <a:pt x="124" y="29"/>
                  <a:pt x="174" y="13"/>
                  <a:pt x="224" y="1"/>
                </a:cubicBezTo>
                <a:cubicBezTo>
                  <a:pt x="312" y="6"/>
                  <a:pt x="352" y="0"/>
                  <a:pt x="422" y="35"/>
                </a:cubicBezTo>
                <a:cubicBezTo>
                  <a:pt x="450" y="78"/>
                  <a:pt x="424" y="49"/>
                  <a:pt x="465" y="70"/>
                </a:cubicBezTo>
                <a:cubicBezTo>
                  <a:pt x="474" y="75"/>
                  <a:pt x="491" y="87"/>
                  <a:pt x="491" y="8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350028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á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3573360"/>
            <a:ext cx="779400" cy="165240"/>
          </a:xfrm>
          <a:custGeom>
            <a:avLst/>
            <a:gdLst/>
            <a:ahLst/>
            <a:rect l="l" t="t" r="r" b="b"/>
            <a:pathLst>
              <a:path w="491" h="104">
                <a:moveTo>
                  <a:pt x="1" y="104"/>
                </a:moveTo>
                <a:cubicBezTo>
                  <a:pt x="31" y="57"/>
                  <a:pt x="0" y="93"/>
                  <a:pt x="52" y="70"/>
                </a:cubicBezTo>
                <a:cubicBezTo>
                  <a:pt x="62" y="66"/>
                  <a:pt x="69" y="57"/>
                  <a:pt x="78" y="52"/>
                </a:cubicBezTo>
                <a:cubicBezTo>
                  <a:pt x="124" y="29"/>
                  <a:pt x="174" y="13"/>
                  <a:pt x="224" y="1"/>
                </a:cubicBezTo>
                <a:cubicBezTo>
                  <a:pt x="312" y="6"/>
                  <a:pt x="352" y="0"/>
                  <a:pt x="422" y="35"/>
                </a:cubicBezTo>
                <a:cubicBezTo>
                  <a:pt x="450" y="78"/>
                  <a:pt x="424" y="49"/>
                  <a:pt x="465" y="70"/>
                </a:cubicBezTo>
                <a:cubicBezTo>
                  <a:pt x="474" y="75"/>
                  <a:pt x="491" y="87"/>
                  <a:pt x="491" y="8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84360" y="465300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г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59280" y="4724280"/>
            <a:ext cx="779400" cy="165240"/>
          </a:xfrm>
          <a:custGeom>
            <a:avLst/>
            <a:gdLst/>
            <a:ahLst/>
            <a:rect l="l" t="t" r="r" b="b"/>
            <a:pathLst>
              <a:path w="491" h="104">
                <a:moveTo>
                  <a:pt x="1" y="104"/>
                </a:moveTo>
                <a:cubicBezTo>
                  <a:pt x="31" y="57"/>
                  <a:pt x="0" y="93"/>
                  <a:pt x="52" y="70"/>
                </a:cubicBezTo>
                <a:cubicBezTo>
                  <a:pt x="62" y="66"/>
                  <a:pt x="69" y="57"/>
                  <a:pt x="78" y="52"/>
                </a:cubicBezTo>
                <a:cubicBezTo>
                  <a:pt x="124" y="29"/>
                  <a:pt x="174" y="13"/>
                  <a:pt x="224" y="1"/>
                </a:cubicBezTo>
                <a:cubicBezTo>
                  <a:pt x="312" y="6"/>
                  <a:pt x="352" y="0"/>
                  <a:pt x="422" y="35"/>
                </a:cubicBezTo>
                <a:cubicBezTo>
                  <a:pt x="450" y="78"/>
                  <a:pt x="424" y="49"/>
                  <a:pt x="465" y="70"/>
                </a:cubicBezTo>
                <a:cubicBezTo>
                  <a:pt x="474" y="75"/>
                  <a:pt x="491" y="87"/>
                  <a:pt x="491" y="8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4653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г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á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0360" y="4724280"/>
            <a:ext cx="779400" cy="165240"/>
          </a:xfrm>
          <a:custGeom>
            <a:avLst/>
            <a:gdLst/>
            <a:ahLst/>
            <a:rect l="l" t="t" r="r" b="b"/>
            <a:pathLst>
              <a:path w="491" h="104">
                <a:moveTo>
                  <a:pt x="1" y="104"/>
                </a:moveTo>
                <a:cubicBezTo>
                  <a:pt x="31" y="57"/>
                  <a:pt x="0" y="93"/>
                  <a:pt x="52" y="70"/>
                </a:cubicBezTo>
                <a:cubicBezTo>
                  <a:pt x="62" y="66"/>
                  <a:pt x="69" y="57"/>
                  <a:pt x="78" y="52"/>
                </a:cubicBezTo>
                <a:cubicBezTo>
                  <a:pt x="124" y="29"/>
                  <a:pt x="174" y="13"/>
                  <a:pt x="224" y="1"/>
                </a:cubicBezTo>
                <a:cubicBezTo>
                  <a:pt x="312" y="6"/>
                  <a:pt x="352" y="0"/>
                  <a:pt x="422" y="35"/>
                </a:cubicBezTo>
                <a:cubicBezTo>
                  <a:pt x="450" y="78"/>
                  <a:pt x="424" y="49"/>
                  <a:pt x="465" y="70"/>
                </a:cubicBezTo>
                <a:cubicBezTo>
                  <a:pt x="474" y="75"/>
                  <a:pt x="491" y="87"/>
                  <a:pt x="491" y="8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08:53:23Z</dcterms:created>
  <dc:creator>Администратор</dc:creator>
  <dc:description/>
  <dc:language>en-US</dc:language>
  <cp:lastModifiedBy>Admin</cp:lastModifiedBy>
  <dcterms:modified xsi:type="dcterms:W3CDTF">2014-10-20T15:24:55Z</dcterms:modified>
  <cp:revision>22</cp:revision>
  <dc:subject/>
  <dc:title>Слайд 1</dc:title>
</cp:coreProperties>
</file>