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02C-2E16-4FB8-9BC5-97F251AE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F0F-1C63-4340-897F-7C30439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31C7A-E73B-4D20-A305-2524BD9C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50949-C2A8-462B-95AA-361A4821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EE49-8864-405F-9288-67A4E2C1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7D1CB-3A72-46F6-88DB-23F7E0E1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A7C02-AF6C-4FFD-BC95-2F22D3F2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5540A-62B1-434E-8336-32869BCB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8D74E-3277-46F8-A070-A944DE9F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477AC-23CB-479A-8CBE-63003DF8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6C65C-3D1F-435C-9C10-C1F60FA1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1BB-0A39-4969-A279-D5D2107B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884-CF13-453A-BD19-E90725B6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7D5B-9891-49AF-9BE4-6C561392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B5D8-C3C9-4A37-ADF7-A7F3FBF4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19D3-F91F-44C7-90FF-E61ABF5C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03A-6AC4-453D-A25E-91BB6028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743F-F71D-4EB3-BB21-86F43E7D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CB04-253C-4ADC-8754-BA028BF5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95FE-E04F-4730-B0AC-FE27F8D1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EA9-C2F9-4C05-860A-6D9988E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3014-85A4-4D04-986F-9ED09A4A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89C3-BC16-4BE7-BC95-1B22065A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AC32-BB97-4B71-B522-DDA5BFF8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3FFF-E70A-421F-89EF-9D4AA6B2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2D14-FE2C-4887-B6DA-1226CD90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2A8B-2549-4A7C-AD60-5A94E194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E71A-B8D8-4424-9D5C-D7237DCB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82BC-EB99-45A1-A302-52F2D39E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3556-4506-4164-95D6-9A5B5373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8662-6E8B-4B8C-8433-83EC9CB8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BAE-32FF-45F5-8F24-B6D6EEE9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74B3-929F-4E22-82D7-A48BE563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CBB5-AAFF-40B9-839B-33919FA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CF41-0FC1-4ACC-A9EA-FD183AE4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C830-6323-4866-9971-BEDAF64B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EF5B-0418-4004-AD57-D8FD25AF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BE2C3-C815-4FE8-A9C0-709BE8BE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0379-98F9-4527-BE7E-55AAC168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888D-C026-4349-8BA0-8ADE64A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5447-3881-4357-9352-7A8569B7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2377-15D9-4C0F-A878-E13426FA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769-6062-4D7A-BA77-FD28A33F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7BAB-5A05-41AE-A44E-B073CE32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CF85-A029-4EE6-B113-D59FBE9A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ED45-9F06-42BD-B420-6EFA5CAE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2C407-B27B-4420-B2F0-77B93397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B6FE-5B09-4ADD-8F96-F12F9B5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E0EA-3ACA-47A7-A711-9350C434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9B05-44DE-4E7B-89EF-1653D332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E969-AC4C-4F73-989D-AB7592B1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80C3-D0E0-4B20-8233-8E698EC1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72E64-00CA-461A-8C78-87343B7C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57F-65A8-424D-AEEB-FAAE7575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C2A3-876D-417E-98E6-B79B541B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EC92-A2B5-498C-9D21-7D9139A1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9D2B1-C615-49AC-8294-A4341213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1C8AA-5B90-460C-8366-9525445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FD8CB-39B9-4143-A3D4-FFE2B173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6B28B-B92E-47FF-836F-445CC4B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79C5-23B7-46E7-8229-4023AC18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C125D-9508-493B-8AD0-262C11C1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FC64F-B59C-40F1-8FC5-DA63E4E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ED8B-861A-434F-9C26-7314FE62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F07-6472-463A-BB0C-2A67CF03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84FB0-2FF6-44A2-9C05-98527FC6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7ED35-D19F-4496-8126-7B57D843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1844D-09D1-4DC2-9013-5BCF4B4C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8CFA3-A57A-4E37-8966-777F6ED5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524BF-7C25-4F25-A37B-68231584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29ADF-4413-4AB9-B735-081FAD86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01BDC-3DEB-42AD-8FCA-27F7BAE8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B5272-A362-436A-8CA4-29CB19AE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34A5E-403E-4EC9-9394-2B4DE6A7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03956-E172-4A5B-B3A1-92EC17AF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195-0BAA-4588-93E9-AF4EE1E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10883-31A5-4672-BCF8-B042DAE7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AD065-A0F6-4545-B563-48F0AEE7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66BC8-7C81-4C9E-8C64-D29B9726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9BC99-B761-44AD-9721-B8CBBDC8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087EC-8CC8-40C0-B17A-698ABE38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46921-3C70-468F-869C-A0A6F19E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44A2E-F4DE-4A91-8E7C-FCF27415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97805-FD70-41C1-B23F-6A51967C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9023B-2D6E-4ABD-865D-F0DB4CE6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5A53B-AFDC-4CC9-8F9D-01CC9E9C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919-2820-49F6-A672-1BB300D0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AFB7E-E633-4C23-AE85-A2EB07B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BCCD-800F-4238-B3A4-80DBF39F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FC5E5-B253-40DD-8DF3-52925E43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237C0-012E-4210-9697-C652D329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AECB5-11E6-4DAC-8723-EDA0A74A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6DE4C-C2BF-48C1-9326-CF284B98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CED62-07D3-4365-96C9-DC5F8D3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AA14D-3703-4B2A-BB8B-1EA9D6A8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65DC5-BCA6-46A2-A242-9A4245DD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C8EB5-B9CC-496C-BAB9-2DCE77A2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6E4-13F5-4E13-82D7-3ABF984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C65C3-AE01-43E7-8A42-300E000E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B53DF-2D9B-4D55-A0DE-101AA544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A9233-D0C0-45F9-9098-8090E7AE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41A9A-3333-4F4E-B17E-CD4AD4B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F7B22-E845-4366-BC1B-B68AEA62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55428-70AD-4B52-9A67-7D1B2EED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D4516-26B8-41A6-B70C-C3223FA9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7649B-828C-4F32-86C7-0E937E86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17CF5-B7CC-4E62-84EB-4662A0EE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91259-83E1-4E0C-B736-A857FEB0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5A81-7DEF-4920-B1F9-1C8E74CC56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4124-EE1F-421B-92C6-DE25061ACC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AF6C-7110-4562-A211-221C6A0B12C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E51C-A7F4-427C-A9EE-E92DBAA1DA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6CE1-20FF-4986-AF40-0248939A34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7D59-CA1A-4E26-B1EC-BB2CB1D21A6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C187-955C-40F4-A93A-19864C2BCF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014-317B-4114-8128-40AFC92F64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72B9-420E-4D83-8A3B-78C5945D691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932360" y="4797000"/>
            <a:ext cx="2519280" cy="18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стинова Г.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МБОУ ООШ №13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г. Чайковски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Пермский кра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1100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5" descr=""/>
          <p:cNvPicPr/>
          <p:nvPr/>
        </p:nvPicPr>
        <p:blipFill>
          <a:blip r:embed="rId2"/>
          <a:stretch/>
        </p:blipFill>
        <p:spPr>
          <a:xfrm>
            <a:off x="-396720" y="2889360"/>
            <a:ext cx="5670360" cy="113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730760" y="396720"/>
            <a:ext cx="4273560" cy="2664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0" y="2852280"/>
            <a:ext cx="903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ебенку необходимо на практике познакомиться с тем печальным фактом, что деньги не валятся с неб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которые родители начинают платить детям за хорошие отметки в школе или за выполнение домашней работы — этого нельзя делать ни в коем случа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751280" cy="2517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6626160" cy="2303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08000" y="2997000"/>
            <a:ext cx="8856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Кто из вас дает своему ребенку деньги на карманные расходы?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 какого возраста вы даете карманные деньги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Кто знает, на что ребенок тратит карманные деньги, т.е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контролирует расход карманных денег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Надо ли контролировать расход карманных денег?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Кто из нас поступает правильно: тот, кто дает карманные деньги или те, кто не дает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81000" cy="262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6626160" cy="23036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08000" y="4076280"/>
            <a:ext cx="8856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Давать или не давать деньги — зависит от возраста ребёнка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Надо приучать откладывать какую-то часть средств на подарки близким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Нужно учить ребёнка разумному обращению с деньгам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6372360" y="333360"/>
            <a:ext cx="2530440" cy="352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68200" y="615960"/>
            <a:ext cx="5907240" cy="2011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178920" y="2923920"/>
            <a:ext cx="87138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зволить ли ребенку подрабатывать? Безусловно — да, лишь бы не в ущерб здоровью и учеб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ажно, чтобы часть заработка подросток отдавал родителям, внося вклад в экономическую жизнь семь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657600" y="615960"/>
            <a:ext cx="5742000" cy="2120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3212640"/>
            <a:ext cx="9036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Если ребёнок склонен к жадности, ему не нужны никакие копилки, наоборот, нужно учить его делитьс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Если ребёнок склонен к мотовству — тогда можно разрешить ему откладывать деньг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333960" cy="27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03320" y="109440"/>
            <a:ext cx="8894520" cy="12747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-360" y="1268280"/>
            <a:ext cx="8991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ТОИЕРЕЙ Алексий Уминский, духовник Свято-Владимирской гимназии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—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ля ребёнка важно, чтобы у него были деньги, потому что это элемент его личной свободы. Задача родителей — научить его этой свободой пользоватьс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2133720"/>
            <a:ext cx="1163520" cy="152388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421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04920" y="3962520"/>
            <a:ext cx="1106280" cy="12189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80880" y="5257800"/>
            <a:ext cx="925560" cy="13716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2209680" y="2590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42f"/>
                </a:solidFill>
                <a:latin typeface="Times New Roman"/>
              </a:rPr>
              <a:t>Я провёл(а) время с польз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1752480" y="5486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42f"/>
                </a:solidFill>
                <a:latin typeface="Times New Roman"/>
              </a:rPr>
              <a:t>Мне жаль потраченного времени</a:t>
            </a:r>
            <a:r>
              <a:rPr b="0" lang="ru-RU" sz="2800" spc="-1" strike="noStrike">
                <a:solidFill>
                  <a:srgbClr val="ffc42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1981080" y="42670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42f"/>
                </a:solidFill>
                <a:latin typeface="Times New Roman"/>
              </a:rPr>
              <a:t>Мне было всё знаком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Rectangle 10" descr=""/>
          <p:cNvPicPr/>
          <p:nvPr/>
        </p:nvPicPr>
        <p:blipFill>
          <a:blip r:embed="rId4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4"/>
          <p:cNvSpPr txBox="1"/>
          <p:nvPr/>
        </p:nvSpPr>
        <p:spPr>
          <a:xfrm>
            <a:off x="838080" y="83808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боту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8:27:10Z</dcterms:created>
  <dc:creator>user</dc:creator>
  <dc:description/>
  <dc:language>en-US</dc:language>
  <cp:lastModifiedBy>user</cp:lastModifiedBy>
  <dcterms:modified xsi:type="dcterms:W3CDTF">2012-03-28T10:48:31Z</dcterms:modified>
  <cp:revision>30</cp:revision>
  <dc:subject/>
  <dc:title>Дети и деньги</dc:title>
</cp:coreProperties>
</file>