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163-0411-4040-91D8-89129F6D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AEB-4C34-4817-A996-A621E92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637-CE63-4D45-BDB2-22190D9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5D8-08A5-4F3E-B0F7-BFBB982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5D6-77DD-4F9F-989C-8C2C9E97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70F-E2F8-4AB0-AF1B-5566D2B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345-CADA-4F6A-B035-459CBC7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E26-143E-4B15-8BD5-A28BA75D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03D-547F-4848-9F8F-896E20F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D86-6F13-4F79-BB7B-9F3C4F03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562-9996-4E28-8F43-FBE029B4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175-008B-4064-A509-443674C1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BFE-73D2-4B00-8513-17ADA64EE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1440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ложите дела ненадол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 придите в субботу к нам в класс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ы готовимся к встрече с Вам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удем рады увидеть Ва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ave0004"/>
          <p:cNvPicPr/>
          <p:nvPr/>
        </p:nvPicPr>
        <p:blipFill>
          <a:blip r:embed="rId1"/>
          <a:stretch/>
        </p:blipFill>
        <p:spPr>
          <a:xfrm>
            <a:off x="1763640" y="3141720"/>
            <a:ext cx="56167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564000" y="476280"/>
            <a:ext cx="4591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Georgia"/>
              </a:rPr>
              <a:t>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Georgia"/>
              </a:rPr>
              <a:t>Родительское собрание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6120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потрясло вас боль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ие слова  или предложения вы считаете ключевыми в данном пись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ыли ли  лично у вас подобные ситуации?  Какие и с чем это было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ова, на Ваш взгляд, главная мысль «Письм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гласны ли вы  с Дмитрием Сергеевиче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0078711"/>
          <p:cNvPicPr/>
          <p:nvPr/>
        </p:nvPicPr>
        <p:blipFill>
          <a:blip r:embed="rId1"/>
          <a:stretch/>
        </p:blipFill>
        <p:spPr>
          <a:xfrm>
            <a:off x="7236000" y="24210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желательность, безотказность, тактичность, миролюбивость, грубость, бестактность,  вежливость, честность, великодушие, гостеприимность, деликатность, добросердечность, жизнерадостность, инициативность, остроумие, придирчивость, раздражительность, агрессивность, отзывчивость, простосердечие, скромность, справедливость, корректность, целомудрие, неподкупность, любовь к Родин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держанность, завистливость, равнодушие, болтливость, вздорность, ехидность, жадность, занудство, злопамятность, легкомысленность, лицемерие, корыстолюбие, небрежность, назойливость, обидчивость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Кто является для вас примером для подражания? Какие качества вы цените в этом человеке больше всего? </a:t>
            </a:r>
            <a:br>
              <a:rPr sz="2000"/>
            </a:br>
            <a:r>
              <a:rPr b="0" lang="ru-RU" sz="2000" spc="-1" strike="noStrike">
                <a:solidFill>
                  <a:srgbClr val="e73d61"/>
                </a:solidFill>
                <a:latin typeface="Georgia"/>
              </a:rPr>
              <a:t>2. На ваш взгляд положительные качества и отрицательные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  -  15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стра (брат) – 2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й руководитель  - 6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ушка -  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ои кинофильмов и другое …– 4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обенность подросткового возраста -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смена значимых лиц и перестройка отношений со взрослы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e73d61"/>
                </a:solidFill>
                <a:latin typeface="Georgia"/>
              </a:rPr>
              <a:t>Воспитывать с любовью и во имя любви;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формировать чувство справедливости;</a:t>
            </a:r>
            <a:br>
              <a:rPr sz="2400"/>
            </a:br>
            <a:r>
              <a:rPr b="1" lang="ru-RU" sz="2400" spc="-1" strike="noStrike">
                <a:solidFill>
                  <a:srgbClr val="e73d61"/>
                </a:solidFill>
                <a:latin typeface="Georgia"/>
              </a:rPr>
              <a:t>не допускать проявлений авторитаризма и манипулирования;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быть готовыми и способными к диалогу, </a:t>
            </a:r>
            <a:r>
              <a:rPr b="1" lang="ru-RU" sz="2400" spc="-1" strike="noStrike">
                <a:solidFill>
                  <a:srgbClr val="e73d61"/>
                </a:solidFill>
                <a:latin typeface="Georgia"/>
              </a:rPr>
              <a:t>пониманию и солидарности;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быть примером для детей и сообщества;</a:t>
            </a:r>
            <a:br>
              <a:rPr sz="2400"/>
            </a:br>
            <a:r>
              <a:rPr b="1" lang="ru-RU" sz="2400" spc="-1" strike="noStrike">
                <a:solidFill>
                  <a:srgbClr val="e73d61"/>
                </a:solidFill>
                <a:latin typeface="Georgia"/>
              </a:rPr>
              <a:t>поддерживать эмоциональные привязанности, развивать у детей чувство взаимного расположения;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давать детям возможность самостоятельно решать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Georgia"/>
              </a:rPr>
              <a:t>Заповед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Надо уметь выходить из ошибок: исправлять их немедленно и... краси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Признаться в своей ошибке перед самим собой не всегда легко, но необход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Окружающим не надо понуждать человека к признанию ошибки, надо побуждать к ее исправ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Надо быть честным в незаметном и случайном – тогда только будешь честным и в выполнении своего большого дол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тремиться к высокой цели низкими средствами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людать большое надо во всем решительно. Тогда все легко и про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351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1. Выкинь кошку  (занеси собак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2. «Слезь с телефона»,тебя к телефону,    «Хорош трындет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3.Помой посуду  (Убери со стол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4. Сделала уроки? Иди делай уро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5. Ты будешь ес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6. Побрызгай цветы    (Когда сделаешь уроки, полей цвет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7. Выключи компьют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8. Как дела в школе?   Что получила (получил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9. Помой обув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10. Разогрей ужи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11. Как настроение? Пойдем расскаже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12. Привет. Что новенько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13. Очки мои не виде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де мои капли, (какая-то вещь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оставь мне будиль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Georgia"/>
              </a:rPr>
              <a:t>А ГДЕ ЖЕ такие слова к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3d61"/>
                </a:solidFill>
                <a:latin typeface="Georgia"/>
              </a:rPr>
              <a:t>Мой хороши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мой любимы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ты умниц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e73d61"/>
                </a:solidFill>
                <a:latin typeface="Georgia"/>
              </a:rPr>
              <a:t>я тобой горжусь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давай вместе решим этот вопрос или проблему….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920" y="3284640"/>
            <a:ext cx="69595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q_1442"/>
          <p:cNvPicPr/>
          <p:nvPr/>
        </p:nvPicPr>
        <p:blipFill>
          <a:blip r:embed="rId1"/>
          <a:stretch/>
        </p:blipFill>
        <p:spPr>
          <a:xfrm>
            <a:off x="250920" y="404640"/>
            <a:ext cx="3097080" cy="2867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3564000" y="0"/>
            <a:ext cx="5580000" cy="4005360"/>
          </a:xfrm>
          <a:custGeom>
            <a:avLst/>
            <a:gdLst>
              <a:gd name="textAreaLeft" fmla="*/ 1395000 w 5580000"/>
              <a:gd name="textAreaRight" fmla="*/ 4185000 w 5580000"/>
              <a:gd name="textAreaTop" fmla="*/ 1001160 h 4005360"/>
              <a:gd name="textAreaBottom" fmla="*/ 3886920 h 4005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«Не должно быть слепых к красот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глухих к слову и настоящей музы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черствых к доб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беспамятных к прошло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А для этого нужны знания, нужна интеллигент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дающаяся культур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(Дмитрий Лихачев)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4292640"/>
            <a:ext cx="7812000" cy="1657440"/>
          </a:xfrm>
          <a:custGeom>
            <a:avLst/>
            <a:gdLst>
              <a:gd name="textAreaLeft" fmla="*/ 1953000 w 7812000"/>
              <a:gd name="textAreaRight" fmla="*/ 5859000 w 7812000"/>
              <a:gd name="textAreaTop" fmla="*/ 207000 h 1657440"/>
              <a:gd name="textAreaBottom" fmla="*/ 165780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Можно притвориться добрым, щедр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аже глубокомысленным, мудр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интеллигентным никогда»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.С. Лихачё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3d61"/>
                </a:solidFill>
                <a:latin typeface="Georgia"/>
              </a:rPr>
              <a:t>Самоаттестация коллекти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и выставлялись 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баллов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члены коллектива обладают соответствующим качеств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баллов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ти все члены коллекти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балл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 большинство …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ина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балл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меньшин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икто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05520" y="40464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Ответственнос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сознательное, добросовестное отношение к работе, уч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 Коллективиз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стремление решать все вопросы сообща, руководствуясь интересами коллект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Сплоченнос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единство мнений по важнейшим вопросам жизни 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Организова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благоприятные личные взаимоотношения членов коллект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Контактность –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ношение к новичкам, к другим коллектив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Открыт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умение налаживать оптимальные взаимодействия, распределить обязанности так, чтобы добиваться наибольшей эффективности в совместной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ru-RU" sz="1600" spc="-1" strike="noStrike">
                <a:solidFill>
                  <a:srgbClr val="e73d61"/>
                </a:solidFill>
                <a:latin typeface="Arial"/>
              </a:rPr>
              <a:t>Информирова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хорошее знание всеми ребятами состояния дел своего класса и друг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233"/>
          <p:cNvPicPr/>
          <p:nvPr/>
        </p:nvPicPr>
        <p:blipFill>
          <a:blip r:embed="rId1"/>
          <a:srcRect l="5316" t="4863" r="16976" b="21606"/>
          <a:stretch/>
        </p:blipFill>
        <p:spPr>
          <a:xfrm>
            <a:off x="179280" y="76500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611280" y="1557360"/>
          <a:ext cx="7993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WordArt 6"/>
          <p:cNvSpPr txBox="1"/>
          <p:nvPr/>
        </p:nvSpPr>
        <p:spPr>
          <a:xfrm>
            <a:off x="826920" y="476280"/>
            <a:ext cx="734544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Настроение 10 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580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ябрь 200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Лидеры по количеству «5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3816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73d61"/>
                </a:solidFill>
                <a:latin typeface="Georgia"/>
              </a:rPr>
              <a:t>Личное первен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угарева Дар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еховцова 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73d61"/>
                </a:solidFill>
                <a:latin typeface="Georgia"/>
              </a:rPr>
              <a:t>Звено – лидер по «5» - 3 зв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гарева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ов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пова 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чё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икова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атухин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ев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7" descr="j0217698"/>
          <p:cNvPicPr/>
          <p:nvPr/>
        </p:nvPicPr>
        <p:blipFill>
          <a:blip r:embed="rId1"/>
          <a:stretch/>
        </p:blipFill>
        <p:spPr>
          <a:xfrm>
            <a:off x="5076720" y="2421000"/>
            <a:ext cx="3598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 «Самый вежливый в кла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нош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аратухин Алексей – 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яхов Вадим – 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ганесян Арман -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анесян Эдгар – 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менев Андрей –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вченко Роман – 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йцев Евгений –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спопов Руслан –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олотов Михаил –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торкин Артем – 3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уш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стапова Евгения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иходько Евгения – 4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абаян Карина – 4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икулина Галина – 4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улина Лидия – 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ховцова Ирина – 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вяткова Дарья – 4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аджанян Марина – 4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ова Екатерина –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вгарян Лидия – 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ясищева Елена – 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гарева Дарья – 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баян Наира – 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вягинцева Ксения –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ычева Вера –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50920" y="5373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3d61"/>
                </a:solidFill>
                <a:latin typeface="Arial"/>
              </a:rPr>
              <a:t>Общий – 4.4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03640" y="609300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3d61"/>
                </a:solidFill>
                <a:latin typeface="Arial"/>
              </a:rPr>
              <a:t>Общий – 4.9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612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                       учебн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Центре Инициативы и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0 класса «А» предлагается принять участие в конкурсе «Город звезд» по следующим номинац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26920" y="2205000"/>
          <a:ext cx="7561440" cy="4248360"/>
        </p:xfrm>
        <a:graphic>
          <a:graphicData uri="http://schemas.openxmlformats.org/drawingml/2006/table">
            <a:tbl>
              <a:tblPr/>
              <a:tblGrid>
                <a:gridCol w="4465800"/>
                <a:gridCol w="309564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Сф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жизне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Название ном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Учеб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Науч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Спорти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Художественное творч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Организаторская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Добрые 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80"/>
                          </a:solidFill>
                          <a:latin typeface="Georgia"/>
                          <a:ea typeface="Times New Roman"/>
                        </a:rPr>
                        <a:t>Общ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Золотой фонд класс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Навстречу открытиям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Чемпион год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ВиТА» (Вдохновение и Талант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Дирижер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Добрая душ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Любимец публи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• 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«Открытие год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3d61"/>
                </a:solidFill>
                <a:latin typeface="Georgia"/>
              </a:rPr>
              <a:t>Что может быть интереснее для человека, чем сам человек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ние себя и окружающих людей - это не столько наука, сколько искусство. И чтобы это искусство мы с вами постигли, чтобы человек, зная себя и понимая свои отношения с окружающими, сделал меньше серьезных ошибок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7:43:48Z</dcterms:created>
  <dc:creator>Алексей</dc:creator>
  <dc:description/>
  <dc:language>en-US</dc:language>
  <cp:lastModifiedBy>User</cp:lastModifiedBy>
  <dcterms:modified xsi:type="dcterms:W3CDTF">2012-04-12T17:04:34Z</dcterms:modified>
  <cp:revision>8</cp:revision>
  <dc:subject/>
  <dc:title>Результаты:</dc:title>
</cp:coreProperties>
</file>