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1514-0F38-4C11-8FC4-30E7ACD502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04A-BF50-4F3F-A011-ADAD7E4FF98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139-4E62-4A37-AEC2-20598D8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001-68F9-4837-AD9E-B51344A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76A-77BE-4A92-AAB4-FB00BFA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36A-A732-46E2-821B-DEC9970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551-D73E-4F8E-8B25-7518A107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A603-E24C-4909-BA2B-732964DE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2C27-EBDB-4246-83DF-17C9615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7A3C-BF16-4A00-9994-16A8AE0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627-7EA8-4E66-841B-EEA17FA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674-47E4-480C-B6B2-45BE2A5F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D1C0-629B-4663-9E7F-CC50DFD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447-467A-4084-8286-0C58630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F9D-02A3-425C-B8A2-04429D4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22D-18D6-4D1B-8325-B062150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818-581F-4EB4-91AD-C7964E5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9F7-5F43-49A1-98C4-8FFC83B2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EE5-5625-464E-8884-0E90AC7A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424-A333-4073-AB6F-D5A0FB4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84F-5B44-4F81-90F4-610D5C3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96A-62F7-41EC-AF6F-2EA2D98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48E-6BD7-4592-BDE5-7F45850F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BE2-A4C6-4317-B4DF-438EA7F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FB1-51CE-483B-BF4E-68268F0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C69-5697-433A-BC75-0B0E18C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817B-79BC-4129-9FC9-0FDC5A5B35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61480" y="484200"/>
                  <a:ext cx="431280" cy="69516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58000" y="24696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57840" y="138744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8320" y="124200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901640" y="17676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141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1" name="Group 132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2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131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4" name="Freeform 31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38"/>
                <p:cNvSpPr/>
                <p:nvPr/>
              </p:nvSpPr>
              <p:spPr>
                <a:xfrm rot="18427200">
                  <a:off x="8061480" y="484200"/>
                  <a:ext cx="431280" cy="69516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39"/>
                <p:cNvSpPr/>
                <p:nvPr/>
              </p:nvSpPr>
              <p:spPr>
                <a:xfrm rot="18427200">
                  <a:off x="7758000" y="24696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0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1"/>
                <p:cNvSpPr/>
                <p:nvPr/>
              </p:nvSpPr>
              <p:spPr>
                <a:xfrm rot="18427200">
                  <a:off x="8457840" y="138744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2"/>
                <p:cNvSpPr/>
                <p:nvPr/>
              </p:nvSpPr>
              <p:spPr>
                <a:xfrm rot="18427200">
                  <a:off x="8338320" y="124200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3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4"/>
                <p:cNvSpPr/>
                <p:nvPr/>
              </p:nvSpPr>
              <p:spPr>
                <a:xfrm rot="18427200">
                  <a:off x="7901640" y="17676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815-86CC-4D9B-8282-EB5DD97F43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3286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7200" spc="-1" strike="noStrike">
                <a:solidFill>
                  <a:srgbClr val="002060"/>
                </a:solidFill>
                <a:latin typeface="Comic Sans MS"/>
              </a:rPr>
              <a:t>«Будем знакомы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8840" y="1928520"/>
            <a:ext cx="6400800" cy="178596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omic Sans MS"/>
              </a:rPr>
              <a:t>Первый раз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Comic Sans MS"/>
              </a:rPr>
              <a:t> в пятый класс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15520" cy="1847880"/>
          </a:xfrm>
          <a:prstGeom prst="rect">
            <a:avLst/>
          </a:prstGeom>
          <a:solidFill>
            <a:srgbClr val="fff1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omic Sans MS"/>
              </a:rPr>
              <a:t>Адаптация пятиклассника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В начале обучения в пятом классе школьники переживают период адаптации к новым условиям обучения, во многом сходный с тем, который был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характерен для начала обучения в первом классе :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13880" y="2071440"/>
            <a:ext cx="7667640" cy="414324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зкое изменение условий обу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нообразие и качественное усложнение требований, предъявляемых к школьнику разными учителя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ена позиции «старшего» в начальной школе на «самого маленького» в средн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mic Sans MS"/>
              </a:rPr>
              <a:t>Всё это является довольно серьёзным испытанием для психики школьника.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1360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6215040" cy="7765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ВРЕМЯ АДАПТ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28800" y="1571400"/>
            <a:ext cx="6500880" cy="36860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Период адаптации к новым правилам и требованиям может занимать у ребёнка от одного месяца до го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В это время и может наблюдаться некоторый спад успеваемости, так как дети скорее заняты изучением формы, нежели содержания учебной деятельности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7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032680" cy="48038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вый классный руководител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вые дети в класс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привычное распис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ого новых кабинетов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1 четверть пройдет в одном кабинете - №1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чень много разных учителей; необходимость на каждом уроке приспосабливаться к своеобразному темпу, особенностям речи уч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озросший темп работ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озросший объем работ в классе и д/з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лабление или отсутствие контрол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самостоятельность в рабо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еобразие подросткового возраста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5857920" cy="16002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689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уметь правильно распределять и планировать свое время, проявлять самостоятельность в своих делах и в случае необходимости обра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0000"/>
                </a:solidFill>
                <a:latin typeface="Comic Sans MS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J0233966"/>
          <p:cNvPicPr/>
          <p:nvPr/>
        </p:nvPicPr>
        <p:blipFill>
          <a:blip r:embed="rId1"/>
          <a:stretch/>
        </p:blipFill>
        <p:spPr>
          <a:xfrm>
            <a:off x="0" y="142920"/>
            <a:ext cx="2017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029440" cy="17049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47dba"/>
                </a:solidFill>
                <a:latin typeface="Comic Sans MS"/>
              </a:rPr>
              <a:t>Конкретные рекомендации для родителей пятиклассников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029440" cy="445788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оодушевите ребёнка на рассказ о своих школьных делах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200"/>
                </a:solidFill>
                <a:latin typeface="Times New Roman"/>
              </a:rPr>
              <a:t>Регулярно беседуйте с учителями вашего ребёнка о его успеваемости, поведении и взаимоотношениях с другими детьм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Не связывайте оценки за успеваемость ребёнка со своей системой наказаний и поощрений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200"/>
                </a:solidFill>
                <a:latin typeface="Times New Roman"/>
              </a:rPr>
              <a:t>Знайте программу и особенности школы, где учится ваш ребёнок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могайте ребёнку выполнять домашние задания, но не делайте их сам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200"/>
                </a:solidFill>
                <a:latin typeface="Times New Roman"/>
              </a:rPr>
              <a:t>Помогите ребёнку почувствовать интерес к тому, что преподают в школе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обенные усилия прилагайте для того, чтобы поддерживать спокойную и стабильную атмосферу в доме, когда в школьной жизни ребёнка происходят изменения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57120" y="1643040"/>
          <a:ext cx="8001000" cy="3781440"/>
        </p:xfrm>
        <a:graphic>
          <a:graphicData uri="http://schemas.openxmlformats.org/drawingml/2006/table">
            <a:tbl>
              <a:tblPr/>
              <a:tblGrid>
                <a:gridCol w="7000920"/>
                <a:gridCol w="100008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ТАВ СОВЕТА РОДИТЕЛЕЙ ШКОЛЫ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седатель родительского со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8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меститель председателя родительского комитета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8d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8d9f9"/>
                    </a:solidFill>
                  </a:tcPr>
                </a:tc>
              </a:tr>
              <a:tr h="407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екретарь родительского комитета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9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9c2"/>
                    </a:solidFill>
                  </a:tcPr>
                </a:tc>
              </a:tr>
              <a:tr h="407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лены родительского коми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1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1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1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solidFill>
                      <a:srgbClr val="fff1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6929280" cy="785880"/>
          </a:xfrm>
          <a:prstGeom prst="rect">
            <a:avLst/>
          </a:prstGeom>
          <a:solidFill>
            <a:srgbClr val="fff1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Родительский комит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631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omic Sans MS"/>
              </a:rPr>
              <a:t>Прощай, начальная шко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omic Sans MS"/>
              </a:rPr>
              <a:t>Добро пожаловать в пятый класс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02:35Z</dcterms:created>
  <dc:creator>prohorova</dc:creator>
  <dc:description/>
  <cp:keywords>кс27</cp:keywords>
  <dc:language>en-US</dc:language>
  <cp:lastModifiedBy>New</cp:lastModifiedBy>
  <dcterms:modified xsi:type="dcterms:W3CDTF">2015-01-18T17:16:01Z</dcterms:modified>
  <cp:revision>89</cp:revision>
  <dc:subject/>
  <dc:title>английск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