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18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DFD-1C6B-4D75-8716-D58DFCD8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118-1669-489F-A1ED-42B9444A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5FAC9-E597-49ED-955A-DC0168A5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233BE-B363-41FA-9D5D-8FAC23AF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5C643-4280-41F6-BDC8-D602812B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DE602-68A2-4241-8D69-08B552E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8C0F9-0480-4147-B052-243225F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3E405-B989-47F9-B99C-AB7455DB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D967D-51F9-4FC3-9475-2C315FAA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C003C-3057-4DE6-893F-1DB00C0C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58365-14E5-4001-B3A5-1F945171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2252D-C219-4C6D-A340-5F3C746B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442-0892-4C1B-9043-AB4EF5AD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F84DF-096C-43BD-8116-F02B7C62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57F55-13E7-4DC2-B78A-C11E5E6C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24697-6EBE-4D58-9297-95F0F713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9EDC2-6BA6-4C7B-B749-32FA02D1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B561F-5963-44B8-AD7E-42E363E6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D07E2-E9DC-4317-B123-7ABB644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E7D8A-8CEE-435F-9671-3D1DB26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215E9-1CF1-4360-86FA-A1CB562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18F7F-4824-4C96-9AD7-89316FAC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EF720-BD6C-4A27-B7F9-2B639929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D97-0B5A-4AA6-8FD5-4C4EEBAA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AF042-6475-453E-BA3F-7BDD8A02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E359C-49E0-4172-8EF3-BF5A991F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6871F-F1CD-460E-8078-12DAE442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5C06E-A39D-468C-8C60-B7BF20E3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A824B-4E12-44C7-9B6E-35A5C5C6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39CC1-95C0-4F55-A6B7-A1CC4DA8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E5C31-5BE4-4970-BE5D-C3D4EF0A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603EE-B53F-40A6-9519-428E380B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60344-07AD-441C-8536-45E40677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E2C64-D00F-46C9-840A-EA000B03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B85D-A4E7-4767-AB79-4699A8E6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726B8-C770-4958-9A2C-F5AC40BA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7A3E4-E31D-4364-A94C-067A1C3D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A24F3-5817-447A-B202-9B4A4DCA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39724-B45A-4A97-9FF4-9C2921FE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F0983-3DFE-4045-B958-1D67E6F2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EA77E-BDF5-403B-8712-696ED4D0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518AA-7881-478B-BDF2-9BB6E0F5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2A437-CC68-4A2B-9000-C047292A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CA894-E1AC-47BE-AA48-0C85C09F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F7BC2-D7AF-41DE-92DC-EBFCABFF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6F7A-36F3-4EEC-B9C5-090BC54A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D683E-CDDD-452A-98CC-92EE9CFE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60B35-73D8-4872-ADB8-562ACFD1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37336-4EB3-4E77-9708-8EF06B47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94DEA-9B72-4A7E-B2A0-83C0BB40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792FB-7F01-445D-A744-F4D454EE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39EB8-AA25-4FF6-BDD3-FC633348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13650-5550-4517-B6A8-2D3DFD7F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C8E50-D0A0-4EA9-A5AC-731453A5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9E5D4-E621-47E4-A4BB-A8CB4FB3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476D9-B2F4-4841-A1C6-B18500DB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6F2D-508B-4AAB-8EEC-0A790CAC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2C828-399C-430D-B5C7-79645163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F1F89-1C5E-40FB-9C07-11F06C21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2F573-B13A-48EF-A4D1-995B1AB5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30925-A8F0-465C-9247-7A084FDE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06908-3220-460E-93B9-0F2D6C62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0C028-D0C7-4D50-8052-C1669E78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9C5DC-7DC0-430D-ACDD-D4369C91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2E6E-9E2B-49A6-AFBF-0521C44E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2899-CD68-4D19-B0A1-07BF4B45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E63E-C7C8-44BB-83B4-AC04D05F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C0E2-3550-48E1-9715-3173985C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915-A773-4DF3-83BE-756F404E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898E-43A2-4B19-B3D9-7919BDFC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CB91-CE58-40CB-A07E-3D6C7DC1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CAA2-3871-41EC-ACBA-522E8402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3904-F82D-42E4-867B-9EA3EADA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5092-6B70-409D-BEC7-8FC3B671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B5BE-B259-492D-8F14-BA1D47D4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7900-0ED6-41DA-8334-8C92E894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1329-E20A-43A2-8471-F204A737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03EDC-0E7C-47FA-9FA6-0F95128A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A7B6-B331-4D51-8ADF-04080725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C6C-CD89-4169-AB0D-AFCD15BA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E231-C8A2-4F9F-B2AC-B1950A5E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4748-F3D5-407E-A120-0419E465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533A-0A39-420B-B471-7CCC7821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CC92-1940-456F-BBB6-EEF0174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E0DA9-C42E-4886-8AA5-4440D605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AE01-D6FF-4DDE-9C62-628E8704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5576-20E2-4A52-9289-75F49E52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EA726-0749-4AF9-BE0F-F579E6D6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F0720-B5D7-4611-BD7C-217CB35D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BF4A0-EC4B-4156-AABE-7F01B8E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4DF-E33E-41A9-BC79-CA5A2E5F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BFD61-8DC0-45B3-9CC5-EA01BE61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3428E-9E55-4C79-9D22-B67B296E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CE843-7533-4BEB-9DD6-9FA81E29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79228-3EA2-411F-AC01-6B5D8CDB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8F07-30B9-4DD8-B912-E28F27C8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0BA75-10AB-40A4-9808-BA7EF55C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2511-78A0-462A-A037-A2C11FEC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0355-7940-486C-8696-7FD4F754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7983-ABF2-47F6-8C2D-2065787F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6E9FD-630D-4AE5-9D03-5345DA76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457-BBC7-470B-83C7-7F31430C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7257-9CEF-4D24-BC1E-86D64EB4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06710-CA87-4456-9F6C-9A3EB6D3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8EFCC-437D-4975-B3C8-7170FD6D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BCF86-2CAC-4541-876D-349DFBC0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A142A-B5AA-4438-A6B6-D285D421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9B9A7-AC12-482F-AB03-C23B403E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C0F82-7EB1-4B27-9636-DA0CBD4A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6EA26-A767-4FE8-91D2-CA8EB289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1F87E-E172-44C5-A297-1581861C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94C48-5D7D-41CE-8474-DBC4DC26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BD9-30E6-4DB5-AFFC-601F2B69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599C6-2815-4E5F-B212-14F06B41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F405-4123-4C27-9FF9-467A89DC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D1CC1-06FA-44BB-8E56-2504E728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0C295-8CF4-41E9-A022-FAC84529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EF835-4A5F-47C3-8617-9A1CFCAB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2D457-1D0B-43D3-8F65-9F56758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4700B-B73B-4A1E-B380-0727E257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EFF90-45CA-47DA-806F-3500E1FD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3C5EA-E820-4C7A-8040-56031448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52569-2332-4BDE-B6B8-62C2602E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887-E7D8-4F25-B164-8A664DBB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92E19-FCC3-4F45-BD36-4AD3074C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1788A-3878-45ED-9698-BB89F7FA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89062-3E9E-48D5-BE7B-5E044E6F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7B345-6C5E-4032-824D-DB58523E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02B9B-310A-409A-9F70-62EA96F6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E092B-9837-4E08-B1DA-B2A5E253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53E62-CD61-4AA7-B468-D2E9721F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B1E45-A47D-424A-9BA0-F97BB4E6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0CDEB-D356-46AF-B23A-1310603A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47664-8188-4B92-A24A-F7299C80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4D4-67D2-4760-92CE-E9BAE7B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54911-9B79-406F-9284-36799DBA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3036D-4777-4341-AED3-94FDDE6F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7CF8E-A9D9-430B-8F29-2E72421B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5AF58-2A3B-4C6D-9D31-05329D56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04D10-D040-46CC-B196-AE485279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81F2F-0218-4F52-9DF6-DD87BD30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7F35A-7CD1-4EFD-BB70-CD252B17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C671D-6EEC-43D8-A53C-CD86E77C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A4881-E7F7-49FC-89D4-FBE5992A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E2C86-6583-4F79-867A-4AE5C003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C55-153E-47FA-B303-F5BA0005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1D9E2-718D-4A83-8DB9-9E59505C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EEDA0-A508-4BE5-A58B-25EF28A7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F68F0-D847-42A7-A4A8-9E67EC1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82F6B-FC65-45B4-AD93-1BDFB603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B0985-9CCA-425B-95D3-414C6A1C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A6702-EF02-4B95-B0A2-83C11AE7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B8BE-8B3E-4C71-B98C-D1D23A18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C5ECD-B273-4B3F-8F29-BE223D32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14B04-1F1D-472D-B039-F4913146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A5F3B-C094-40F6-A8BB-A8E8EEFE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3EF3-4BF9-459D-A308-9F8425B7CD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60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63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67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6043-BB7A-4002-97C8-0B6B0E52D75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1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14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18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BD82-2669-40AA-801F-D32B50D9FB5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6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6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6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3FC8-DD4A-4E59-B8C3-BAE6DE1BAA6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6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6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1070-589F-4E3D-8CC9-96DFDE4F15F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0098-2401-4027-B5FF-4B5D63136A46}" type="slidenum">
              <a:rPr b="1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B53D-E5BD-4659-90AB-ABE754EF369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BF52-2D42-4F05-9F12-AABE251AA5A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9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9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0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0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0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2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1EF6-A48A-41A6-B285-DF3E1B1EC64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5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5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6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66D3-CB2E-43DE-8C38-9112E635A1C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0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1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1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D736-3F55-43EC-B9B0-BBC92EC1DF8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5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6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6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D3C9-F04C-470D-8B42-D5CBFAF5FE1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40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1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41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7A20-4128-4448-993F-C05DA832006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7" descr="_ЭМБЛЕМА"/>
          <p:cNvPicPr/>
          <p:nvPr/>
        </p:nvPicPr>
        <p:blipFill>
          <a:blip r:embed="rId1"/>
          <a:stretch/>
        </p:blipFill>
        <p:spPr>
          <a:xfrm>
            <a:off x="324000" y="3836880"/>
            <a:ext cx="2087280" cy="2335320"/>
          </a:xfrm>
          <a:prstGeom prst="rect">
            <a:avLst/>
          </a:prstGeom>
          <a:ln w="0">
            <a:noFill/>
          </a:ln>
        </p:spPr>
      </p:pic>
      <p:pic>
        <p:nvPicPr>
          <p:cNvPr id="664" name="Прямоугольник 3" descr=""/>
          <p:cNvPicPr/>
          <p:nvPr/>
        </p:nvPicPr>
        <p:blipFill>
          <a:blip r:embed="rId2"/>
          <a:stretch/>
        </p:blipFill>
        <p:spPr>
          <a:xfrm>
            <a:off x="609480" y="1268280"/>
            <a:ext cx="7925040" cy="2121120"/>
          </a:xfrm>
          <a:prstGeom prst="rect">
            <a:avLst/>
          </a:prstGeom>
          <a:ln w="0">
            <a:noFill/>
          </a:ln>
        </p:spPr>
      </p:pic>
      <p:sp>
        <p:nvSpPr>
          <p:cNvPr id="665" name="Прямоугольник 4"/>
          <p:cNvSpPr/>
          <p:nvPr/>
        </p:nvSpPr>
        <p:spPr>
          <a:xfrm>
            <a:off x="3553560" y="383688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rebuchet MS"/>
              </a:rPr>
              <a:t>5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Прямоугольник 6" descr=""/>
          <p:cNvPicPr/>
          <p:nvPr/>
        </p:nvPicPr>
        <p:blipFill>
          <a:blip r:embed="rId3"/>
          <a:stretch/>
        </p:blipFill>
        <p:spPr>
          <a:xfrm>
            <a:off x="4114800" y="5121360"/>
            <a:ext cx="4419720" cy="1146240"/>
          </a:xfrm>
          <a:prstGeom prst="rect">
            <a:avLst/>
          </a:prstGeom>
          <a:ln w="0">
            <a:noFill/>
          </a:ln>
        </p:spPr>
      </p:pic>
      <p:pic>
        <p:nvPicPr>
          <p:cNvPr id="667" name="Прямоугольник 7" descr=""/>
          <p:cNvPicPr/>
          <p:nvPr/>
        </p:nvPicPr>
        <p:blipFill>
          <a:blip r:embed="rId4"/>
          <a:stretch/>
        </p:blipFill>
        <p:spPr>
          <a:xfrm>
            <a:off x="324000" y="23760"/>
            <a:ext cx="850248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750160" cy="626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Энчи атла:</a:t>
            </a:r>
            <a:br>
              <a:rPr sz="24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1.  Адамланы тукъумлары, атлары,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аталарыны  атлары, чам атлары.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2.  Хайуанланы, джаныуарланы атлары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3.  Географиялыкъ атла, орамланы,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площадланы  атлары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4. Историяда болгъан белгили ишлени,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байрамланы, унутулмазлыкъ кюнлени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атлары.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5. Газетлени, журналланы, литература бла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музыка чыгъармаланы , заводланы,                       фабрикаланы, кемелени  атлары (былагъа  кавычкала салынадла)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Текстде точкаланы орнуна керекли сезлени сала джазыгъы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оугольник 2"/>
          <p:cNvSpPr/>
          <p:nvPr/>
        </p:nvSpPr>
        <p:spPr>
          <a:xfrm>
            <a:off x="324000" y="1471680"/>
            <a:ext cx="8496000" cy="48578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… шахарда джашайма. Ол ариу джаш шахарды. Аны ичи бла … суу барады. Мен окъугъан гимназия … шахарны … микрорайонундады. Администраияны тамадасы… . Гимназиябызны директору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ерекли сезле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йкъулланы Аминат Микоянны къызы, Лайпанланы Мурат Алибийни джашы, Джегетей, Московский, Къоб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нчи атланы кереклисича джаза, текстни кёчюрюгюз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2"/>
          <p:cNvSpPr/>
          <p:nvPr/>
        </p:nvSpPr>
        <p:spPr>
          <a:xfrm>
            <a:off x="179280" y="1413000"/>
            <a:ext cx="87854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ъарачай-черкес республикада къарачайлыла, черкеслиле, абазалыла, ногьайлыла, оруслула эмда башха миллетле  джашайдыла.  республиканы джеринде дуниягъа белгили теберди, архыз ёзенле бардыла. къарачай шахар къарачай къобан бла теберди къобан бири-бирлерине къошулгъан джерде орналгьанды. Къарачай деген газет къарачай тилде чыгъады. кавказ таулада бек кёб тюрлю терекле ёседиле. байрамукъланы халимат хурзук эл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угъан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Arial"/>
                <a:ea typeface="Calibri"/>
              </a:rPr>
              <a:t>Юй иш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393840" y="2852640"/>
            <a:ext cx="590688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Дерсде билгенлерин бегитиб келир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91бетде  225, 226 иш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6516720" y="1947960"/>
            <a:ext cx="2376360" cy="36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78920" y="156960"/>
            <a:ext cx="8820360" cy="1143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Берилген атланы иелик формаларын, бирлик эмда кеблюк санлада тюрлендириб, джазыгъыз: тон, ата, къоян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611280" y="1881360"/>
          <a:ext cx="7848360" cy="1963440"/>
        </p:xfrm>
        <a:graphic>
          <a:graphicData uri="http://schemas.openxmlformats.org/drawingml/2006/table">
            <a:tbl>
              <a:tblPr/>
              <a:tblGrid>
                <a:gridCol w="2482920"/>
                <a:gridCol w="2844720"/>
                <a:gridCol w="2520720"/>
              </a:tblGrid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1-чи б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2-чи б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3-чю б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н-у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н-ун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н-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91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а-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а-н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а-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ъоян-ы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ъоян-ын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ъоян-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sp>
        <p:nvSpPr>
          <p:cNvPr id="671" name="TextBox 12"/>
          <p:cNvSpPr/>
          <p:nvPr/>
        </p:nvSpPr>
        <p:spPr>
          <a:xfrm>
            <a:off x="974880" y="1300320"/>
            <a:ext cx="2546280" cy="459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рлик с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13"/>
          <p:cNvSpPr/>
          <p:nvPr/>
        </p:nvSpPr>
        <p:spPr>
          <a:xfrm>
            <a:off x="1124640" y="3857760"/>
            <a:ext cx="2387520" cy="459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еблюк  с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611280" y="4365720"/>
          <a:ext cx="7848360" cy="2149560"/>
        </p:xfrm>
        <a:graphic>
          <a:graphicData uri="http://schemas.openxmlformats.org/drawingml/2006/table">
            <a:tbl>
              <a:tblPr/>
              <a:tblGrid>
                <a:gridCol w="2520720"/>
                <a:gridCol w="2664000"/>
                <a:gridCol w="2663640"/>
              </a:tblGrid>
              <a:tr h="504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1-чи б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2-чи б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3-чю б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503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н-убу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н-угъу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н-ла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а-бы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а-гъы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а-ла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592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ъоян-ыбы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ъоян-ыгъы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581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ъоян-ла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Бу сезле къайсы санда болгъанларын айырыгъы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чылыкъ, ишленмеклик, рахатлыкъ; джау, фатеген, пурч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 тил, математика, истор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ырдык, хауа, айран, как, къауд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есекле, джаш телю, адам  ул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Къобанны джыры. Хапчаланы Мамм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юйген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ъоба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й, деу Къоба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зенин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аулай байлыкъ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юзгючад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ъойнун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ккал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йну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рекетин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жайлыкъ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Къайсы нарт сезню айт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971280" y="160020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шны ата билмеген кесини башына ур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тмагьан тирменча мурулда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лу сёлешме да уллу къа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ылан кесини къабындан джийиргеннген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18320" cy="1863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кесск, Москва, шахар, сохта, киштик, Къобан суу , Енисей, Ансар, Магомед.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4360" y="2420640"/>
            <a:ext cx="68608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амланы атлары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ахарланы атлары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уланы атлары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……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5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917120" cy="37148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00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161645"/>
                </a:solidFill>
                <a:latin typeface="Arial"/>
              </a:rPr>
              <a:t>Энчи эмда тукъум ат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7" descr="cat27"/>
          <p:cNvPicPr/>
          <p:nvPr/>
        </p:nvPicPr>
        <p:blipFill>
          <a:blip r:embed="rId2"/>
          <a:stretch/>
        </p:blipFill>
        <p:spPr>
          <a:xfrm>
            <a:off x="6156360" y="4508640"/>
            <a:ext cx="13492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716200" y="1341360"/>
            <a:ext cx="5616720" cy="301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22268"/>
                </a:solidFill>
                <a:latin typeface="Arial"/>
              </a:rPr>
              <a:t>адам, къанатлы, орундукъ, ручк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7" descr="cat27"/>
          <p:cNvPicPr/>
          <p:nvPr/>
        </p:nvPicPr>
        <p:blipFill>
          <a:blip r:embed="rId2"/>
          <a:stretch/>
        </p:blipFill>
        <p:spPr>
          <a:xfrm>
            <a:off x="4427640" y="4365720"/>
            <a:ext cx="2089080" cy="2376360"/>
          </a:xfrm>
          <a:prstGeom prst="rect">
            <a:avLst/>
          </a:prstGeom>
          <a:ln w="0">
            <a:noFill/>
          </a:ln>
        </p:spPr>
      </p:pic>
      <p:sp>
        <p:nvSpPr>
          <p:cNvPr id="686" name="TextBox 1"/>
          <p:cNvSpPr/>
          <p:nvPr/>
        </p:nvSpPr>
        <p:spPr>
          <a:xfrm>
            <a:off x="2700360" y="189000"/>
            <a:ext cx="5759280" cy="10083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Тукъум атл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507160" cy="280836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Борис, Москва, Къобан суу, Теберд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"/>
          <p:cNvSpPr/>
          <p:nvPr/>
        </p:nvSpPr>
        <p:spPr>
          <a:xfrm>
            <a:off x="1619280" y="620640"/>
            <a:ext cx="6265800" cy="1739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"/>
              </a:rPr>
              <a:t>Энчи атла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6948360" y="4400640"/>
            <a:ext cx="134784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3:16:04Z</dcterms:created>
  <dc:creator>Люсенька</dc:creator>
  <dc:description/>
  <dc:language>en-US</dc:language>
  <cp:lastModifiedBy>Лиза</cp:lastModifiedBy>
  <dcterms:modified xsi:type="dcterms:W3CDTF">2015-01-22T18:31:40Z</dcterms:modified>
  <cp:revision>30</cp:revision>
  <dc:subject/>
  <dc:title>Слайд 1</dc:title>
</cp:coreProperties>
</file>