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84A-584C-48F6-8331-6EB4F2A1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B2C-3897-4E45-A8F2-6F0EDE43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F45-4CC1-4C4E-892F-0814D77A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42D-447D-47CE-9B47-39775783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FFC8-3695-489B-A4B7-F1C0F59F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CBBE-6C9C-4E06-BC2E-7D1468A6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C044-8B3B-487F-B9D8-FF56764B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2423-618C-4FBA-9390-74F18333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3903-782D-4CA5-AE73-1E9541A8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A5F2-5890-4E01-8446-01616BA9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AB40-C29D-4364-B1F7-F83B0444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AAE-7327-4279-9551-56BA9706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96A1-79A9-43FB-A902-69E50A61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F128-7D91-497C-9291-085B9A6A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8237-B14B-4B53-975E-34830D7C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733C-5A69-4A8C-920A-0618D0AC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3CE3-0854-45EB-AF57-6583B423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6015A-2488-4C32-BA0D-462C07CC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73C95-23F0-4EDD-B681-72428605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C9B2F-101E-4D14-B448-F7BC099F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89E8F-BB40-4D94-AB42-5E37E3C0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6DE7-526C-4B47-BB60-C9413A85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12F-6BE4-4239-974C-52000F0A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32CB-2939-44E2-A6B7-156CB135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6120-B926-4F31-AF5D-4A332837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99A91-82F2-4ADF-B46C-91E4C0ED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6058-7A94-40C4-ACCE-10D26B55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D2D93-F14B-41EB-B407-1C43204D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7058-5DC5-4AEB-8E01-CA556AA9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91D1D-728C-4681-A228-CF349823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03E15-7D61-4A59-8C13-A985E4A3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B86D-0F00-46E2-80E9-62F9CE1C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13A66-E779-4E5D-A696-7283AE64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3DA-A835-4201-9944-266E7034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CB987-3BB9-470F-93DE-D207C24F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6947D-39E9-470F-9C6B-5D1AA67D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AB105-F8B8-4E29-BDCA-6A1517ED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D5554-EBEB-4956-9A16-A1395AE1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80190-EA61-4091-B705-4074DB58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C747E-4726-4E90-B124-710D1403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4D7B8-E257-465C-BFF8-57BA62D5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68CE6-8EDA-423A-8DB4-5E93E65C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06E20-28F6-41F7-B986-053253DD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91026-2E6E-4452-9489-E649A0B6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AC3-69F6-4E5E-A913-6D9C25C3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C3120-F710-402B-8505-E35A75DC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533CA-036C-4FCC-843A-B29B42EB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4970C-46CB-4FE7-8A77-78518036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FB523-EF99-4F0B-B72F-AD167EC1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3DC42-0C8B-49D1-84C3-1DC64CE6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A00FA-F954-4CB6-906B-3F67CB5E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56080-AF2B-4C1D-A981-BF400F12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B7DDF-DC38-4B9F-A144-F7621C28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05B9C-6F0A-452A-9140-2965D861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FE91C-D79F-4D02-8A0B-3D4882D3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5EE-C65C-46E2-ABE8-F3B358BE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43FF8-56A0-4410-A3DD-71805396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45EE0-427A-4CE5-99B9-6B15D56F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8D969-D93D-4B4D-9DF9-CEACE032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F16E7-A766-4544-9087-1AF905F5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8CB82-DC17-4A43-A3A0-B71DBC71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34821-AF73-4BED-83C7-2D73EEF0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7D821-6C0B-49F8-983D-3D14EC71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14D40-AC09-4640-94DF-CAC52A14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3D082-1B86-4D39-A008-5559561D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8C02E-1C36-4F0C-ACBF-2BC51BC1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078-2446-4308-BC90-B725E55D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BE3AF-4B89-4014-B679-65D3B6E8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BD896-0B33-4F95-9C62-882F3461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1AD89-CCE2-4EF2-ABDD-EEF6CB6B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3139E-AA4E-40B5-819D-0340F920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D14E3-8F9F-4350-94A3-4B64E154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953EF-A0F8-4710-ACB9-1A1BDA5F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04FDD-3822-4DBD-8F8E-930E76F0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E70C1-440B-4BF7-A0AE-CBFED5A2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45E09-4429-41E5-90FE-F39B546D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C42C2-F132-4983-90F2-5BE4E0CD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C20-DDDF-4A13-A3BA-30BF9C9A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9F7AF-C389-48FC-9DC8-3064BE79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6909D-B8D5-4830-8EAB-81199FF8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3D60B-2F2F-4961-9093-24960B7D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801CE-9E67-4575-9823-9B0EF6D5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DBBC4-F9E6-43C2-9038-AB96E7BB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461-64A0-4658-876D-0CC0A118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A257-0F79-4B4A-AA12-CAA17B195026}" type="slidenum">
              <a:rPr b="0" lang="ru-RU" sz="24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57F5-C9F4-4B40-9581-3B91E13348BC}" type="slidenum">
              <a:rPr b="0" lang="ru-RU" sz="24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3611-760C-43FA-95E1-C65992B3BEB6}" type="slidenum">
              <a:rPr b="0" lang="ru-RU" sz="24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9141-095C-4C7A-AD36-719A28CC0B48}" type="slidenum">
              <a:rPr b="0" lang="ru-RU" sz="24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FD9C-B2BD-4594-A46C-E6233762D33B}" type="slidenum">
              <a:rPr b="0" lang="ru-RU" sz="24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4309-3AE9-434C-A0F2-77F3A2C094CA}" type="slidenum">
              <a:rPr b="0" lang="ru-RU" sz="24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3092-E98D-477F-84D5-87B4D7E04126}" type="slidenum">
              <a:rPr b="0" lang="ru-RU" sz="24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280" y="1989000"/>
            <a:ext cx="7272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rbel"/>
              </a:rPr>
              <a:t>Односоставные предложения в поэтическом  тексте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692000" y="3429000"/>
            <a:ext cx="603252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Corbe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8707680" y="645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6920" y="4508640"/>
            <a:ext cx="66265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orbel"/>
              </a:rPr>
              <a:t>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0066ff"/>
                </a:solidFill>
                <a:latin typeface="Corbel"/>
              </a:rPr>
              <a:t>Обучающие: </a:t>
            </a:r>
            <a:r>
              <a:rPr b="0" i="1" lang="ru-RU" sz="1800" spc="-1" strike="noStrike">
                <a:solidFill>
                  <a:srgbClr val="0066ff"/>
                </a:solidFill>
                <a:latin typeface="Corbel"/>
              </a:rPr>
              <a:t>закрепить умение различать виды  односоставных  предложений; совершенствовать умение видеть их в контексте и использовать их в собственной речи; выяснить, какова  роль данных предложений в поэтическом тексте</a:t>
            </a:r>
            <a:r>
              <a:rPr b="0" lang="ru-RU" sz="1800" spc="-1" strike="noStrike">
                <a:solidFill>
                  <a:srgbClr val="0066ff"/>
                </a:solidFill>
                <a:latin typeface="Corbel"/>
              </a:rPr>
              <a:t>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Corbel"/>
              </a:rPr>
              <a:t> Развивающие: </a:t>
            </a:r>
            <a:r>
              <a:rPr b="0" i="1" lang="ru-RU" sz="1800" spc="-1" strike="noStrike">
                <a:solidFill>
                  <a:srgbClr val="0066ff"/>
                </a:solidFill>
                <a:latin typeface="Corbel"/>
              </a:rPr>
              <a:t>развивать умение детей самостоятельно получать знания; развивать познавательные и творческие способности через разнообразные виды деятельности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Corbel"/>
              </a:rPr>
              <a:t>Воспитывающие : </a:t>
            </a:r>
            <a:r>
              <a:rPr b="0" i="1" lang="ru-RU" sz="1800" spc="-1" strike="noStrike">
                <a:solidFill>
                  <a:srgbClr val="0066ff"/>
                </a:solidFill>
                <a:latin typeface="Corbel"/>
              </a:rPr>
              <a:t>воспитывать интерес и любовь к русскому языку. 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1979640" y="115920"/>
            <a:ext cx="58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дачи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8676720" y="645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981000"/>
            <a:ext cx="749952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.Ах, сколько песен для народа в стране сложили в дни вой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2. Песню за песней поют для себ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3. Мне не спится по ноча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4. Любимый наш роман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5. Талантам надо помогать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6. Загляжусь на свой дом с огородом…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7. Бесконечны дороги в Росс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8. Вдоль окон вишни посадил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9. Разгадаешь, постигнешь вечную загадку быт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0.Вечерел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1. На рассвете сыро и уныл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03280" y="1413000"/>
            <a:ext cx="7601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мом Россию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поня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ршином общим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измери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 ней особенная стать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Россию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ожно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олько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верить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(Ф. И. Тютчев)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602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2314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Черновой вариант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Окончательный вариант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8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му смерть, кому жизнь, кому слав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 рассвете началась переправ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ерег тот был, как печка, крут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, угрюмый, зубчатый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с чернел высоко над вод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с чужой, непочаты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 под ним лежал берег правый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нег, укутанный в грязь –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ровень с кромкою льд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реправа в шесть часов началас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реправа, переправа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ерег левый, берег правы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нег шершавый, кромка льда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му память, кому слава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му тёмная вода,  –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и приметы, ни след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А. Т. Твардовский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03280" y="1412640"/>
            <a:ext cx="752976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Выводы</a:t>
            </a: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Мы убедились, что многие поэты широко используют в своих произведениях односоставные синтаксические конструкции, которые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Оказываются более выразительными, чем их синонимичные варианты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Живее, эмоциональнее, непосредственнее передают авторский замысе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Помогают передать тончайшие оттенки поэтической реч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66"/>
                </a:solidFill>
                <a:latin typeface="Corbel"/>
              </a:rPr>
              <a:t>Задание на дом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547280" y="3357360"/>
            <a:ext cx="7272360" cy="3384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Corbel"/>
              </a:rPr>
              <a:t>Сочинение–миниатюра «Январский день»  (написать  в стихах или прозе, использовать разные виды односоставных  предложений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Corbel"/>
              </a:rPr>
              <a:t>Подготовка к контрольной работе. Вопросы стр. 101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20e04"/>
                </a:solidFill>
                <a:latin typeface="Arial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13:06:05Z</dcterms:created>
  <dc:creator>USER</dc:creator>
  <dc:description/>
  <dc:language>en-US</dc:language>
  <cp:lastModifiedBy>Влад</cp:lastModifiedBy>
  <cp:lastPrinted>2015-01-31T18:08:14Z</cp:lastPrinted>
  <dcterms:modified xsi:type="dcterms:W3CDTF">2015-01-31T18:09:54Z</dcterms:modified>
  <cp:revision>276</cp:revision>
  <dc:subject/>
  <dc:title>Презентация PowerPoint</dc:title>
</cp:coreProperties>
</file>